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BA9C-0EC3-43D5-AF05-B2CEBAC7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B4C7-11D4-4C39-9474-3B233454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1CF5-9C6D-4015-A86B-E2C557E9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BAA-B9E2-4B47-89D7-8465D8E4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C77-13A0-4D95-9A47-9B03908E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D1B8-72D0-4C67-B4E7-34B2DE3D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708-3A9C-4081-94E1-5797B4C0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9D1C-C53C-42B5-9947-AD2F8863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A36E-DB0A-4135-A9D4-A7462E4A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71B-02D6-472F-BF49-5DD6773C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4BF5-CCB8-4C57-886D-EDDBA182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DB7F-F1B5-42BD-A42B-2BBFA376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AA1B-98D6-4167-9B0B-D2CAEBE42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hyperlink" Target="mailto:andersoncd@feam.br" TargetMode="External"/><Relationship Id="rId12" Type="http://schemas.openxmlformats.org/officeDocument/2006/relationships/hyperlink" Target="mailto:claudia@semad.mg.gov.br" TargetMode="External"/><Relationship Id="rId13" Type="http://schemas.openxmlformats.org/officeDocument/2006/relationships/hyperlink" Target="mailto:elizabeth.ferreira@semad.mg.gov.br" TargetMode="External"/><Relationship Id="rId14" Type="http://schemas.openxmlformats.org/officeDocument/2006/relationships/hyperlink" Target="mailto:cpl@ief.mg.gov.br" TargetMode="External"/><Relationship Id="rId1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03280" y="3715920"/>
            <a:ext cx="5940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Century Gothic"/>
              </a:rPr>
              <a:t>Sistema Estadual de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8920" y="2637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d4d4d"/>
                </a:solidFill>
                <a:latin typeface="Arial"/>
              </a:rPr>
              <a:t>SIS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1640" y="638172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25800" y="6453360"/>
            <a:ext cx="790560" cy="22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18200" y="6364440"/>
            <a:ext cx="793800" cy="349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516720" y="6237360"/>
            <a:ext cx="863640" cy="473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5400000">
            <a:off x="5220000" y="2996280"/>
            <a:ext cx="287280" cy="289080"/>
          </a:xfrm>
          <a:prstGeom prst="rect">
            <a:avLst/>
          </a:prstGeom>
          <a:solidFill>
            <a:srgbClr val="6cb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4499280" y="2996280"/>
            <a:ext cx="287280" cy="289080"/>
          </a:xfrm>
          <a:prstGeom prst="rect">
            <a:avLst/>
          </a:prstGeom>
          <a:solidFill>
            <a:srgbClr val="34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708720" y="2996280"/>
            <a:ext cx="287280" cy="289080"/>
          </a:xfrm>
          <a:prstGeom prst="rect">
            <a:avLst/>
          </a:prstGeom>
          <a:solidFill>
            <a:srgbClr val="815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429264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9264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39640" y="2708280"/>
            <a:ext cx="81345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rt. 8º) O processo devidamente instruído com justificativa, termo de referência, autorização do ordenador e toda a documentação necessária, será encaminhado para a Superintendência de Recursos Logísticos e Manutenção, para que seja devidamente encaminhado para a Procuradoria/Assessoria que elaborará Nota Jurídica sobre a viabilidade jurídica e adequação do pedido de contratação a uma das modalidades de dispensa/inexigibilidade de licitaçã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1052640"/>
            <a:ext cx="885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Arial"/>
              </a:rPr>
              <a:t>TRATANDO-SE DE DISPENSA / INEXIGIBILIDADE DE LICI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26920" y="1197000"/>
            <a:ext cx="432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68360" y="1773360"/>
            <a:ext cx="8351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ndo em conformidade, a Procuradoria/Assessoria Jurídica elaborará a minuta do Ato de Dispensa/Inexigibilidade a ser assinado pela autoridade competente, nos termos das resoluções pertinentes e a minuta do ato de ratificação a ser assinado pelo Dirigente Máximo de cada órgão ou ent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guir, o processo, já instruído com a nota jurídica, as minutas dos atos e a minuta do contrato (quando houver), serão encaminhados à Auditoria que providenciará o Atestado de Conform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395280" y="1341360"/>
            <a:ext cx="8353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ndo em conformidade com a legislação, o contrato será analisado/preenchido na Procuradoria/Assessoria Jurídica, que encaminhará o processo à Superintendência de Recursos Logísticos e Manutenção, instruído com 3 (três) vias do contrato para colher as assinaturas. Após assinado, o Contrato, será publicado pela Procuradoria/Assessoria Jurídica (sugestão: definir um único setor responsável pelas publicações, quem sabe o Núcleo Jurídico). As vias do contrato deverão ser distribuídas da seguinte forma, 1 (uma) via deverá ser anexada ao processo, e 1 (uma) via para a parte contratada, e 1 (uma) via para o setor solicita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39640" y="1125360"/>
            <a:ext cx="806472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ublicado o contrato, o processo será encaminhado de volta à Supram/Regional, para finalização de procedimento no SIA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urante a execução contratual, verificada a necessidade de se promover qualquer alteração no contrato, desde que previstos em lei, as áreas afins deverão efetuar o pedido de alteração, devidamente justificado e autorizad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a alteração contratual envolver disponibilidade financeira, o pedido de alteração deverá ser encaminhado a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perintendente de Licenciamento e Atos Autorizativos, no caso das Supram’s e direcionado a Assessora da Diretoria Geral do IEF, no caso das Regiona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39640" y="119700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o pedido seja aprovado, o Superintendente de Licenciamento e Atos Autorizativos e a Assessora da Diretoria Geral do IEF, deverá encaminhar  o formulário de solicitação mensal de recursos à Superintendência de Planejamento e Modernização Institucional que certificará quanto à disponibilidade orçamentária para o aditamento em questão, e confirmará, por meio de ato formal, a aquiescência do responsável pela ação a que o contrato está vincul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não envolva disponibilidade orçamentária, o termo aditivo poderá ser providenciado sem aprovação da Superintendência de Planejamento e Modernização Instituc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pram/Regional deverá providenciar a minuta do Termo Aditivo e encaminhar à Procuradoria/Assessoria Jurídica local para análise, e elaboração de Nota Juríd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ovada a minuta, será colhida as assinaturas das partes e providenciada a publicação do Termo Aditiv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ssessorias Jurídicas deverão orientar quanto à interpretação dos atos normativos a  serem  cumpridos pelo órgão ou entidades conforme previsto na Lei Complementar 75/200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meração dos contratos será feita pela Procuradoria/Assessoria local (no caso de regionais/supram’s), ficando estabelecido que cada órgão terá sua numeração própria de acordo com a unidade orçamentá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) O numero se iniciará com a unidade orçamentá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ade Orçamentária: 137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/ Unidade Orçament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Sul – Unidade Orçamentária: 1370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Norte – Unidade Orçamentária: 1370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Jequitinhonha – Unidade Orçamentária: 1370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Alto São Francisco – Unidade Orçamentária: 1370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Triangulo Mineiro – Unidade Orçamentária: 1370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Zona da Mata – Unidade Orçamentária: 1370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Leste Mineiro – Unidade Orçamentária: 1370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Noroeste - Unidade Orçamentária: 1370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F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ade Orçamentária: 210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is IEF/Unidade Orçament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Centro Norte – Unidade Orçamentária: 2100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Nordeste – Unidade Orçamentária: 2100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Rio Doce – Unidade Orçamentária: 2100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Mata – Unidade Orçamentária: 2100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Triângulo – Unidade Orçamentária: 2100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Noroeste – Unidade Orçamentária: 2100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Norte – Unidade Orçamentária: 2100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Centro Sul – Unidade Orçamentária: 2100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ul – Unidade Orçamentária: 2100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Alto Paranaíba – Unidade Orçamentária: 2100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Alto Médio São Francisco – Unidade Orçamentária: 2100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Centro Oeste – Unidade Orçamentária: 2100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Alto Jequitinhonha – Unidade Orçamentária: 2100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578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 ) Local onde será firmado o Contrato (sede; regionais; supran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DE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TO SÃO FRANCISC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EQUITINHONHA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STE MINEIR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RTE DE MINAS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L DE MINAS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IÂNGULO MINEIRO E ALTO PARANAÍBA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ZONA DA MATA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ROESTE DE MINAS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075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IE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O NOR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DES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O DO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ÂNGUL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OES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O SU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O PARANAÍB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O MÉDIO SÃO FRANCISCO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O OES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O JEQUITINHONH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14479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entury Gothic"/>
              </a:rPr>
              <a:t>TREINAMENTO DE PLANEJAMENTO E GESTÃ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2600" y="2381400"/>
            <a:ext cx="9117000" cy="1168200"/>
          </a:xfrm>
          <a:custGeom>
            <a:avLst/>
            <a:gdLst/>
            <a:ahLst/>
            <a:rect l="l" t="t" r="r" b="b"/>
            <a:pathLst>
              <a:path w="703" h="90">
                <a:moveTo>
                  <a:pt x="703" y="22"/>
                </a:moveTo>
                <a:lnTo>
                  <a:pt x="703" y="49"/>
                </a:lnTo>
                <a:cubicBezTo>
                  <a:pt x="672" y="34"/>
                  <a:pt x="150" y="0"/>
                  <a:pt x="0" y="90"/>
                </a:cubicBezTo>
                <a:lnTo>
                  <a:pt x="0" y="22"/>
                </a:lnTo>
                <a:lnTo>
                  <a:pt x="703" y="22"/>
                </a:lnTo>
                <a:close/>
              </a:path>
            </a:pathLst>
          </a:custGeom>
          <a:solidFill>
            <a:srgbClr val="125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895120" y="3068280"/>
            <a:ext cx="6248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Realização: Subsecretaria de Inovação e Logís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Período: 18 a 22 de Fevereiro d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578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) Número que define o Instrumento Jurídic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to: 0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ênio: 0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ros (termos de doação, cessão de uso, cooperação técnica,etc.): 0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) Número do Instrume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) Ano em que está sendo firmado o Instru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 de um Contrato Firmado pelo IEF Sede: 21010101001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) 2101: Unidade Orçamentári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) 01 : Sed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01:Contra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001: Numero do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07: Ano de 200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" y="765000"/>
            <a:ext cx="842472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Tahoma"/>
              </a:rPr>
              <a:t>Superintendência de Recursos Logísticos e Manuten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Superintendente: Anderson do Carmo Din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andersoncd@feam.br</a:t>
            </a: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Telefone – (31) 3219-5764/57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Tahoma"/>
              </a:rPr>
              <a:t>Coordenadoria de Gestão de Supr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Coordenadora: Cláudia Regina Gomes L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claudia@semad.mg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Telefone – (31) 3219-57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Arial"/>
              </a:rPr>
              <a:t>Coordenadoria de Gestão de Cont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Coordenadora: Elizabeth Dutra de Faria Ferr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elizabeth.ferreira@semad.mg.gov.br</a:t>
            </a: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Telefone – (31) 3219-57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Arial"/>
              </a:rPr>
              <a:t>Comissão Permanente de Licitação – C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Coordenadora: Cleusa de Lima Ca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cpl@ief.mg.gov.br</a:t>
            </a: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Telefone – (31) 3219-5772/5779/57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4076640"/>
            <a:ext cx="813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necer informações sobre a nova ordem de serviço, referente a padronização de procedimentos a serem adotados nos processos de contratação e compras pelos órgãos e entidades que integram o SISE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6920" y="1341360"/>
            <a:ext cx="7417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006600"/>
                </a:solidFill>
                <a:latin typeface="Arial"/>
              </a:rPr>
              <a:t>ORDEM DE SERVIÇO N.º 03 DE 18 DE FEVEREIRO DE 2008</a:t>
            </a:r>
            <a:r>
              <a:rPr b="1" i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9640" y="148428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26920" y="33577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38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Arial"/>
              </a:rPr>
              <a:t>MONTAGEM DOS PROCES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9640" y="1844640"/>
            <a:ext cx="8134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as as contratações deverão ser iniciadas através de pedido de compra direcionado ao Superintendente de Licenciamento e Atos Autorizativos, no caso das Supram’s e direcionado a Assessora da Diretoria Geral do IEF, no caso das Regionais, para aprov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so o pedido seja aprovado, o Superintendente de Licenciamento e Atos Autorizativos e a Assessora da Diretoria Geral do IEF, deverá encaminhar  o formulário de solicitação mensal de recursos à Superintendência de Planejamento e Modernização Institucional que certificará a existência de recursos orçamentários e financeir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052640"/>
            <a:ext cx="813420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aso de solicitação de bens de consumo e/ou permanentes, o demandante deverá consultar, prévia e formalmente a Coordenadoria de Logística sobre a disponibilidade do material no almoxarifado ou na central de equipamen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aso de solicitação de bens permanentes fora do plano anual de compras elaborado em janeiro, a aquisição deverá ser autorizada pelo Subsecretário de Inovação e Logíst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edido deverá conter todas as especificações do objeto/serviço demandado, de forma minuciosa, clara e precisa, juntamente com a justificativa da contratação e Termo de referência do objeto, devidamente fundamentado, detalhado e anexado ao formulário de solicitação mensal de recur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2060640"/>
            <a:ext cx="8642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Termo de Referência deverá con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crição detalhada do objeto a ser licitado (quantidade/código/descriçã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imativa do custo, contendo a sua composição e, quando for o caso, as variáveis que compõem o custo tais como acondicionamento, embalagem e fre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ição dos métodos de fornecimento/contratação (mensal, anual e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azo e local para a execução do contrato, quando houv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al de entrega do material ou prestação do serviç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criminação do valor quanto ao desembolso, de for parcel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inaturas das autoridades compete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9640" y="148428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1196640"/>
            <a:ext cx="734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ERMO DE REFERÊ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11280" y="1413000"/>
            <a:ext cx="813420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PORTANTE - O processo deverá ser devidamente autuado e numeradas e rubricadas todas as páginas de forma crescente, sendo a capa do processo a primeira (n.º 1) página do mesmo, seguindo-se o pedido de Abertura do Processo de Despesa/Contratação pelo setor solicitante (n.º 2) com a descrição do objeto a ser contratado e o seu valor estimado e com cópia do formulário de solicitação mensal de recursos.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tando-se de processo administrativo para realização de licitação, o formulário de solicitação mensal de recursos será utilizado como pedido de abertura do processo de licitação, desde que assinado pelo ordenador de despesa responsável pela açã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611280" y="1052640"/>
            <a:ext cx="81342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1484280"/>
            <a:ext cx="8134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olicitações, já instruídas com a autorização de abertura e certidão de existência de recursos, serão encaminhados à Supram/Regional para montagem do processo, realização de pesquisa de mercado e elaboração da minuta do edital, quando for o ca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inuta do edital deverá ser anexada ao processo e encaminhada à Assessoria/Procuradoria Jurídica competente para análise, aprovação e elaboração da Nota Jurídica, conforme parágrafo único do art. 38 da lei 8666/9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s casos de processo conjunto – aquele que envolva mais de um órgão ou entidade do SISEMA – a ratificação poderá ser feita por qualquer um dos Procuradores dos órgãos ou entidades participantes do proces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39640" y="1628640"/>
            <a:ext cx="8134560" cy="25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s casos de processo iniciado nas regionais do IEF, IGAM e Supram´s, a elaboração da minuta e aprovação deverão ser elaborados pela Assessoria Jurídica lo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rocuradoria/Assessoria local será responsável pela emissão de nota jurídica quanto à aprovação da minuta de edital, à homologação e elaboração do contra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2:32:44Z</dcterms:created>
  <dc:creator>SIL</dc:creator>
  <dc:description/>
  <dc:language>en-US</dc:language>
  <cp:lastModifiedBy>anderson.diniz</cp:lastModifiedBy>
  <dcterms:modified xsi:type="dcterms:W3CDTF">2008-02-20T10:36:31Z</dcterms:modified>
  <cp:revision>19</cp:revision>
  <dc:subject/>
  <dc:title>Slide 1</dc:title>
</cp:coreProperties>
</file>