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8473-A70A-4433-B73F-DD3D23F26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0E46-90FB-4402-8F1E-217786846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ED6D-B5EB-4DA4-93D2-ACBE489F4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5819-8F02-4247-81F3-AE9C2C516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01C9-020E-495D-9D3F-161496EB6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3B4A-02E5-481A-B83A-B1E78C1CC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AB1A-0EA4-4596-80CD-7541E487F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7022-8267-4D4E-84A2-796D042DD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854E-9104-422D-AD09-A9579A679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E688-140F-4DCC-B3D1-EA1DC31E1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04C3-5C55-4273-B0A8-2158EC65A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73CB-A8E5-41EF-912F-B01638E4B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C1F1D-D204-4709-90FE-7AFEF91409A1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8.wmf"/><Relationship Id="rId13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hyperlink" Target="mailto:andersoncd@feam.br" TargetMode="External"/><Relationship Id="rId1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6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382560" y="3068280"/>
            <a:ext cx="576108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entury Gothic"/>
              </a:rPr>
              <a:t>Data: 18.02.08</a:t>
            </a:r>
            <a:r>
              <a:rPr b="0" lang="en-US" sz="18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0" lang="en-US" sz="18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0" lang="en-US" sz="18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0" lang="en-US" sz="18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0" lang="en-US" sz="18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0" lang="en-US" sz="18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0" lang="en-US" sz="1800" spc="-1" strike="noStrike">
                <a:solidFill>
                  <a:srgbClr val="4d4d4d"/>
                </a:solidFill>
                <a:latin typeface="Century Gothic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333360"/>
            <a:ext cx="831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Century Gothic"/>
              </a:rPr>
              <a:t>ORDEM DE SERVIÇO Nº. 03, DE 18 DE FEVEREIRO DE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2773440" y="6381720"/>
            <a:ext cx="718920" cy="297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924360" y="6453360"/>
            <a:ext cx="792000" cy="225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219640" y="6364440"/>
            <a:ext cx="792360" cy="349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516720" y="6245280"/>
            <a:ext cx="863640" cy="474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" name=""/>
          <p:cNvGraphicFramePr/>
          <p:nvPr/>
        </p:nvGraphicFramePr>
        <p:xfrm>
          <a:off x="0" y="2708280"/>
          <a:ext cx="9144000" cy="919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2708280"/>
                    <a:ext cx="9144000" cy="9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1547640" y="6308640"/>
          <a:ext cx="673200" cy="389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47640" y="6308640"/>
                    <a:ext cx="67320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3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0" y="1557360"/>
            <a:ext cx="7775640" cy="42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pt-BR" sz="2500" spc="-1" strike="noStrike">
                <a:solidFill>
                  <a:srgbClr val="000000"/>
                </a:solidFill>
                <a:latin typeface="Arial"/>
              </a:rPr>
              <a:t>Art. 3º sem alteraçõ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pt-BR" sz="2500" spc="-1" strike="noStrike">
                <a:solidFill>
                  <a:srgbClr val="000000"/>
                </a:solidFill>
                <a:latin typeface="Arial"/>
              </a:rPr>
              <a:t>§ únic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5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pt-BR" sz="2500" spc="-1" strike="noStrike">
                <a:solidFill>
                  <a:srgbClr val="ff0000"/>
                </a:solidFill>
                <a:latin typeface="Arial"/>
              </a:rPr>
              <a:t>Anterior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: Os processos que não atendiam às disposições anteriores eram devolvidos para a devida adequação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pt-BR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pt-BR" sz="2500" spc="-1" strike="noStrike">
                <a:solidFill>
                  <a:srgbClr val="ff0000"/>
                </a:solidFill>
                <a:latin typeface="Arial"/>
              </a:rPr>
              <a:t>Atual</a:t>
            </a:r>
            <a:r>
              <a:rPr b="0" lang="pt-BR" sz="25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Os processos que não atenderem às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disposições anteriores </a:t>
            </a:r>
            <a:r>
              <a:rPr b="1" lang="pt-BR" sz="2500" spc="-1" strike="noStrike" u="sng">
                <a:solidFill>
                  <a:srgbClr val="0000ff"/>
                </a:solidFill>
                <a:uFillTx/>
                <a:latin typeface="Arial"/>
              </a:rPr>
              <a:t>não serão recebidos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pela Superintendência de Recursos logísiticos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e Manutenção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11280" y="907920"/>
            <a:ext cx="78483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Principais alterações no art. 3º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5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181080" y="1557360"/>
            <a:ext cx="842328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pt-BR" sz="2500" spc="-1" strike="noStrike">
                <a:solidFill>
                  <a:srgbClr val="ff0000"/>
                </a:solidFill>
                <a:latin typeface="Arial"/>
              </a:rPr>
              <a:t>Anterior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: Tratando-se de processo admistrativo para realização de licitação, o pedido de abertura do processo de licitação deve ser acompanhado de autorização da autoridade competent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pt-BR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pt-BR" sz="2500" spc="-1" strike="noStrike">
                <a:solidFill>
                  <a:srgbClr val="ff0000"/>
                </a:solidFill>
                <a:latin typeface="Arial"/>
              </a:rPr>
              <a:t>Atual</a:t>
            </a:r>
            <a:r>
              <a:rPr b="0" lang="pt-BR" sz="25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pt-BR" sz="2500" spc="-1" strike="noStrike">
                <a:solidFill>
                  <a:srgbClr val="0000ff"/>
                </a:solidFill>
                <a:latin typeface="Arial"/>
              </a:rPr>
              <a:t>formulário de solicitação mensal de </a:t>
            </a:r>
            <a:r>
              <a:rPr b="1" lang="pt-BR" sz="25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pt-BR" sz="2500" spc="-1" strike="noStrike">
                <a:solidFill>
                  <a:srgbClr val="0000ff"/>
                </a:solidFill>
                <a:latin typeface="Arial"/>
              </a:rPr>
              <a:t>recursos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 será utilizado como </a:t>
            </a:r>
            <a:r>
              <a:rPr b="1" lang="pt-BR" sz="2500" spc="-1" strike="noStrike">
                <a:solidFill>
                  <a:srgbClr val="0000ff"/>
                </a:solidFill>
                <a:latin typeface="Arial"/>
              </a:rPr>
              <a:t>pedido de </a:t>
            </a:r>
            <a:r>
              <a:rPr b="1" lang="pt-BR" sz="25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pt-BR" sz="2500" spc="-1" strike="noStrike">
                <a:solidFill>
                  <a:srgbClr val="0000ff"/>
                </a:solidFill>
                <a:latin typeface="Arial"/>
              </a:rPr>
              <a:t>abertura do processo de licitação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, desde que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assinado pelo ordenador de despesa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responsável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pela ação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1280" y="907920"/>
            <a:ext cx="78483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Principais alterações no art. 4º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7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0" y="1614600"/>
            <a:ext cx="8317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Anterio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Quem certificava a existência de recursos orçamentários e financeiros era Coordenadoria de Planejamento e Orça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Atual</a:t>
            </a: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em vai certificar a existência de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cursos orçamentários e financeiros é a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uperintendência de Planejamento e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odernização Institucional, certificando a fonte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 despesa no formulário de solicitação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ensal de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cursos. (somente após esta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ertificação o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esso será remetido à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uperintendência de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curos logísticos e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nutençã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11280" y="907920"/>
            <a:ext cx="78483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Principais alterações no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§1º </a:t>
            </a: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9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0" y="1614600"/>
            <a:ext cx="8317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nteri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O processo era remetido à CPL para elaboração de Edi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tual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o deverá ser remetido à COGES par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ntagem do processo e posteri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aminhamento à CPL, que promoverá todos o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âmites legais que o processo requ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11280" y="907920"/>
            <a:ext cx="78483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Principais alterações no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§2º </a:t>
            </a: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1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"/>
          <p:cNvSpPr/>
          <p:nvPr/>
        </p:nvSpPr>
        <p:spPr>
          <a:xfrm>
            <a:off x="0" y="1614600"/>
            <a:ext cx="831708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6600"/>
                </a:solidFill>
                <a:latin typeface="Arial"/>
              </a:rPr>
              <a:t>§3º</a:t>
            </a:r>
            <a:r>
              <a:rPr b="1" lang="pt-BR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inuta do edital deverá ser anexada ao processo (também por meio magnético) e encaminhada á Assessoria/Procuradoria Jurídica compentente para análise, aprovação e elaboração nota jurídica, conforme parágrafo único do art 38 da Lei 8.666/93.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6600"/>
                </a:solidFill>
                <a:latin typeface="Arial"/>
              </a:rPr>
              <a:t>§4º</a:t>
            </a:r>
            <a:r>
              <a:rPr b="1" lang="pt-BR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s</a:t>
            </a:r>
            <a:r>
              <a:rPr b="1" lang="pt-BR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sos</a:t>
            </a:r>
            <a:r>
              <a:rPr b="1" lang="pt-BR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 processo conjunto – aquele que envolva mais de um órgão ou entidade do SISEMA – a ratificação poderá ser feita  por qualquer um dos procuradores dos órgãos ou entidades participantes do proces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11280" y="907920"/>
            <a:ext cx="78483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Inclusões dos § 3º, 4º, 5º e 6º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3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"/>
          <p:cNvSpPr/>
          <p:nvPr/>
        </p:nvSpPr>
        <p:spPr>
          <a:xfrm>
            <a:off x="0" y="1614600"/>
            <a:ext cx="831708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6600"/>
                </a:solidFill>
                <a:latin typeface="Arial"/>
              </a:rPr>
              <a:t>§5º</a:t>
            </a:r>
            <a:r>
              <a:rPr b="1" lang="pt-BR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s casos de processo iniciado nas Regionais do IEF, IGAM e SUPRAM’s, a elaboração da minuta e aprovação deverão ser efetuados pela Assessoria Jurídica local.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6600"/>
                </a:solidFill>
                <a:latin typeface="Arial"/>
              </a:rPr>
              <a:t>§6º</a:t>
            </a:r>
            <a:r>
              <a:rPr b="1" lang="pt-BR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provado o edital o mesmo será impresso pelas Procuradoria/Assessoria que o remeterá à CPL devidamente rubricadoe numerado. A CPL providenciará a publicação do Edital, sendo aberto o prazo constante na legislação para que as empresas apresentem propos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11280" y="907920"/>
            <a:ext cx="78483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Inclusões dos § 3º, 4º, 5º e 6º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5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>
            <a:off x="0" y="1614600"/>
            <a:ext cx="8317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Anterio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Substituído pelo §3º do art 4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Atual</a:t>
            </a: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0" lang="pt-BR" sz="2400" spc="-1" strike="noStrike">
                <a:solidFill>
                  <a:srgbClr val="0000ff"/>
                </a:solidFill>
                <a:latin typeface="Arial"/>
              </a:rPr>
              <a:t>Nova redação:</a:t>
            </a: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alizada a licitação, o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esso contendo a ata, as propostas e a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ocumentação exigida, conforme Anexos desta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rdem de Serviços, será encaminhado à Assessoria/Procuradoria Juríd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11280" y="907920"/>
            <a:ext cx="78483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6600"/>
                </a:solidFill>
                <a:latin typeface="Arial"/>
              </a:rPr>
              <a:t>Principais alterações no art 5º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0" y="1614600"/>
            <a:ext cx="8317080" cy="45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§1º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 Assessoria/Procuradoria Jurídica analisará a fase externa da licitação, observando se foram cumpridas todas as exigências legais e em seguida elaborará nota jurídica opinando favoravelmente ou não sobre a homologação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§2º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stando o procedimento em conformidade com a legislação, a nota jurídica será encaminhada à CPL acompanhada do termo de homologação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§3º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 termo de homologação será encaminhado à CPL que providenciará as assinaturas  da(s) autoridades(s) competente(s) e posterior publicaçã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11280" y="907920"/>
            <a:ext cx="78483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Inclusão dos § 1º, 2º e , 3º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9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"/>
          <p:cNvSpPr/>
          <p:nvPr/>
        </p:nvSpPr>
        <p:spPr>
          <a:xfrm>
            <a:off x="324000" y="1989000"/>
            <a:ext cx="75610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pt-BR" sz="3000" spc="-1" strike="noStrike">
                <a:solidFill>
                  <a:srgbClr val="006600"/>
                </a:solidFill>
                <a:latin typeface="Arial"/>
              </a:rPr>
              <a:t>Com o novo fluxo e com as novas diretrizes do SISEMA, um novo arranjo, com novas definições teve que ser feita a partir do art 6º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0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"/>
          <p:cNvSpPr/>
          <p:nvPr/>
        </p:nvSpPr>
        <p:spPr>
          <a:xfrm>
            <a:off x="324000" y="1989000"/>
            <a:ext cx="777528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6600"/>
                </a:solidFill>
                <a:latin typeface="Arial"/>
              </a:rPr>
              <a:t>Art. 6º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epo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e publicado o termo de homologação, caso seja necessário, a CPL deverá elaborar o contrato e encaminha-lo ao Núcleo de Apoio à Gestão de Suprimentos e Contratos para verificação dos dados relativos ao contratado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§ único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: As assinaturas das partes serão colhidas pela CPL e encaminhadas ao Núcleo de Apoio à Gestão de Suprimentos e Contratos, que providenciará a publicação do contrato.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11280" y="907920"/>
            <a:ext cx="78483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6600"/>
                </a:solidFill>
                <a:latin typeface="Arial"/>
              </a:rPr>
              <a:t>Art 6º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324000" y="1706400"/>
            <a:ext cx="828036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tende-se com a nova Ordem de Serviç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r as alterações e os impactos que a nova Sistemática de Solicitação Mensal de Recursos trará para o SISEM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imizar os procedimentos internos no que tange à sistemática de compras, contratos e licitaçõ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imir todas as dúvidas inerentes aos procedimentos da nova sistemát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907920"/>
            <a:ext cx="66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Objetivos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2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6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324000" y="1700280"/>
            <a:ext cx="7775280" cy="42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pt-BR" sz="2500" spc="-1" strike="noStrike">
                <a:solidFill>
                  <a:srgbClr val="006600"/>
                </a:solidFill>
                <a:latin typeface="Arial"/>
              </a:rPr>
              <a:t>Art. 7º</a:t>
            </a:r>
            <a:r>
              <a:rPr b="1" lang="pt-BR" sz="25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rá de responsabilidade das regionais e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UPRAM’s a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ormalização e realização dos processos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icitatóri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500" spc="-1" strike="noStrike">
                <a:solidFill>
                  <a:srgbClr val="006600"/>
                </a:solidFill>
                <a:latin typeface="Arial"/>
              </a:rPr>
              <a:t>§1º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Procuradoria/Assessoria local será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sponsável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ela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issão de nota jurídica quanto à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provação da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inuta de edital,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à homologação e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laboração do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tra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500" spc="-1" strike="noStrike">
                <a:solidFill>
                  <a:srgbClr val="006600"/>
                </a:solidFill>
                <a:latin typeface="Arial"/>
              </a:rPr>
              <a:t>§2º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pós elaboração do contrato a a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curadoria/assessoria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ocal deverá encaminhar o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trato para publicação no Núcleo de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poio à Gestão de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uprimentos e Contra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11280" y="907920"/>
            <a:ext cx="78483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6600"/>
                </a:solidFill>
                <a:latin typeface="Arial"/>
              </a:rPr>
              <a:t>Art 7º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4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6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8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" name=""/>
          <p:cNvSpPr/>
          <p:nvPr/>
        </p:nvSpPr>
        <p:spPr>
          <a:xfrm>
            <a:off x="324000" y="1413000"/>
            <a:ext cx="777528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6600"/>
                </a:solidFill>
                <a:latin typeface="Arial"/>
              </a:rPr>
              <a:t>Art. 8º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ratando-se de Dispensa / Inexigibilidade de Licitação, observado o disposto no art. 3º e no art. 4º, o processo será devidamente instruído com Justificativa, Termo de Referência, Autorização do Ordenador e toda a documentação necessária, conforme estabelecido no Anexo I desta Ordem de Serviço e será encaminhado para a Procuradoria/Assessoria Jurídica que elaborará Nota sobre a viabilidade jurídica e adequação do pedido de contratação a uma das modalidades de dispensa/inexigibilidade de licitação ratad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11280" y="907920"/>
            <a:ext cx="78483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6600"/>
                </a:solidFill>
                <a:latin typeface="Arial"/>
              </a:rPr>
              <a:t>Art 8º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6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8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0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" name=""/>
          <p:cNvSpPr/>
          <p:nvPr/>
        </p:nvSpPr>
        <p:spPr>
          <a:xfrm>
            <a:off x="324000" y="1773360"/>
            <a:ext cx="8351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006600"/>
                </a:solidFill>
                <a:latin typeface="Arial"/>
              </a:rPr>
              <a:t>§1º</a:t>
            </a:r>
            <a:r>
              <a:rPr b="1" lang="en-US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stando em conformidade, a Procuradoria/Assessoria Jurídica elaborará a minuta do Ato de Dispensa/Inexigibilidade a ser assinado pela autoridade competente, nos termos das resoluções pertinentes e a minuta do Ato de Ratificação a ser assinado pelo Dirigente Máximo de cada órgão ou entidad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006600"/>
                </a:solidFill>
                <a:latin typeface="Arial"/>
              </a:rPr>
              <a:t>§2º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 seguir, o processo, já instruído com a Nota Jurídica, as minutas dos atos e a minuta do Contrato (quando houver), serão encaminhados à Auditoria que providenciará o Atestado de Conformidad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11280" y="907920"/>
            <a:ext cx="78483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006600"/>
                </a:solidFill>
                <a:latin typeface="Arial"/>
              </a:rPr>
              <a:t>§ 1º e 2º do Art 8º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8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0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2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179280" y="1773360"/>
            <a:ext cx="864072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006600"/>
                </a:solidFill>
                <a:latin typeface="Arial"/>
              </a:rPr>
              <a:t>§3º</a:t>
            </a:r>
            <a:r>
              <a:rPr b="1" lang="en-US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stando em conformidade com a legislação, o contrato será analisado/preenchido pela Procuradoria/Assessoria Jurídica, que encaminhará o processo à Superintendência de Recursos Logísticos e Manutenção, instruído com 3 (três) vias do contrato para colher as assinaturas. Após assinado, o Contrato, será publicado pela Procuradoria/Assessoria Jurídica. As vias do contrato deverão ser distribuídas da seguinte forma, 1 (uma) via deverá ser anexada ao processo, e 1 (uma) via para a parte contratada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11280" y="907920"/>
            <a:ext cx="78483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006600"/>
                </a:solidFill>
                <a:latin typeface="Arial"/>
              </a:rPr>
              <a:t>§3º do Art 8º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0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2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"/>
          <p:cNvSpPr/>
          <p:nvPr/>
        </p:nvSpPr>
        <p:spPr>
          <a:xfrm>
            <a:off x="324000" y="1413000"/>
            <a:ext cx="777528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6600"/>
                </a:solidFill>
                <a:latin typeface="Arial"/>
              </a:rPr>
              <a:t>Art. 9º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ublicado o contrato, o processo será encaminhado à Coordenadoria de Contratos ou Coordenadoria de Gestão de Suprimentos, para finalização de procedimento no SIAD. As regras de acompanhamento dos contratos de serviço serão estabelecidas entre as Coordenadorias de Contrato e Núcleo de Serviços pela Superintendência de Recursos Logísticos e Manutenção 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11280" y="907920"/>
            <a:ext cx="78483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6600"/>
                </a:solidFill>
                <a:latin typeface="Arial"/>
              </a:rPr>
              <a:t>Art 9º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2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4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324000" y="1413000"/>
            <a:ext cx="7775280" cy="23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6600"/>
                </a:solidFill>
                <a:latin typeface="Arial"/>
              </a:rPr>
              <a:t>Art. 10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urante a execução contratual, verificada a necessidade de se promover qualquer alteração no contrato, desde que previstos em lei, as áreas afins deverão efetuar o pedido de alteração, devidamente justificado e autorizado pelo dirigente máximo do órgão ou entidad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1280" y="907920"/>
            <a:ext cx="78483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6600"/>
                </a:solidFill>
                <a:latin typeface="Arial"/>
              </a:rPr>
              <a:t>Art 10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4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6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8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0" name=""/>
          <p:cNvSpPr/>
          <p:nvPr/>
        </p:nvSpPr>
        <p:spPr>
          <a:xfrm>
            <a:off x="324000" y="1773360"/>
            <a:ext cx="835164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006600"/>
                </a:solidFill>
                <a:latin typeface="Arial"/>
              </a:rPr>
              <a:t>§1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o caso da alteração contratual envolver disponibilidade financeira, o pedido de alteração deverá ser encaminhado à Superintendência de Modernização Institucional que certificará quanto à disponibilidade orçamentária para o aditamento em questão, e confirmará, por meio de ato formal, a aquiescência do responsável pela ação a que o contrato está vinculado. Caso o aditamento não envolva disponibilidade financeira, o pedido de alteração será encaminhado diretamente para a Coordenadoria de Gestão de Contratos.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6600"/>
                </a:solidFill>
                <a:latin typeface="Arial"/>
              </a:rPr>
              <a:t>§2º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A minuta do Termo Aditivo será elaborado em conjunto entre a Coordenadoria de Gestão de Contratos e o Núcleo de Apoio à Gestão de Suprimentos e Contrato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11280" y="907920"/>
            <a:ext cx="78483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006600"/>
                </a:solidFill>
                <a:latin typeface="Arial"/>
              </a:rPr>
              <a:t>§ 1º e 2º do Art 10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6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8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0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2" name=""/>
          <p:cNvSpPr/>
          <p:nvPr/>
        </p:nvSpPr>
        <p:spPr>
          <a:xfrm>
            <a:off x="324000" y="1773360"/>
            <a:ext cx="835164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6600"/>
                </a:solidFill>
                <a:latin typeface="Arial"/>
              </a:rPr>
              <a:t>§3º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O Núcleo de Apoio à Gestão de Suprimentos e Contratos deverá encaminhar o termo aditivo à Procuradoria/Assessoria Jurídica respectiva para análise, e elaboração de Nota Jurídic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6600"/>
                </a:solidFill>
                <a:latin typeface="Arial"/>
              </a:rPr>
              <a:t>§4º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Aprovada a minuta, a Coordenadoria de Gestão de Contratos colherá as assinaturas das partes e o Núcleo de Apoio à Gestão de Suprimentos e Contratos publicará o Termo Aditiv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11280" y="907920"/>
            <a:ext cx="78483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006600"/>
                </a:solidFill>
                <a:latin typeface="Arial"/>
              </a:rPr>
              <a:t>§ 3º e 4º do Art 10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8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0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2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4" name=""/>
          <p:cNvSpPr/>
          <p:nvPr/>
        </p:nvSpPr>
        <p:spPr>
          <a:xfrm>
            <a:off x="179280" y="1773360"/>
            <a:ext cx="864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Arial"/>
              </a:rPr>
              <a:t>Art. 11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Às Assessorias/procuradorias Jurídicas deverão orientar quanto à interpretação dos atos normativos a  serem  cumpridos pelo órgão ou entidades conforme previsto na Lei Complementar 75/2004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11280" y="907920"/>
            <a:ext cx="78483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006600"/>
                </a:solidFill>
                <a:latin typeface="Arial"/>
              </a:rPr>
              <a:t>Art 11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0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2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4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79280" y="1773360"/>
            <a:ext cx="8640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Arial"/>
              </a:rPr>
              <a:t>Art. 12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numeração dos contratos, será feita no Núcleo de Apoio à Gestão de Suprimentos e Contratos ou Procuradoria/Assessoria, ficando estabelecido que cada órgão terá sua numeração própria de acordo com a unidade orçamentária. O controle da numeração contratual será feito no Protocolo da Secretaria de cada órgão e seguirá os critérios  descritos na Ordem de Serviço cujo número se iniciará com a unidade orçamentár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11280" y="907920"/>
            <a:ext cx="78483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006600"/>
                </a:solidFill>
                <a:latin typeface="Arial"/>
              </a:rPr>
              <a:t>Art 12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324000" y="1557360"/>
            <a:ext cx="7920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. 1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nteri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dos os pedidos de contratação eram direcionados à Superintendência de Logística, com aprovação Diretoria ou Superintendências (maioria das vezes MEMO simpl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tual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dos os pedidos serão direcionados à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uperintendência de Modernização Institucion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via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formulário de solicitação mensal de recurs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om aprovação pelo responsável pela ação ou gerente do proje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4360" y="907920"/>
            <a:ext cx="69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Principais alterações art.1º :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16000" y="6237360"/>
          <a:ext cx="9144000" cy="858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16000" y="6237360"/>
                    <a:ext cx="9144000" cy="85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2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4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6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9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8" name=""/>
          <p:cNvSpPr/>
          <p:nvPr/>
        </p:nvSpPr>
        <p:spPr>
          <a:xfrm>
            <a:off x="395280" y="2708280"/>
            <a:ext cx="82803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nderson do Carmo Diniz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uperintendência de Recursos Logísticos e Manutençã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en-US" sz="25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andersoncd@feam.b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ne: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31-3219.57.6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31-3219.57.6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900000" y="1197000"/>
            <a:ext cx="69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Contatos para sugestões e dúvi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1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324000" y="1573200"/>
            <a:ext cx="7920000" cy="35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500" spc="-1" strike="noStrike">
                <a:solidFill>
                  <a:srgbClr val="ff0000"/>
                </a:solidFill>
                <a:latin typeface="Arial"/>
              </a:rPr>
              <a:t>Anterior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 Para aquisição bens de consumo e;ou permanentes era feita uma consulta formal prévia de disponibilidade de material à Superintendência de Logística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500" spc="-1" strike="noStrike">
                <a:solidFill>
                  <a:srgbClr val="ff0000"/>
                </a:solidFill>
                <a:latin typeface="Arial"/>
              </a:rPr>
              <a:t>Atual: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Para aquisição bens de consum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e;ou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permanente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Consulta</a:t>
            </a:r>
            <a:r>
              <a:rPr b="0" lang="pt-BR" sz="25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passa</a:t>
            </a:r>
            <a:r>
              <a:rPr b="0" lang="pt-BR" sz="25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t-BR" sz="25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ser feita na </a:t>
            </a:r>
            <a:r>
              <a:rPr b="1" lang="pt-BR" sz="2500" spc="-1" strike="noStrike">
                <a:solidFill>
                  <a:srgbClr val="0000ff"/>
                </a:solidFill>
                <a:latin typeface="Arial"/>
              </a:rPr>
              <a:t>Coordenadoria de infra-Estrutura e Logística do SISEMA</a:t>
            </a:r>
            <a:r>
              <a:rPr b="0" lang="pt-BR" sz="25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4360" y="907920"/>
            <a:ext cx="52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Principais alterações 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1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179280" y="1844640"/>
            <a:ext cx="8496360" cy="35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Anterior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: Aquisição de bens permanentes eram autorizadas pelo Subsecretário de Inovação e Logística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Atual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quisição de bens permanentes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fora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do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plano anual de suprimentos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, que foi elaborado em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neiro,somente será efetuada com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utorização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Subsecretário de </a:t>
            </a: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Inovação e Logística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42920" y="907920"/>
            <a:ext cx="69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Principais alterações § 2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5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0" y="1557360"/>
            <a:ext cx="77756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Anterior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: O pedido era encaminhado à Coordenadoria de Gestão de Suprimento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Atual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 pedido deverá ser encaminhado à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uperintendência de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Planejamento e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Modernização Institucional do SISEMA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nexando o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formulário de solicitação Mensal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de Recursos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11280" y="907920"/>
            <a:ext cx="78483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Principais alterações 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3º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7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0" y="1557360"/>
            <a:ext cx="77756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Anterior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: Não era previsto o formulário de solicitação mensal de recursos para os casos de Dispensa/Inexigibilidad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Atual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s processos que envolvam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spensa/Inexigibilidade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deverão estar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previstos no formulário de solicitação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mensal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de recurso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1280" y="907920"/>
            <a:ext cx="78483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Principais alterações 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4º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9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0" y="1557360"/>
            <a:ext cx="7775640" cy="35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Anterior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: O pedido era instruído com autorização da autoridade competente, nos termos das resoluções pertinent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Atual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s responsáveis pela ação e/ou gerente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projeto serão designados por resolução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junta específica (</a:t>
            </a: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passarão a ser os </a:t>
            </a: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responsáveis </a:t>
            </a: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pela autorização do </a:t>
            </a: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pedido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11280" y="907920"/>
            <a:ext cx="78483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Principais alterações 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5º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1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0" y="1557360"/>
            <a:ext cx="777564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pt-BR" sz="2500" spc="-1" strike="noStrike">
                <a:solidFill>
                  <a:srgbClr val="ff0000"/>
                </a:solidFill>
                <a:latin typeface="Arial"/>
              </a:rPr>
              <a:t>Anterior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: (...) com autorização do respectivo Direto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pt-BR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pt-BR" sz="2500" spc="-1" strike="noStrike">
                <a:solidFill>
                  <a:srgbClr val="ff0000"/>
                </a:solidFill>
                <a:latin typeface="Arial"/>
              </a:rPr>
              <a:t>Atual</a:t>
            </a:r>
            <a:r>
              <a:rPr b="0" lang="pt-BR" sz="25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(...) com cópia do formulário de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solicitação mensal de recursos (Neste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documento se consegue avaliar todo o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histórico do processo, inclusive se o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responsável pela ação já autorizou o pedido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500" spc="-1" strike="noStrike">
                <a:solidFill>
                  <a:srgbClr val="0000ff"/>
                </a:solidFill>
                <a:latin typeface="Arial"/>
              </a:rPr>
              <a:t>Obs: Fica padronizado que as páginas dos </a:t>
            </a:r>
            <a:r>
              <a:rPr b="0" lang="pt-BR" sz="25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pt-BR" sz="2500" spc="-1" strike="noStrike">
                <a:solidFill>
                  <a:srgbClr val="0000ff"/>
                </a:solidFill>
                <a:latin typeface="Arial"/>
              </a:rPr>
              <a:t>processos serão numeradas de forma </a:t>
            </a:r>
            <a:r>
              <a:rPr b="0" lang="pt-BR" sz="25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pt-BR" sz="2500" spc="-1" strike="noStrike">
                <a:solidFill>
                  <a:srgbClr val="0000ff"/>
                </a:solidFill>
                <a:latin typeface="Arial"/>
              </a:rPr>
              <a:t>crescent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pt-BR" sz="25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pt-BR" sz="2500" spc="-1" strike="noStrike">
                <a:solidFill>
                  <a:srgbClr val="000000"/>
                </a:solidFill>
                <a:latin typeface="Arial"/>
              </a:rPr>
              <a:t>§ único, sem alteraçõ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11280" y="907920"/>
            <a:ext cx="78483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Principais alterações art. 2º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3:12:33Z</dcterms:created>
  <dc:creator>SIL</dc:creator>
  <dc:description/>
  <dc:language>en-US</dc:language>
  <cp:lastModifiedBy>semad</cp:lastModifiedBy>
  <dcterms:modified xsi:type="dcterms:W3CDTF">2008-02-18T16:02:30Z</dcterms:modified>
  <cp:revision>42</cp:revision>
  <dc:subject/>
  <dc:title>Slide 1</dc:title>
</cp:coreProperties>
</file>