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7582-6FD8-4401-9512-88AF1C1A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0EC5-4527-41D0-B902-ED7868A9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7BD-72E6-4E3A-AD63-2AAF4CEE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A4B7-7603-44BA-AEC3-4C3CCF350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615F-8849-421E-A4AF-44E29C39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3640-AD73-40EE-8402-24859C80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8FFA-F09D-4F66-B07E-0904F2A5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AD9D-37E5-4DD7-86E1-4C864240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B7C-446E-46E6-8FAE-E10A428A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7778-0EB0-472C-BE8B-86D56972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BB65-46D3-469B-B704-EFD93551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0F6F-6C53-40F5-A25B-E73DFB22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051A5-10A2-4CBF-BD74-E900AEB11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hyperlink" Target="mailto:orcamento@semad.mg.gov.br" TargetMode="External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image" Target="../media/image14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logo ief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LogoIGAM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20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Object 2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21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" name="Object 2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Picture 22" descr="logo governo 2007"/>
          <p:cNvPicPr/>
          <p:nvPr/>
        </p:nvPicPr>
        <p:blipFill>
          <a:blip r:embed="rId8"/>
          <a:stretch/>
        </p:blipFill>
        <p:spPr>
          <a:xfrm>
            <a:off x="6443640" y="6237360"/>
            <a:ext cx="10080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4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9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-4587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57200" y="907920"/>
          <a:ext cx="8147160" cy="5326200"/>
        </p:xfrm>
        <a:graphic>
          <a:graphicData uri="http://schemas.openxmlformats.org/drawingml/2006/table">
            <a:tbl>
              <a:tblPr/>
              <a:tblGrid>
                <a:gridCol w="1141560"/>
                <a:gridCol w="771480"/>
                <a:gridCol w="4402080"/>
                <a:gridCol w="1832040"/>
              </a:tblGrid>
              <a:tr h="2710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ÕES - SIS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7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s Associados/Estrutura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 ASSOCIADO/         ESTRUTURAD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ão Ambiental Descentralizada – Escritórios Region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 rowSpan="1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E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pliação da Base Florestal Produ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moção do Desenv. Tecnológico da Silvicultura de Espécies Nativ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iação e Implantação de Áreas Protegi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fetivação do Uso Público de Unidades de Conserv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mpliação das Áreas de Vegetação Nativa e Promoção da Conectividade entre Fragmentos Florestais - PROMA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visão e Evolução dos Instrumentos Normativ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venção e Combate a Incêndios Florest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stão Compartilhada da Fau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teção da Biodivers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talecimento da Gestão das Unidades de Conserv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4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icionantes Ambient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corporação dos Instrumentos de Pagamento de Serviços Ambientai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scalização e Monitoramento das Atividades de Exploração, Transporte e Consumo de Produtos da Fauna e Flor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amento Eletrônico do Transporte do Carvão Veget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financiamento de Implantação de Centro de Pesquisa e Difusão de Conhecimento da Biodiversidade (</a:t>
                      </a:r>
                      <a:r>
                        <a:rPr b="1" lang="pt-BR" sz="9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E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71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-45154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57200" y="1125360"/>
          <a:ext cx="8229600" cy="5423040"/>
        </p:xfrm>
        <a:graphic>
          <a:graphicData uri="http://schemas.openxmlformats.org/drawingml/2006/table">
            <a:tbl>
              <a:tblPr/>
              <a:tblGrid>
                <a:gridCol w="1185840"/>
                <a:gridCol w="771480"/>
                <a:gridCol w="4408560"/>
                <a:gridCol w="1863720"/>
              </a:tblGrid>
              <a:tr h="26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ÕES - SIS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s Associados/Estrutura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DA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 ASSOCIADO/         ESTRUTURAD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clusão da Criação e Estruturação dos Comitês de Bacias Hidrográficas nas UPGR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scalização e Controle dos Usos de Recursos Hídric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 rowSpan="11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G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amento da Qualidade da Água e do Cli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clusão do Plano Estadual de Recursos Hídr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aboração e Aprovação dos Planos Diretores de Recursos Hídricos nas UPGRH´s seleciona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uturação do Sistema Estadual de Informações sobre Recursos Hídr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ção das Agências de Bacias Hidrográficas ou Entidades a elas equipara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r a cobrança pelo Uso das Águas nas UPGRH´s seleciona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ção da Outorga para Lançamento de Efluent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3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dastramento de Usos e Usuários de Recursos Hídric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amento da Qualidade da Águ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3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gração da Rede de Monitoramento da Qualidade da Águ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lhoria das Condições Sanitárias e Despoluição das Bacias Hidrográficas -  PRO-ÁGUA-M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Object 19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9" name="Object 1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0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1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23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3" name="Object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Picture 24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5"/>
          <p:cNvSpPr/>
          <p:nvPr/>
        </p:nvSpPr>
        <p:spPr>
          <a:xfrm>
            <a:off x="395280" y="935640"/>
            <a:ext cx="8497800" cy="70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NTES DE  RECURSOS DO SIS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ORDINÁ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cursos do Tesouro para os quais não existe destinação específ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ÊNIOS, ACORDOS E AJUS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2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XA FLOREST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cursos provenientes da ação fiscalizadora por intermédio do IEF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TILIZAÇÃO DE RECURSOS HI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Lei Federal nº.7.990 de 28/12/89. Recursos provenientes de indenização aos Estados e Municípios pela exploração, em seus territórios de recursos hídricos, para fins de geração de energia elétr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4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IENAÇÃO DE BE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Recursos provenientes de alienação de bens que integram o patrimônio das entidades estaduai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9" name="Object 6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7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92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8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94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5" name="Picture 9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0"/>
          <p:cNvSpPr/>
          <p:nvPr/>
        </p:nvSpPr>
        <p:spPr>
          <a:xfrm>
            <a:off x="611280" y="76500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NTES  DE RECURSOS DO SIS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5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 TAXA DE CONTROLE E FISCALIZAÇÃO  AMBIENT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niente da Lei nº. 14.940/2003. Exercício regular do poder de polícia conferido à FEAM e ao IEF para controle e fiscalização das atividades potencialmente poluidoras de recursos naturais;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6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RECURSOS DIRETAMENTE ARRECADADO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os proveniente do esforço próprio de arrecadação de órgãos e entidades do Estad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6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DIRETAMENTE ARRECADADOS COM VINCULAÇÃO       ESPECÍFICA – IEF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eposição Florestal – Lei Estadual nº. 14.3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eposição da Pesca – Lei Estadual  nº. 14.1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ompensação Ambiental – Lei Federal nº. 99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6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9"/>
          <p:cNvSpPr/>
          <p:nvPr/>
        </p:nvSpPr>
        <p:spPr>
          <a:xfrm>
            <a:off x="539640" y="765000"/>
            <a:ext cx="79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NTES  DE RECURSOS DO SIS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EMAD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çamento financiado com recursos das fontes: 10, 24 e 3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GA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çamento financiado com recursos das fontes: 10, 24, 31,6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FEAM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çamento financiado com recursos das fontes: 31, 52 e 6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EF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rçamento financiado com recursos das fontes: 24, 26, 31, 47,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2, 60 e 6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3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4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6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7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2320" y="-5234040"/>
            <a:ext cx="745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 ORDENADOR DE DESPESA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468360" y="2133720"/>
            <a:ext cx="8207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SOA RESPONSÁVEL E INVESTIDA DE AUTORIDADE SUFICIENTE PARA PRATICAR O ATO DE EMPENH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ORDENADOR DE DESPESA É O  MAIS GRADUADO DIRIGENTE DE PODER OU DE ENTIDADE PÚB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PONSABILIDADE DO ORDENADOR DE DESPESA É TOTAL, PESSOAL E INTRANSFERÍVEL E ELE RESPONDE COMO PESSOA FÍSICA, E NÃO COMO TITULAR DA PA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ORDERNADOR DE DESPESAS SÓ PODERÁ SER EXONERADO DE SUA RESPONSABILDADE APÓS JULGADAS REGULARES SUAS CONTAS PELO TRIBUNAL DE CO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9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2320" y="-5234040"/>
            <a:ext cx="745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NADOR DE DESP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468360" y="2349360"/>
            <a:ext cx="8207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DE SER DELEGADA AUTORIDADE DE ORDENADOR DE DESPESA A OUTRO SERVIDOR; NÃO SE  DELEGA A RESPONSABILIDADE, OS DOIS PASSAM A SER CO-RESPONSÁVEIS PELOS EMPENH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EMPENHO DA DESPESA NÃO PODERÁ EXCEDER  O LIMITE DOS CRÉDITOS ORÇAMENTÁRIOS CONCEDI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 VEDADA A REALIZAÇÃO DE DESPESA SEM PRÉVIO EMPENH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A DE EMPENHO É O DOCUMENTO QUE INDICARÁ O NOME DO CREDOR, A CLASSIFICAÇÃO DA DOTAÇÃO ORÇAMENTÁRIA, A DESCRIÇÃO DA DESPESA E O SEU VAL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0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2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82320" y="-5234040"/>
            <a:ext cx="745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ordenadoria de Planejamento e Orçament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qui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yriam Maria da Sil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elena Souza Cam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vone Barbo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Leila Andr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ateus Mora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pt-BR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orcamento@semad.mg.gov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one: 3219.50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ite para consulta de detalhamento do orçamento e classificador de despes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www.planejamento.mg.gov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Palestrante: Myriam Maria da Si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Century Gothic"/>
              </a:rPr>
              <a:t>Data: 20 e 22/02/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195640" y="1989000"/>
            <a:ext cx="49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Century Gothic"/>
              </a:rPr>
              <a:t>PROGRAMAÇÃO ORÇAMEN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Logo FEAM"/>
          <p:cNvPicPr/>
          <p:nvPr/>
        </p:nvPicPr>
        <p:blipFill>
          <a:blip r:embed="rId1"/>
          <a:srcRect l="0" t="-4141" r="-3371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logo ief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" descr="LogoIGAM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Object 12"/>
          <p:cNvGraphicFramePr/>
          <p:nvPr/>
        </p:nvGraphicFramePr>
        <p:xfrm>
          <a:off x="0" y="2637000"/>
          <a:ext cx="9144000" cy="9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63700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13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" name="Object 1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Picture 14" descr="logo governo 2007"/>
          <p:cNvPicPr/>
          <p:nvPr/>
        </p:nvPicPr>
        <p:blipFill>
          <a:blip r:embed="rId8"/>
          <a:stretch/>
        </p:blipFill>
        <p:spPr>
          <a:xfrm>
            <a:off x="6443640" y="6237360"/>
            <a:ext cx="10080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2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85760" y="981000"/>
            <a:ext cx="34718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4e3b"/>
                </a:solidFill>
                <a:latin typeface="Arial"/>
              </a:rPr>
              <a:t>Relatório de Situ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3" descr=""/>
          <p:cNvPicPr/>
          <p:nvPr/>
        </p:nvPicPr>
        <p:blipFill>
          <a:blip r:embed="rId11"/>
          <a:srcRect l="2931" t="23438" r="3319" b="9180"/>
          <a:stretch/>
        </p:blipFill>
        <p:spPr>
          <a:xfrm>
            <a:off x="0" y="1714680"/>
            <a:ext cx="91440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9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2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4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7000" y="-4911480"/>
            <a:ext cx="81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2286000" y="10494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4" descr=""/>
          <p:cNvPicPr/>
          <p:nvPr/>
        </p:nvPicPr>
        <p:blipFill>
          <a:blip r:embed="rId11"/>
          <a:srcRect l="2931" t="6836" r="2587" b="28711"/>
          <a:stretch/>
        </p:blipFill>
        <p:spPr>
          <a:xfrm>
            <a:off x="0" y="1000080"/>
            <a:ext cx="92152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Object 2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3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4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000" y="-4911480"/>
            <a:ext cx="810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IBERAÇÃO DE COTAS ORÇAMENTÁ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2286000" y="104940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468360" y="1989000"/>
            <a:ext cx="8207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  ACORDO  COM   A   LEGISLAÇÃO,  IMEDIATAMENTE  APÓS   A PROMULGAÇÃO DA LEI DE ORÇAMENTO E  COM BASE NOS LIMITES NELA  FIXADOS, O PODER  EXECUTIVO APROVARÁ UM QUADRO  DE COTA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IMESTRA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A DESPESA PARA UTILIZAÇÃO DE CADA UNIDADE ORÇAMENTÁ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GURAR ÀS UNIDADES A SOMA DOS RECURSOS NECESSÁ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TER EQUILÍBRIO ENTRE RECEITA E DESP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3"/>
          <p:cNvSpPr/>
          <p:nvPr/>
        </p:nvSpPr>
        <p:spPr>
          <a:xfrm>
            <a:off x="4067280" y="3789360"/>
            <a:ext cx="50328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2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3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9"/>
          <p:cNvSpPr/>
          <p:nvPr/>
        </p:nvSpPr>
        <p:spPr>
          <a:xfrm>
            <a:off x="0" y="-1637640"/>
            <a:ext cx="9325080" cy="10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LIBERAÇÃO DE COTAS ORÇAMENTÁ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AÇÕES DE PROJETOS ASSOCIADO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 Adequação e liberação de cotas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çamentárias de acordo com o montante de recursos estipulados n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quadrimes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nexo I do Decreto nº. 44.716 de 08/02/0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ustei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                       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Investiment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 1º. Quadrimestre:         30%                                   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 2º. Quadrimestre:         35%                                  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-   3º. Quadrimestre:         35%                                  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cc"/>
                </a:solidFill>
                <a:latin typeface="Arial"/>
              </a:rPr>
              <a:t>AÇÕES   DE   PROJETOS   ESTRUTURADORES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:    Liberação  de  cot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rçamentárias  após reunião mensal com a SEPLAG – fechamento do    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Relatório de Situação – Status Re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»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liberação das cotas orçamentárias, estão condicionadas à arrecad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3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4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-5234040"/>
            <a:ext cx="82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42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PROGRAMAÇÃO ORÇAMENTÁRIA MENSAL - PRAZ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cc"/>
                </a:solidFill>
                <a:latin typeface="Arial"/>
              </a:rPr>
              <a:t>PLANILHAS DE PROGRAMAÇÕES MENSAI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(Ações de Projetos Estruturadores + Ações de Projetos Associado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Encaminhamento à Superintendência de Planejamento e Modernização, </a:t>
            </a:r>
            <a:r>
              <a:rPr b="1" i="1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impreterivelmente,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até o 5º dia útil de cada mê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"/>
              </a:rPr>
              <a:t>As programações deverão ser consolidadas por ação, indicando a codificação e assinatura do gerente / ordenador de desp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» 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 programação das ações dos Projetos Estruturadores, será a mesma a ser apresentada na reunião com a SEPLAG - Status Repor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5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9"/>
          <p:cNvSpPr/>
          <p:nvPr/>
        </p:nvSpPr>
        <p:spPr>
          <a:xfrm>
            <a:off x="0" y="1200240"/>
            <a:ext cx="8748720" cy="55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33520" indent="-533520"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30000"/>
              </a:lnSpc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55640" y="1052640"/>
          <a:ext cx="7272360" cy="4827600"/>
        </p:xfrm>
        <a:graphic>
          <a:graphicData uri="http://schemas.openxmlformats.org/drawingml/2006/table">
            <a:tbl>
              <a:tblPr/>
              <a:tblGrid>
                <a:gridCol w="1085760"/>
                <a:gridCol w="727200"/>
                <a:gridCol w="3887640"/>
                <a:gridCol w="1571760"/>
              </a:tblGrid>
              <a:tr h="263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ÕES - SISE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s Associados/Estruturado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DA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 ASSOCIADO/         ESTRUTURAD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ão Ambiental Descentralizada (Superintendências Regionais 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ec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 rowSpan="11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M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stão da Fiscalização Ambiental Integ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ção e Extensã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ordenação Técn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 Projetos de Gestã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dernização do Licenciament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aboração de Projetos de intervenções de saneamento para os municípios fora da concessão da Copa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o de Comunicação - Meta 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çã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ruturação dos Parques Estaduais e dos Atrativos Natur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rvação de mananciais e Controle de Á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talecimento da Gestão de Resíduos Sól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Logo FEAM"/>
          <p:cNvPicPr/>
          <p:nvPr/>
        </p:nvPicPr>
        <p:blipFill>
          <a:blip r:embed="rId1"/>
          <a:srcRect l="0" t="-4141" r="-3351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logo ief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LogoIGAM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Object 5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3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6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7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8" descr="logo governo 2007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0920" y="-4334400"/>
            <a:ext cx="73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07920"/>
          <a:ext cx="7643880" cy="5689800"/>
        </p:xfrm>
        <a:graphic>
          <a:graphicData uri="http://schemas.openxmlformats.org/drawingml/2006/table">
            <a:tbl>
              <a:tblPr/>
              <a:tblGrid>
                <a:gridCol w="1255680"/>
                <a:gridCol w="790560"/>
                <a:gridCol w="4000680"/>
                <a:gridCol w="1596960"/>
              </a:tblGrid>
              <a:tr h="2494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ÕES - SISE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s Associados/Estrutura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ID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JETO ASSOCIADO/         ESTRUTURAD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8240">
                <a:tc rowSpan="1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imento de Instrumentos de Incentivo à Gestão Adequada de Resíduos Sólid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utenção do Centro Mineiro de Referência em Resíduos e Alcance de Auto-sustentabilid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 Implementação de Sistemas de Disposição Final Adequada - Minas sem Lixõ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imização de Sistemas de Gestão Adequada de Resíduos Sólidos por Empreendimentos Gerad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ducação e Extensão Ambien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mplementação da Coleta Seletiva, Reaproveitamento e Reciclag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 Implantação dos Planos de Gerenciamento de Resíduos de Serviços de Saú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s Cooperativas e Associações de Materiais Recicláveis(</a:t>
                      </a: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EP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6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oio à Fiscalização Ambiental Integra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itoramento da Qualidade Ambiental do Ar e dos Sol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stão dos Passivos Ambientais da Miner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envolvimento de Tecnologias para Fontes Alternativas de Energia e Produção Mais Lim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14:56Z</dcterms:created>
  <dc:creator>Daniela Giordano</dc:creator>
  <dc:description/>
  <dc:language>en-US</dc:language>
  <cp:lastModifiedBy>myriam.silva</cp:lastModifiedBy>
  <dcterms:modified xsi:type="dcterms:W3CDTF">2008-02-20T14:49:47Z</dcterms:modified>
  <cp:revision>58</cp:revision>
  <dc:subject/>
  <dc:title>Slide 1</dc:title>
</cp:coreProperties>
</file>