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6.wmf" ContentType="image/x-wmf"/>
  <Override PartName="/ppt/media/image11.wmf" ContentType="image/x-wmf"/>
  <Override PartName="/ppt/media/image17.jpeg" ContentType="image/jpeg"/>
  <Override PartName="/ppt/media/image3.png" ContentType="image/png"/>
  <Override PartName="/ppt/media/image12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6A9D-8B14-44C5-9ED5-7AF480DC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4F6F-9AB5-4F14-B716-0F302D43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D1ED-27DC-4635-B43E-FA1AE90C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99B-CFCF-4B8E-ADF9-D72D0C34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9B57-2C85-4B90-ADEB-4103468D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A13E-E0DB-4F7D-AB64-70A95E71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D32-2AD5-4092-A9BA-34A4F058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C3B1-69DF-405E-A527-1FB80740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7B0-E360-4C15-8034-2322EC41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26AF-C292-4B17-AFF4-084A3A8F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9D95-0FA1-4D53-857A-7A5C49C2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ECA-1924-4107-8673-152A8D27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E75C-B3F7-4D95-8587-8552E1602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image" Target="../media/image11.wmf"/><Relationship Id="rId1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8.png"/><Relationship Id="rId13" Type="http://schemas.openxmlformats.org/officeDocument/2006/relationships/slide" Target="slide3.xml"/><Relationship Id="rId14" Type="http://schemas.openxmlformats.org/officeDocument/2006/relationships/image" Target="../media/image8.png"/><Relationship Id="rId15" Type="http://schemas.openxmlformats.org/officeDocument/2006/relationships/slide" Target="slide3.xml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03280" y="3715920"/>
            <a:ext cx="5940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516720" y="6237360"/>
            <a:ext cx="863640" cy="473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2600" y="1773360"/>
            <a:ext cx="81342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cionalmente, apenas a SCRHLT da SEPLAG poderá credenciar servidor habilitado que ocupe outro cargo para o qual não tenha sido exigida a habilitação como motorista à época de seu prov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torista Credenci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3"/>
          <a:stretch/>
        </p:blipFill>
        <p:spPr>
          <a:xfrm>
            <a:off x="3059280" y="3860640"/>
            <a:ext cx="3673440" cy="26974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11640" y="5546880"/>
            <a:ext cx="5605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10160" y="3852720"/>
            <a:ext cx="936720" cy="936720"/>
          </a:xfrm>
          <a:prstGeom prst="downArrowCallout">
            <a:avLst>
              <a:gd name="adj1" fmla="val 25002"/>
              <a:gd name="adj2" fmla="val 46380"/>
              <a:gd name="adj3" fmla="val 16667"/>
              <a:gd name="adj4" fmla="val 710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2600" y="1773360"/>
            <a:ext cx="8134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tos Administrativos – Contrato firmado entre o Estado e o Motoris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ceirizados – Contrato firmado entre o Estado e a empresa Prestadora de Serviç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veículo oficial só poderá ser conduzido por motorista terceirizado sob condições pré-determinad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torista Contra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2600" y="1773360"/>
            <a:ext cx="813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rá constar no contrato firmado entre a empresa prestadora de serviço e o Estado, a obrigação de efetuar o serviço de transporte de pessoas ou coisa e a mesma se responsabiliza pelos danos a que vierem a ser causado pelo seu funcionár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torista Contra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1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2600" y="1773360"/>
            <a:ext cx="8134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rá comprovar junto ao órgão que contratou funcionário qualificado  e habilitado com a função de MOTOR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is situações NÃO são permitidas o uso de terceirizados para condução de veículos ofici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torista Contra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2600" y="1773360"/>
            <a:ext cx="8134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acordo com o Decreto nº 43.744 / 2004, durante a execução de atividades previstas em CONTRATO ou CONVÊNIO, servidores, funcionários, poderão conduzir veículo oficial, desde que devidamente habilitados e AUTORIZADOS pelo dirigente máximo do órgão ou entidade a que pertenc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toristas Autor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2600" y="1773360"/>
            <a:ext cx="8134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quer ocorrência com danos que envolva veículo que esteja transitando, manobrando, parado ou estacionado em via pública urbana ou r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idente de Trâns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3"/>
          <a:stretch/>
        </p:blipFill>
        <p:spPr>
          <a:xfrm>
            <a:off x="2411280" y="4724280"/>
            <a:ext cx="2632320" cy="1737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4"/>
          <a:stretch/>
        </p:blipFill>
        <p:spPr>
          <a:xfrm>
            <a:off x="5019840" y="4849920"/>
            <a:ext cx="2287440" cy="16174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930480" y="3429000"/>
            <a:ext cx="2087640" cy="15112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ASH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87280" y="3716280"/>
            <a:ext cx="1513080" cy="1225440"/>
          </a:xfrm>
          <a:prstGeom prst="wedgeRoundRectCallout">
            <a:avLst>
              <a:gd name="adj1" fmla="val 96587"/>
              <a:gd name="adj2" fmla="val 8549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i caramba... bat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18 3.7037E-007 L 0.60573 -0.00069 E">
                                      <p:cBhvr>
                                        <p:cTn id="6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2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4360" y="2644920"/>
            <a:ext cx="36003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9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800" spc="-1" strike="noStrike">
                <a:solidFill>
                  <a:srgbClr val="000000"/>
                </a:solidFill>
                <a:latin typeface="Arial"/>
              </a:rPr>
              <a:t>O que fazer?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  <a:p>
            <a:pPr marL="439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9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identou com Veículo Ofic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3"/>
          <a:stretch/>
        </p:blipFill>
        <p:spPr>
          <a:xfrm>
            <a:off x="4915080" y="1916280"/>
            <a:ext cx="32209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2600" y="1773360"/>
            <a:ext cx="8134200" cy="57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her nome e endereço completo das testemunhas se houv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nciar a Ocorrência da Polícia Militar ou da Polícia Civi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unicar o fato, imediatamente, à chef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nciar relatório detalhado e encaminhá-lo à chefia imediat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 encontra na página 18 item 4.1 do Manual de Sindicância de Veículos Oficiais – Com Adapt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corrência de danos em Garagem ou estacio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52600" y="1773360"/>
            <a:ext cx="8134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alizar o loc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ar o nome do Logradouro e Dados da placa do outro veículo envolvido, se houv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ndo vítima, verificar o estado e acionar o SAMU – 192 ou Bombeiros – 193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her nome e endereço completo das testemunhas se houv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idente em via urb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13"/>
          <a:stretch/>
        </p:blipFill>
        <p:spPr>
          <a:xfrm>
            <a:off x="7093080" y="1414440"/>
            <a:ext cx="1457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52600" y="1773360"/>
            <a:ext cx="8134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onar a Polícia Militar – 190 e / ou Polícia Civil – 194, para Ocorrência Policial e Perí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unicar o fato, imediatamente, à chef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nciar relatório detalhado e encaminhá-lo à chefia imediatam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idente em via urb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14479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entury Gothic"/>
              </a:rPr>
              <a:t>TREINAMENTO DE INTEGRAÇÃO DA ÁREA MEIO – SIAD e SI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2600" y="2381400"/>
            <a:ext cx="9117000" cy="1168200"/>
          </a:xfrm>
          <a:custGeom>
            <a:avLst/>
            <a:gdLst/>
            <a:ahLst/>
            <a:rect l="l" t="t" r="r" b="b"/>
            <a:pathLst>
              <a:path w="703" h="90">
                <a:moveTo>
                  <a:pt x="703" y="22"/>
                </a:moveTo>
                <a:lnTo>
                  <a:pt x="703" y="49"/>
                </a:lnTo>
                <a:cubicBezTo>
                  <a:pt x="672" y="34"/>
                  <a:pt x="150" y="0"/>
                  <a:pt x="0" y="90"/>
                </a:cubicBezTo>
                <a:lnTo>
                  <a:pt x="0" y="22"/>
                </a:lnTo>
                <a:lnTo>
                  <a:pt x="703" y="22"/>
                </a:lnTo>
                <a:close/>
              </a:path>
            </a:pathLst>
          </a:custGeom>
          <a:solidFill>
            <a:srgbClr val="125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895120" y="3068280"/>
            <a:ext cx="6248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Realização: Subsecretaria de Inovação e Logís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Período: 15 a 19 de Outubro de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2600" y="1773360"/>
            <a:ext cx="813420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retirar o veículo do local, SALVO com autorização da autoridade de Trânsito compet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ar as informações necessárias ao agente de trânsi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 encontram nas páginas 18 e 19 item 4.2 do Manual de Sindicância de Veículos Oficiais – Com Adapt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idente em via urb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52600" y="1773360"/>
            <a:ext cx="8134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alizar o loc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her nome e endereço completo das testemunhas se houver anotar o nº ou o nome da rodovia ( BR ou MG ), o KM e dados da placa do outro veículo, caso tenh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ndo vítimas acionar a Polícia Rodoviária Federal ou Polícia Rodoviária Estadual, SAMU, Bombeiros, o que for mais rápido para prestar socorro as vítim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idente em Rodovia Federal ou Esta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13"/>
          <a:stretch/>
        </p:blipFill>
        <p:spPr>
          <a:xfrm>
            <a:off x="6407280" y="2060640"/>
            <a:ext cx="2136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2600" y="1773360"/>
            <a:ext cx="813420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rer da Delegacia de Polícia, mais próxima, realização de Perí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tar informações necessárias ao Agente de Trânsito responsável pela Ocorrê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retirar o veículo do local, SALVO com autorização da autoridade de Trânsito compet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 encontra na página 19 item 4.3 do Manual de Sindicância de Veículos Oficiais – Com Adapt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idente em Rodovia Federal ou Esta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52600" y="1773360"/>
            <a:ext cx="81342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alizar o loc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her nome e endereço completo das testemunhas se houv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nciar relatório detalhado e encaminhá-lo à chefia imediatam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retirar o veículo do local, SALVO com autorização da autoridade de Trânsito compet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idente em Estradas Rur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13"/>
          <a:stretch/>
        </p:blipFill>
        <p:spPr>
          <a:xfrm>
            <a:off x="6516720" y="1844640"/>
            <a:ext cx="207000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52600" y="1773360"/>
            <a:ext cx="813420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ar os dados da placa do outro veículo envolvido, se houv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ndo vítima, providenciar socorro na Prefeitura Municipal e Perícia, na Delegacia de Polí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nciar o registro da ocorrência na Polícia Militar ou na Polícia Civ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 encontram nas páginas 19 e 20 item 4.4 do Manual de Sindicância de Veículos Oficiais – Com Adapt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idente em Estradas Rur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1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52600" y="1773360"/>
            <a:ext cx="813420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alizar o loc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ndo vítima, verificar o estado e acionar o SAMU – 192 ou Bombeiros – 19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her nome e endereço completo das testemunhas se houv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idente Provocado Por Animal Postado ou Transitando na 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13"/>
          <a:stretch/>
        </p:blipFill>
        <p:spPr>
          <a:xfrm>
            <a:off x="3851280" y="4799160"/>
            <a:ext cx="17287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6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52600" y="1773360"/>
            <a:ext cx="8134200" cy="58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retirar o veículo do local, SALVO com autorização da autoridade de Trânsito compet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nciar o registro da ocorrência na Polícia Militar ou na Polícia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 encontra na página 20 item 4.5 do Manual de Sindicância de Veículos Oficiais – Com Adapt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idente Provocado Por Animal Postado ou Transitando na 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1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52600" y="1773360"/>
            <a:ext cx="813420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ão havendo vítima ou envolvimento de outro veículo, e, comprovadamente, inexistindo condições da Polícia Militar comparecer ao local do acidente, no mesmo dia, adotar as seguintes providênc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ar o nome da unidade da Polícia Militar da cidade, o nº do telefone e o nome do militar que atendeu à solicitação da ocorrê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2640" y="125208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idente em Regiões Desertas e muito distantes da Sede do Municíp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40508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52600" y="1773360"/>
            <a:ext cx="81342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o veículo tiver condições de se locomover, mesmo devagar, sem causar maiores danos, o condutor deverá prosseguir em sua viagem, com as devidas cautelas, até o município ou distrito mais próximo, onde deverá procurar um local seguro para guardá-lo e comunicar o fato ao seu chefe, para que esse providencie o transporte do veículo acidenta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2640" y="123840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idente em Regiões Desertas e muito distantes da Sede do Municíp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39068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2600" y="1773360"/>
            <a:ext cx="8134200" cy="54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não houver condições de ir com o veículo até o distrito ou município mais próximo, a solução será procurar a ajuda de alguém para retirar o veículo da estrada e colocá-lo em local com alguma segurança até que possa ser transporta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borar relatório detalhado para a chef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 encontra na página 20 item 4.6 do Manual de Sindicância de Veículos Oficiais – Com Adapt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2640" y="12092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idente em Regiões Desertas e muito distantes da Sede do Municíp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1"/>
          <a:stretch/>
        </p:blipFill>
        <p:spPr>
          <a:xfrm>
            <a:off x="533520" y="136224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68360" y="177336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d4d4d"/>
                </a:solidFill>
                <a:latin typeface="Century Gothic"/>
              </a:rPr>
              <a:t>Título da palest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2600" y="2381400"/>
            <a:ext cx="9117000" cy="1168200"/>
          </a:xfrm>
          <a:custGeom>
            <a:avLst/>
            <a:gdLst/>
            <a:ahLst/>
            <a:rect l="l" t="t" r="r" b="b"/>
            <a:pathLst>
              <a:path w="703" h="90">
                <a:moveTo>
                  <a:pt x="703" y="22"/>
                </a:moveTo>
                <a:lnTo>
                  <a:pt x="703" y="49"/>
                </a:lnTo>
                <a:cubicBezTo>
                  <a:pt x="672" y="34"/>
                  <a:pt x="150" y="0"/>
                  <a:pt x="0" y="90"/>
                </a:cubicBezTo>
                <a:lnTo>
                  <a:pt x="0" y="22"/>
                </a:lnTo>
                <a:lnTo>
                  <a:pt x="703" y="22"/>
                </a:lnTo>
                <a:close/>
              </a:path>
            </a:pathLst>
          </a:custGeom>
          <a:solidFill>
            <a:srgbClr val="125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entury Gothic"/>
              </a:rPr>
              <a:t>Palestrante(s): Mário Célio Câm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Setor: Auditoria do 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Data: 19/10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52600" y="1773360"/>
            <a:ext cx="8134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o após a ocorrência do furto ou roubo do veículo, acionar a Polícia militar para que seja lavrado o Boletim de Ocorrê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unicar o fato à chefia da garagem por escri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r a ocorrência do furto ou roubo na Delegacia de Polí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idente Ocorrido após Furto ou Roubo do Veíc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52600" y="1773360"/>
            <a:ext cx="8134200" cy="54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ós a localização do veículo acidentado, deverá ser lavrado novo B.O. ou Laudo de Vistoria do Veículo, para que sejam descritos os danos hav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 encontra na página 21 item 4.7 do Manual de Sindicância de Veículos Oficiais – Com Adapt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cidente Ocorrido após Furto ou Roubo do Veíc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1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52600" y="1773360"/>
            <a:ext cx="81342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te a cada órgão e entidade do Poder Executivo apurar a responsabilidade administrativa em casos de acidente de trânsito e uso indevido de veículos oficiais, conforme Decreto nº 43.242 / 2003, com as alterações introduzidas pelo Decreto nº 44.203 /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2640" y="123840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etência e Rito da Sindicância Administrativa de Veículo Of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39068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4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2600" y="1773360"/>
            <a:ext cx="813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puração será feita por meio de sindicância administrativa, observadas as normas deste manual e as orientações da Superintendência Central de Correição Administrativa – SCCA, a quem compete o suporte à instrução das sindicâncias, sempre que este se fizer necessá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puração do F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33520" y="1828800"/>
            <a:ext cx="815328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gislação Específica Aplic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digo de Trânsito Brasileiro (CTB) – Lei nº 9.503 / 1997, com vigência a partir de 23/01/1998 e alterações post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to Estadual nº 42.569 / 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to Estadual nº 43.242 / 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to Estadual nº 43.744 / 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to Estadual nº 44.203 /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Tahoma"/>
              </a:rPr>
              <a:t>Informações Adiciona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3520" y="1828800"/>
            <a:ext cx="8153280" cy="53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 Estadual nº 869 / 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ção / SERHA nº 070 / 2002, que dispõe sobre procedimentos referentes à administração da frota de veículo ofici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ção conjunta nº 6077 – 25/08/200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ção SEMAD nº 626 – 17/05/2007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ódigo Civil Brasileiro – Lei 10.406 – 10/01/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9480" y="114300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Tahoma"/>
              </a:rPr>
              <a:t>Informações Adiciona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33520" y="2254320"/>
            <a:ext cx="815328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d4d4d"/>
                </a:solidFill>
                <a:latin typeface="Tahoma"/>
              </a:rPr>
              <a:t>Auditora Che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d4d4d"/>
                </a:solidFill>
                <a:latin typeface="Tahoma"/>
              </a:rPr>
              <a:t>Maria da Graça Sampaio G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d4d4d"/>
                </a:solidFill>
                <a:latin typeface="Tahoma"/>
              </a:rPr>
              <a:t>Dados para contato do setor: (31) 3219-575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d4d4d"/>
                </a:solidFill>
                <a:latin typeface="Tahoma"/>
              </a:rPr>
              <a:t>E-mail: auditoria@ief.mg.gov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4d4d4d"/>
                </a:solidFill>
                <a:uFillTx/>
                <a:latin typeface="Tahoma"/>
              </a:rPr>
              <a:t>Equi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d4d4d"/>
                </a:solidFill>
                <a:latin typeface="Tahoma"/>
              </a:rPr>
              <a:t>Mário Célio Câma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4d4d4d"/>
                </a:solidFill>
                <a:latin typeface="Tahoma"/>
              </a:rPr>
              <a:t>Lady Tatiane de Lima Andr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9480" y="1143000"/>
            <a:ext cx="8077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Tahoma"/>
              </a:rPr>
              <a:t>Dados do se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Tahoma"/>
              </a:rPr>
              <a:t>Unidade: Auditoria Seccional IE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âns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ja Educado, Respeite as Normas de Trânsi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va cada dia melhor! Respeite os sinais de Trânsi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ânsito Seguro – Obrigação De Tod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PEITO ao TRÂNSITO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 Melhor Caminh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PlaceHolder 1"/>
          <p:cNvSpPr>
            <a:spLocks noGrp="1"/>
          </p:cNvSpPr>
          <p:nvPr>
            <p:ph/>
          </p:nvPr>
        </p:nvSpPr>
        <p:spPr>
          <a:xfrm>
            <a:off x="52668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gradeci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os colaboradores do Regional Centro Norte – Sete Lagoas/M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drigo Alessandro de Barros Fons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diney Pereira Guimarã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RIGAD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26920" y="5084640"/>
            <a:ext cx="7693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ário Célio Câmara – Au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5E-006 -4.44444E-006 L -0.00313 -0.22662 E">
                                      <p:cBhvr>
                                        <p:cTn id="50" dur="20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95280" y="1949400"/>
            <a:ext cx="520560" cy="520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94040" y="1859040"/>
            <a:ext cx="49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ahoma"/>
              </a:rPr>
              <a:t>Índice da aprese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63680" y="2852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08160" y="2827800"/>
            <a:ext cx="77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ículo Of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57200" y="35384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01680" y="3513600"/>
            <a:ext cx="77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utores de Veículos Ofi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7"/>
          <a:stretch/>
        </p:blipFill>
        <p:spPr>
          <a:xfrm>
            <a:off x="468360" y="419580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12840" y="4170960"/>
            <a:ext cx="77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istas do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8"/>
          <a:stretch/>
        </p:blipFill>
        <p:spPr>
          <a:xfrm>
            <a:off x="468360" y="486900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12840" y="4843800"/>
            <a:ext cx="77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ista Credenci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9"/>
          <a:stretch/>
        </p:blipFill>
        <p:spPr>
          <a:xfrm>
            <a:off x="463680" y="547380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08160" y="5448960"/>
            <a:ext cx="77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ista Contra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463680" y="136512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08160" y="1340280"/>
            <a:ext cx="77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istas Autoriz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2"/>
          <a:stretch/>
        </p:blipFill>
        <p:spPr>
          <a:xfrm>
            <a:off x="457200" y="205092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01680" y="2026080"/>
            <a:ext cx="77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ente de Trâns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3"/>
          <a:stretch/>
        </p:blipFill>
        <p:spPr>
          <a:xfrm>
            <a:off x="468360" y="272412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12840" y="2713680"/>
            <a:ext cx="77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entou com Veículo Of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4"/>
          <a:stretch/>
        </p:blipFill>
        <p:spPr>
          <a:xfrm>
            <a:off x="468360" y="341460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212840" y="3224520"/>
            <a:ext cx="77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orrência de danos em Garagem ou esta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468360" y="41403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12840" y="4115160"/>
            <a:ext cx="77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ente em via urb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6"/>
          <a:stretch/>
        </p:blipFill>
        <p:spPr>
          <a:xfrm>
            <a:off x="460440" y="480528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04920" y="4780440"/>
            <a:ext cx="77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ente em Rodovia Federal ou Esta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468360" y="539748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212840" y="5372640"/>
            <a:ext cx="77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ente em Estradas Ru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1"/>
          <a:stretch/>
        </p:blipFill>
        <p:spPr>
          <a:xfrm>
            <a:off x="468360" y="126828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212840" y="1060560"/>
            <a:ext cx="77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ente Provocado Por Animal Postado ou Transitando na 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2"/>
          <a:stretch/>
        </p:blipFill>
        <p:spPr>
          <a:xfrm>
            <a:off x="461880" y="212868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206360" y="1920960"/>
            <a:ext cx="77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ente em Regiões Desertas e muito distantes da Sede do Municí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3"/>
          <a:stretch/>
        </p:blipFill>
        <p:spPr>
          <a:xfrm>
            <a:off x="473040" y="295920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217520" y="2765520"/>
            <a:ext cx="77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ência e Rito da Sindicância Administrativa de Veículo Of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4"/>
          <a:stretch/>
        </p:blipFill>
        <p:spPr>
          <a:xfrm>
            <a:off x="473040" y="368316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17520" y="3657960"/>
            <a:ext cx="77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uração do F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5"/>
          <a:stretch/>
        </p:blipFill>
        <p:spPr>
          <a:xfrm>
            <a:off x="473040" y="431316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217520" y="4288320"/>
            <a:ext cx="77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to da Sindicâ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6"/>
          <a:stretch/>
        </p:blipFill>
        <p:spPr>
          <a:xfrm>
            <a:off x="474840" y="564516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19320" y="5620320"/>
            <a:ext cx="77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islação Específica Aplic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7"/>
          <a:stretch/>
        </p:blipFill>
        <p:spPr>
          <a:xfrm>
            <a:off x="468360" y="497196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212840" y="4947120"/>
            <a:ext cx="77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ição de Processo Administrativo Discipl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2600" y="1773360"/>
            <a:ext cx="8134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ículo Oficial é todo veículo de propriedade do Estado ou a ele ce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ículo Of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3"/>
          <a:stretch/>
        </p:blipFill>
        <p:spPr>
          <a:xfrm>
            <a:off x="2484360" y="3860640"/>
            <a:ext cx="4176720" cy="25416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rot="20557800">
            <a:off x="5781600" y="5798880"/>
            <a:ext cx="43020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2600" y="1773360"/>
            <a:ext cx="81342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s de dirigir qualquer veículo, o CONDUTOR deverá ser informado por seu CHEFE IMEDIATO de seus Direitos e Deveres, bem como das NORMAS para utilização do veículo of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dutores de Veículos Oficia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2600" y="1773360"/>
            <a:ext cx="81342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ra geral é que o veículo oficial seja conduzido por servidor ocupante do cargo ou emprego de motor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 a ressalva de que o ocupante de cargo / função pública, poderá dirigir o veículo oficial, desde que esteja autorizado / credenciado, junto ao Sistema de Controle de cada órg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toristas do Es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3"/>
          <a:stretch/>
        </p:blipFill>
        <p:spPr>
          <a:xfrm>
            <a:off x="3533760" y="4221000"/>
            <a:ext cx="2448000" cy="2433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726000" y="5516640"/>
            <a:ext cx="158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R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GAL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2:32:44Z</dcterms:created>
  <dc:creator>SIL</dc:creator>
  <dc:description/>
  <dc:language>en-US</dc:language>
  <cp:lastModifiedBy>silviac</cp:lastModifiedBy>
  <dcterms:modified xsi:type="dcterms:W3CDTF">2007-10-04T23:00:46Z</dcterms:modified>
  <cp:revision>43</cp:revision>
  <dc:subject/>
  <dc:title>Slide 1</dc:title>
</cp:coreProperties>
</file>