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6240" y="822240"/>
            <a:ext cx="8646840" cy="5800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73080" y="0"/>
            <a:ext cx="100008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" Target="slide26.xml"/><Relationship Id="rId4" Type="http://schemas.openxmlformats.org/officeDocument/2006/relationships/slide" Target="slide30.xml"/><Relationship Id="rId5" Type="http://schemas.openxmlformats.org/officeDocument/2006/relationships/slide" Target="slide32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0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2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4.png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6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6.xml"/><Relationship Id="rId3" Type="http://schemas.openxmlformats.org/officeDocument/2006/relationships/image" Target="../media/image26.png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10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0.xml"/><Relationship Id="rId3" Type="http://schemas.openxmlformats.org/officeDocument/2006/relationships/image" Target="../media/image29.png"/><Relationship Id="rId4" Type="http://schemas.openxmlformats.org/officeDocument/2006/relationships/slide" Target="slide41.xml"/><Relationship Id="rId5" Type="http://schemas.openxmlformats.org/officeDocument/2006/relationships/slide" Target="slide39.xml"/><Relationship Id="rId6" Type="http://schemas.openxmlformats.org/officeDocument/2006/relationships/slide" Target="slide40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" Target="slide45.xml"/><Relationship Id="rId11" Type="http://schemas.openxmlformats.org/officeDocument/2006/relationships/slide" Target="slide38.xml"/><Relationship Id="rId1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0.png"/><Relationship Id="rId3" Type="http://schemas.openxmlformats.org/officeDocument/2006/relationships/slide" Target="slide33.xm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2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4.xm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4.png"/><Relationship Id="rId3" Type="http://schemas.openxmlformats.org/officeDocument/2006/relationships/slide" Target="slide37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6.xm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68480" y="1257480"/>
            <a:ext cx="5065560" cy="3295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7920" y="4537080"/>
            <a:ext cx="736776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900" spc="-1" strike="noStrike">
                <a:solidFill>
                  <a:srgbClr val="a50021"/>
                </a:solidFill>
                <a:latin typeface="Arial"/>
              </a:rPr>
              <a:t>Modulo Contratos - Si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5545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MENU PRINCIPAL DO MO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6264000" cy="55404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3419640" y="2637000"/>
            <a:ext cx="502920" cy="144360"/>
          </a:xfrm>
          <a:custGeom>
            <a:avLst/>
            <a:gdLst>
              <a:gd name="textAreaLeft" fmla="*/ 9360 w 502920"/>
              <a:gd name="textAreaRight" fmla="*/ 493560 w 5029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16" h="21600">
                <a:moveTo>
                  <a:pt x="0" y="0"/>
                </a:moveTo>
                <a:lnTo>
                  <a:pt x="75116" y="0"/>
                </a:lnTo>
                <a:lnTo>
                  <a:pt x="75116" y="21600"/>
                </a:lnTo>
                <a:lnTo>
                  <a:pt x="0" y="21600"/>
                </a:lnTo>
                <a:close/>
              </a:path>
              <a:path fill="lightenLess" w="75116" h="21600">
                <a:moveTo>
                  <a:pt x="0" y="0"/>
                </a:moveTo>
                <a:lnTo>
                  <a:pt x="75116" y="0"/>
                </a:lnTo>
                <a:lnTo>
                  <a:pt x="73716" y="1400"/>
                </a:lnTo>
                <a:lnTo>
                  <a:pt x="1400" y="1400"/>
                </a:lnTo>
                <a:close/>
              </a:path>
              <a:path fill="darken" w="75116" h="21600">
                <a:moveTo>
                  <a:pt x="75116" y="0"/>
                </a:moveTo>
                <a:lnTo>
                  <a:pt x="75116" y="21600"/>
                </a:lnTo>
                <a:lnTo>
                  <a:pt x="73716" y="20200"/>
                </a:lnTo>
                <a:lnTo>
                  <a:pt x="73716" y="1400"/>
                </a:lnTo>
                <a:close/>
              </a:path>
              <a:path fill="darkenLess" w="75116" h="21600">
                <a:moveTo>
                  <a:pt x="75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16" y="20200"/>
                </a:lnTo>
                <a:close/>
              </a:path>
              <a:path fill="lighten" w="75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16" h="21600">
                <a:moveTo>
                  <a:pt x="30552" y="3794"/>
                </a:moveTo>
                <a:lnTo>
                  <a:pt x="44565" y="10800"/>
                </a:lnTo>
                <a:lnTo>
                  <a:pt x="30552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5219640" y="281952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4" action="ppaction://hlinksldjump"/>
          </p:cNvPr>
          <p:cNvSpPr/>
          <p:nvPr/>
        </p:nvSpPr>
        <p:spPr>
          <a:xfrm>
            <a:off x="3780000" y="3213000"/>
            <a:ext cx="502920" cy="144720"/>
          </a:xfrm>
          <a:custGeom>
            <a:avLst/>
            <a:gdLst>
              <a:gd name="textAreaLeft" fmla="*/ 9360 w 502920"/>
              <a:gd name="textAreaRight" fmla="*/ 493560 w 50292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74930" h="21600">
                <a:moveTo>
                  <a:pt x="0" y="0"/>
                </a:moveTo>
                <a:lnTo>
                  <a:pt x="74930" y="0"/>
                </a:lnTo>
                <a:lnTo>
                  <a:pt x="74930" y="21600"/>
                </a:lnTo>
                <a:lnTo>
                  <a:pt x="0" y="21600"/>
                </a:lnTo>
                <a:close/>
              </a:path>
              <a:path fill="lightenLess" w="74930" h="21600">
                <a:moveTo>
                  <a:pt x="0" y="0"/>
                </a:moveTo>
                <a:lnTo>
                  <a:pt x="74930" y="0"/>
                </a:lnTo>
                <a:lnTo>
                  <a:pt x="73530" y="1400"/>
                </a:lnTo>
                <a:lnTo>
                  <a:pt x="1400" y="1400"/>
                </a:lnTo>
                <a:close/>
              </a:path>
              <a:path fill="darken" w="74930" h="21600">
                <a:moveTo>
                  <a:pt x="74930" y="0"/>
                </a:moveTo>
                <a:lnTo>
                  <a:pt x="74930" y="21600"/>
                </a:lnTo>
                <a:lnTo>
                  <a:pt x="73530" y="20200"/>
                </a:lnTo>
                <a:lnTo>
                  <a:pt x="73530" y="1400"/>
                </a:lnTo>
                <a:close/>
              </a:path>
              <a:path fill="darkenLess" w="74930" h="21600">
                <a:moveTo>
                  <a:pt x="74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30" y="20200"/>
                </a:lnTo>
                <a:close/>
              </a:path>
              <a:path fill="lighten" w="74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930" h="21600">
                <a:moveTo>
                  <a:pt x="30459" y="3794"/>
                </a:moveTo>
                <a:lnTo>
                  <a:pt x="44471" y="10800"/>
                </a:lnTo>
                <a:lnTo>
                  <a:pt x="3045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5" action="ppaction://hlinksldjump"/>
          </p:cNvPr>
          <p:cNvSpPr/>
          <p:nvPr/>
        </p:nvSpPr>
        <p:spPr>
          <a:xfrm>
            <a:off x="4363920" y="339084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3851280" y="3573360"/>
            <a:ext cx="503280" cy="14472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74984" h="21600">
                <a:moveTo>
                  <a:pt x="0" y="0"/>
                </a:moveTo>
                <a:lnTo>
                  <a:pt x="74984" y="0"/>
                </a:lnTo>
                <a:lnTo>
                  <a:pt x="74984" y="21600"/>
                </a:lnTo>
                <a:lnTo>
                  <a:pt x="0" y="21600"/>
                </a:lnTo>
                <a:close/>
              </a:path>
              <a:path fill="lightenLess" w="74984" h="21600">
                <a:moveTo>
                  <a:pt x="0" y="0"/>
                </a:moveTo>
                <a:lnTo>
                  <a:pt x="74984" y="0"/>
                </a:lnTo>
                <a:lnTo>
                  <a:pt x="73584" y="1400"/>
                </a:lnTo>
                <a:lnTo>
                  <a:pt x="1400" y="1400"/>
                </a:lnTo>
                <a:close/>
              </a:path>
              <a:path fill="darken" w="74984" h="21600">
                <a:moveTo>
                  <a:pt x="74984" y="0"/>
                </a:moveTo>
                <a:lnTo>
                  <a:pt x="74984" y="21600"/>
                </a:lnTo>
                <a:lnTo>
                  <a:pt x="73584" y="20200"/>
                </a:lnTo>
                <a:lnTo>
                  <a:pt x="73584" y="1400"/>
                </a:lnTo>
                <a:close/>
              </a:path>
              <a:path fill="darkenLess" w="74984" h="21600">
                <a:moveTo>
                  <a:pt x="74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84" y="20200"/>
                </a:lnTo>
                <a:close/>
              </a:path>
              <a:path fill="lighten" w="74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984" h="21600">
                <a:moveTo>
                  <a:pt x="30485" y="3794"/>
                </a:moveTo>
                <a:lnTo>
                  <a:pt x="44498" y="10800"/>
                </a:lnTo>
                <a:lnTo>
                  <a:pt x="30485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7" action="ppaction://hlinksldjump"/>
          </p:cNvPr>
          <p:cNvSpPr/>
          <p:nvPr/>
        </p:nvSpPr>
        <p:spPr>
          <a:xfrm>
            <a:off x="4211640" y="378936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1700280"/>
            <a:ext cx="2495520" cy="1411200"/>
          </a:xfrm>
          <a:custGeom>
            <a:avLst/>
            <a:gdLst/>
            <a:ahLst/>
            <a:rect l="l" t="t" r="r" b="b"/>
            <a:pathLst>
              <a:path w="1572" h="889">
                <a:moveTo>
                  <a:pt x="0" y="889"/>
                </a:moveTo>
                <a:lnTo>
                  <a:pt x="1144" y="888"/>
                </a:lnTo>
                <a:lnTo>
                  <a:pt x="15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148428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Opção Desativ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173400"/>
            <a:ext cx="2246400" cy="876240"/>
          </a:xfrm>
          <a:custGeom>
            <a:avLst/>
            <a:gdLst/>
            <a:ahLst/>
            <a:rect l="l" t="t" r="r" b="b"/>
            <a:pathLst>
              <a:path w="1415" h="552">
                <a:moveTo>
                  <a:pt x="0" y="552"/>
                </a:moveTo>
                <a:lnTo>
                  <a:pt x="1086" y="551"/>
                </a:lnTo>
                <a:lnTo>
                  <a:pt x="14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2565360"/>
            <a:ext cx="1873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utorizar termos com vigência superior a 60 me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407664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Opção Desativ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465300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Opção Desativ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544500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Opção Desativ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289400"/>
            <a:ext cx="3500280" cy="3240"/>
          </a:xfrm>
          <a:custGeom>
            <a:avLst/>
            <a:gdLst/>
            <a:ahLst/>
            <a:rect l="l" t="t" r="r" b="b"/>
            <a:pathLst>
              <a:path w="2205" h="2">
                <a:moveTo>
                  <a:pt x="0" y="2"/>
                </a:moveTo>
                <a:lnTo>
                  <a:pt x="2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437000"/>
            <a:ext cx="1044360" cy="309600"/>
          </a:xfrm>
          <a:custGeom>
            <a:avLst/>
            <a:gdLst/>
            <a:ahLst/>
            <a:rect l="l" t="t" r="r" b="b"/>
            <a:pathLst>
              <a:path w="658" h="195">
                <a:moveTo>
                  <a:pt x="0" y="0"/>
                </a:moveTo>
                <a:lnTo>
                  <a:pt x="480" y="2"/>
                </a:lnTo>
                <a:lnTo>
                  <a:pt x="658" y="19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4653000"/>
            <a:ext cx="1881360" cy="779400"/>
          </a:xfrm>
          <a:custGeom>
            <a:avLst/>
            <a:gdLst/>
            <a:ahLst/>
            <a:rect l="l" t="t" r="r" b="b"/>
            <a:pathLst>
              <a:path w="1185" h="491">
                <a:moveTo>
                  <a:pt x="0" y="2"/>
                </a:moveTo>
                <a:lnTo>
                  <a:pt x="850" y="0"/>
                </a:lnTo>
                <a:lnTo>
                  <a:pt x="1185" y="49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28000" y="189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21636" y="3837"/>
                </a:moveTo>
                <a:lnTo>
                  <a:pt x="24212" y="6448"/>
                </a:lnTo>
                <a:lnTo>
                  <a:pt x="24212" y="4707"/>
                </a:lnTo>
                <a:lnTo>
                  <a:pt x="25988" y="4707"/>
                </a:lnTo>
                <a:lnTo>
                  <a:pt x="25988" y="8224"/>
                </a:lnTo>
                <a:lnTo>
                  <a:pt x="28599" y="10800"/>
                </a:lnTo>
                <a:lnTo>
                  <a:pt x="26945" y="10800"/>
                </a:lnTo>
                <a:lnTo>
                  <a:pt x="26945" y="17989"/>
                </a:lnTo>
                <a:lnTo>
                  <a:pt x="16327" y="17989"/>
                </a:lnTo>
                <a:lnTo>
                  <a:pt x="16327" y="10800"/>
                </a:lnTo>
                <a:lnTo>
                  <a:pt x="14673" y="10800"/>
                </a:lnTo>
                <a:close/>
              </a:path>
              <a:path fill="darkenLess" w="43272" h="21600">
                <a:moveTo>
                  <a:pt x="24212" y="6448"/>
                </a:moveTo>
                <a:lnTo>
                  <a:pt x="24212" y="4707"/>
                </a:lnTo>
                <a:lnTo>
                  <a:pt x="25988" y="4707"/>
                </a:lnTo>
                <a:lnTo>
                  <a:pt x="25988" y="8224"/>
                </a:lnTo>
                <a:close/>
              </a:path>
              <a:path fill="darkenLess" w="43272" h="21600">
                <a:moveTo>
                  <a:pt x="20713" y="14299"/>
                </a:moveTo>
                <a:lnTo>
                  <a:pt x="22559" y="14299"/>
                </a:lnTo>
                <a:lnTo>
                  <a:pt x="22559" y="17989"/>
                </a:lnTo>
                <a:lnTo>
                  <a:pt x="26945" y="17989"/>
                </a:lnTo>
                <a:lnTo>
                  <a:pt x="26945" y="10800"/>
                </a:lnTo>
                <a:lnTo>
                  <a:pt x="16327" y="10800"/>
                </a:lnTo>
                <a:lnTo>
                  <a:pt x="16327" y="17989"/>
                </a:lnTo>
                <a:lnTo>
                  <a:pt x="20713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6696360" cy="5313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2" action="ppaction://hlinksldjump"/>
          </p:cNvPr>
          <p:cNvSpPr/>
          <p:nvPr/>
        </p:nvSpPr>
        <p:spPr>
          <a:xfrm rot="10800000">
            <a:off x="6012000" y="3009600"/>
            <a:ext cx="503280" cy="142920"/>
          </a:xfrm>
          <a:custGeom>
            <a:avLst/>
            <a:gdLst>
              <a:gd name="textAreaLeft" fmla="*/ 9000 w 503280"/>
              <a:gd name="textAreaRight" fmla="*/ 494280 w 50328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926" h="21600">
                <a:moveTo>
                  <a:pt x="0" y="0"/>
                </a:moveTo>
                <a:lnTo>
                  <a:pt x="75926" y="0"/>
                </a:lnTo>
                <a:lnTo>
                  <a:pt x="75926" y="21600"/>
                </a:lnTo>
                <a:lnTo>
                  <a:pt x="0" y="21600"/>
                </a:lnTo>
                <a:close/>
              </a:path>
              <a:path fill="lightenLess" w="75926" h="21600">
                <a:moveTo>
                  <a:pt x="0" y="0"/>
                </a:moveTo>
                <a:lnTo>
                  <a:pt x="75926" y="0"/>
                </a:lnTo>
                <a:lnTo>
                  <a:pt x="74526" y="1400"/>
                </a:lnTo>
                <a:lnTo>
                  <a:pt x="1400" y="1400"/>
                </a:lnTo>
                <a:close/>
              </a:path>
              <a:path fill="darken" w="75926" h="21600">
                <a:moveTo>
                  <a:pt x="75926" y="0"/>
                </a:moveTo>
                <a:lnTo>
                  <a:pt x="75926" y="21600"/>
                </a:lnTo>
                <a:lnTo>
                  <a:pt x="74526" y="20200"/>
                </a:lnTo>
                <a:lnTo>
                  <a:pt x="74526" y="1400"/>
                </a:lnTo>
                <a:close/>
              </a:path>
              <a:path fill="darkenLess" w="75926" h="21600">
                <a:moveTo>
                  <a:pt x="7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526" y="20200"/>
                </a:lnTo>
                <a:close/>
              </a:path>
              <a:path fill="lighten" w="7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926" h="21600">
                <a:moveTo>
                  <a:pt x="30956" y="10800"/>
                </a:moveTo>
                <a:lnTo>
                  <a:pt x="44969" y="3794"/>
                </a:lnTo>
                <a:lnTo>
                  <a:pt x="4496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31687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 rot="10800000">
            <a:off x="1332000" y="332640"/>
            <a:ext cx="720720" cy="28908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812" h="21600">
                <a:moveTo>
                  <a:pt x="0" y="0"/>
                </a:moveTo>
                <a:lnTo>
                  <a:pt x="53812" y="0"/>
                </a:lnTo>
                <a:lnTo>
                  <a:pt x="53812" y="21600"/>
                </a:lnTo>
                <a:lnTo>
                  <a:pt x="0" y="21600"/>
                </a:lnTo>
                <a:close/>
              </a:path>
              <a:path fill="lightenLess" w="53812" h="21600">
                <a:moveTo>
                  <a:pt x="0" y="0"/>
                </a:moveTo>
                <a:lnTo>
                  <a:pt x="53812" y="0"/>
                </a:lnTo>
                <a:lnTo>
                  <a:pt x="52412" y="1400"/>
                </a:lnTo>
                <a:lnTo>
                  <a:pt x="1400" y="1400"/>
                </a:lnTo>
                <a:close/>
              </a:path>
              <a:path fill="darken" w="53812" h="21600">
                <a:moveTo>
                  <a:pt x="53812" y="0"/>
                </a:moveTo>
                <a:lnTo>
                  <a:pt x="53812" y="21600"/>
                </a:lnTo>
                <a:lnTo>
                  <a:pt x="52412" y="20200"/>
                </a:lnTo>
                <a:lnTo>
                  <a:pt x="52412" y="1400"/>
                </a:lnTo>
                <a:close/>
              </a:path>
              <a:path fill="darkenLess" w="53812" h="21600">
                <a:moveTo>
                  <a:pt x="53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2" y="20200"/>
                </a:lnTo>
                <a:close/>
              </a:path>
              <a:path fill="lighten" w="53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12" h="21600">
                <a:moveTo>
                  <a:pt x="19899" y="3794"/>
                </a:moveTo>
                <a:lnTo>
                  <a:pt x="33912" y="10800"/>
                </a:lnTo>
                <a:lnTo>
                  <a:pt x="19899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 rot="10800000">
            <a:off x="6588000" y="3225960"/>
            <a:ext cx="503280" cy="142560"/>
          </a:xfrm>
          <a:custGeom>
            <a:avLst/>
            <a:gdLst>
              <a:gd name="textAreaLeft" fmla="*/ 9000 w 503280"/>
              <a:gd name="textAreaRight" fmla="*/ 494280 w 50328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76117" h="21600">
                <a:moveTo>
                  <a:pt x="0" y="0"/>
                </a:moveTo>
                <a:lnTo>
                  <a:pt x="76117" y="0"/>
                </a:lnTo>
                <a:lnTo>
                  <a:pt x="76117" y="21600"/>
                </a:lnTo>
                <a:lnTo>
                  <a:pt x="0" y="21600"/>
                </a:lnTo>
                <a:close/>
              </a:path>
              <a:path fill="lightenLess" w="76117" h="21600">
                <a:moveTo>
                  <a:pt x="0" y="0"/>
                </a:moveTo>
                <a:lnTo>
                  <a:pt x="76117" y="0"/>
                </a:lnTo>
                <a:lnTo>
                  <a:pt x="74717" y="1400"/>
                </a:lnTo>
                <a:lnTo>
                  <a:pt x="1400" y="1400"/>
                </a:lnTo>
                <a:close/>
              </a:path>
              <a:path fill="darken" w="76117" h="21600">
                <a:moveTo>
                  <a:pt x="76117" y="0"/>
                </a:moveTo>
                <a:lnTo>
                  <a:pt x="76117" y="21600"/>
                </a:lnTo>
                <a:lnTo>
                  <a:pt x="74717" y="20200"/>
                </a:lnTo>
                <a:lnTo>
                  <a:pt x="74717" y="1400"/>
                </a:lnTo>
                <a:close/>
              </a:path>
              <a:path fill="darkenLess" w="76117" h="21600">
                <a:moveTo>
                  <a:pt x="76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717" y="20200"/>
                </a:lnTo>
                <a:close/>
              </a:path>
              <a:path fill="lighten" w="76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117" h="21600">
                <a:moveTo>
                  <a:pt x="31052" y="10800"/>
                </a:moveTo>
                <a:lnTo>
                  <a:pt x="45065" y="3794"/>
                </a:lnTo>
                <a:lnTo>
                  <a:pt x="45065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 rot="10800000">
            <a:off x="6012000" y="3428640"/>
            <a:ext cx="503280" cy="142920"/>
          </a:xfrm>
          <a:custGeom>
            <a:avLst/>
            <a:gdLst>
              <a:gd name="textAreaLeft" fmla="*/ 9000 w 503280"/>
              <a:gd name="textAreaRight" fmla="*/ 494280 w 50328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926" h="21600">
                <a:moveTo>
                  <a:pt x="0" y="0"/>
                </a:moveTo>
                <a:lnTo>
                  <a:pt x="75926" y="0"/>
                </a:lnTo>
                <a:lnTo>
                  <a:pt x="75926" y="21600"/>
                </a:lnTo>
                <a:lnTo>
                  <a:pt x="0" y="21600"/>
                </a:lnTo>
                <a:close/>
              </a:path>
              <a:path fill="lightenLess" w="75926" h="21600">
                <a:moveTo>
                  <a:pt x="0" y="0"/>
                </a:moveTo>
                <a:lnTo>
                  <a:pt x="75926" y="0"/>
                </a:lnTo>
                <a:lnTo>
                  <a:pt x="74526" y="1400"/>
                </a:lnTo>
                <a:lnTo>
                  <a:pt x="1400" y="1400"/>
                </a:lnTo>
                <a:close/>
              </a:path>
              <a:path fill="darken" w="75926" h="21600">
                <a:moveTo>
                  <a:pt x="75926" y="0"/>
                </a:moveTo>
                <a:lnTo>
                  <a:pt x="75926" y="21600"/>
                </a:lnTo>
                <a:lnTo>
                  <a:pt x="74526" y="20200"/>
                </a:lnTo>
                <a:lnTo>
                  <a:pt x="74526" y="1400"/>
                </a:lnTo>
                <a:close/>
              </a:path>
              <a:path fill="darkenLess" w="75926" h="21600">
                <a:moveTo>
                  <a:pt x="7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526" y="20200"/>
                </a:lnTo>
                <a:close/>
              </a:path>
              <a:path fill="lighten" w="7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926" h="21600">
                <a:moveTo>
                  <a:pt x="30956" y="10800"/>
                </a:moveTo>
                <a:lnTo>
                  <a:pt x="44969" y="3794"/>
                </a:lnTo>
                <a:lnTo>
                  <a:pt x="4496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 rot="10800000">
            <a:off x="5364000" y="3573000"/>
            <a:ext cx="503280" cy="142920"/>
          </a:xfrm>
          <a:custGeom>
            <a:avLst/>
            <a:gdLst>
              <a:gd name="textAreaLeft" fmla="*/ 9000 w 503280"/>
              <a:gd name="textAreaRight" fmla="*/ 494280 w 50328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926" h="21600">
                <a:moveTo>
                  <a:pt x="0" y="0"/>
                </a:moveTo>
                <a:lnTo>
                  <a:pt x="75926" y="0"/>
                </a:lnTo>
                <a:lnTo>
                  <a:pt x="75926" y="21600"/>
                </a:lnTo>
                <a:lnTo>
                  <a:pt x="0" y="21600"/>
                </a:lnTo>
                <a:close/>
              </a:path>
              <a:path fill="lightenLess" w="75926" h="21600">
                <a:moveTo>
                  <a:pt x="0" y="0"/>
                </a:moveTo>
                <a:lnTo>
                  <a:pt x="75926" y="0"/>
                </a:lnTo>
                <a:lnTo>
                  <a:pt x="74526" y="1400"/>
                </a:lnTo>
                <a:lnTo>
                  <a:pt x="1400" y="1400"/>
                </a:lnTo>
                <a:close/>
              </a:path>
              <a:path fill="darken" w="75926" h="21600">
                <a:moveTo>
                  <a:pt x="75926" y="0"/>
                </a:moveTo>
                <a:lnTo>
                  <a:pt x="75926" y="21600"/>
                </a:lnTo>
                <a:lnTo>
                  <a:pt x="74526" y="20200"/>
                </a:lnTo>
                <a:lnTo>
                  <a:pt x="74526" y="1400"/>
                </a:lnTo>
                <a:close/>
              </a:path>
              <a:path fill="darkenLess" w="75926" h="21600">
                <a:moveTo>
                  <a:pt x="7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526" y="20200"/>
                </a:lnTo>
                <a:close/>
              </a:path>
              <a:path fill="lighten" w="7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926" h="21600">
                <a:moveTo>
                  <a:pt x="30956" y="10800"/>
                </a:moveTo>
                <a:lnTo>
                  <a:pt x="44969" y="3794"/>
                </a:lnTo>
                <a:lnTo>
                  <a:pt x="4496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 rot="10800000">
            <a:off x="6588000" y="3946680"/>
            <a:ext cx="503280" cy="142560"/>
          </a:xfrm>
          <a:custGeom>
            <a:avLst/>
            <a:gdLst>
              <a:gd name="textAreaLeft" fmla="*/ 9000 w 503280"/>
              <a:gd name="textAreaRight" fmla="*/ 494280 w 50328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76117" h="21600">
                <a:moveTo>
                  <a:pt x="0" y="0"/>
                </a:moveTo>
                <a:lnTo>
                  <a:pt x="76117" y="0"/>
                </a:lnTo>
                <a:lnTo>
                  <a:pt x="76117" y="21600"/>
                </a:lnTo>
                <a:lnTo>
                  <a:pt x="0" y="21600"/>
                </a:lnTo>
                <a:close/>
              </a:path>
              <a:path fill="lightenLess" w="76117" h="21600">
                <a:moveTo>
                  <a:pt x="0" y="0"/>
                </a:moveTo>
                <a:lnTo>
                  <a:pt x="76117" y="0"/>
                </a:lnTo>
                <a:lnTo>
                  <a:pt x="74717" y="1400"/>
                </a:lnTo>
                <a:lnTo>
                  <a:pt x="1400" y="1400"/>
                </a:lnTo>
                <a:close/>
              </a:path>
              <a:path fill="darken" w="76117" h="21600">
                <a:moveTo>
                  <a:pt x="76117" y="0"/>
                </a:moveTo>
                <a:lnTo>
                  <a:pt x="76117" y="21600"/>
                </a:lnTo>
                <a:lnTo>
                  <a:pt x="74717" y="20200"/>
                </a:lnTo>
                <a:lnTo>
                  <a:pt x="74717" y="1400"/>
                </a:lnTo>
                <a:close/>
              </a:path>
              <a:path fill="darkenLess" w="76117" h="21600">
                <a:moveTo>
                  <a:pt x="76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717" y="20200"/>
                </a:lnTo>
                <a:close/>
              </a:path>
              <a:path fill="lighten" w="76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117" h="21600">
                <a:moveTo>
                  <a:pt x="31052" y="10800"/>
                </a:moveTo>
                <a:lnTo>
                  <a:pt x="45065" y="3794"/>
                </a:lnTo>
                <a:lnTo>
                  <a:pt x="45065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860640"/>
            <a:ext cx="1995480" cy="331920"/>
          </a:xfrm>
          <a:custGeom>
            <a:avLst/>
            <a:gdLst/>
            <a:ahLst/>
            <a:rect l="l" t="t" r="r" b="b"/>
            <a:pathLst>
              <a:path w="1665" h="209">
                <a:moveTo>
                  <a:pt x="0" y="0"/>
                </a:moveTo>
                <a:lnTo>
                  <a:pt x="1558" y="4"/>
                </a:lnTo>
                <a:lnTo>
                  <a:pt x="1665" y="20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4221000"/>
            <a:ext cx="1441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os dados de um determinado Contr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5181480" y="3776400"/>
            <a:ext cx="503280" cy="142920"/>
          </a:xfrm>
          <a:custGeom>
            <a:avLst/>
            <a:gdLst>
              <a:gd name="textAreaLeft" fmla="*/ 9000 w 503280"/>
              <a:gd name="textAreaRight" fmla="*/ 494280 w 50328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926" h="21600">
                <a:moveTo>
                  <a:pt x="0" y="0"/>
                </a:moveTo>
                <a:lnTo>
                  <a:pt x="75926" y="0"/>
                </a:lnTo>
                <a:lnTo>
                  <a:pt x="75926" y="21600"/>
                </a:lnTo>
                <a:lnTo>
                  <a:pt x="0" y="21600"/>
                </a:lnTo>
                <a:close/>
              </a:path>
              <a:path fill="lightenLess" w="75926" h="21600">
                <a:moveTo>
                  <a:pt x="0" y="0"/>
                </a:moveTo>
                <a:lnTo>
                  <a:pt x="75926" y="0"/>
                </a:lnTo>
                <a:lnTo>
                  <a:pt x="74526" y="1400"/>
                </a:lnTo>
                <a:lnTo>
                  <a:pt x="1400" y="1400"/>
                </a:lnTo>
                <a:close/>
              </a:path>
              <a:path fill="darken" w="75926" h="21600">
                <a:moveTo>
                  <a:pt x="75926" y="0"/>
                </a:moveTo>
                <a:lnTo>
                  <a:pt x="75926" y="21600"/>
                </a:lnTo>
                <a:lnTo>
                  <a:pt x="74526" y="20200"/>
                </a:lnTo>
                <a:lnTo>
                  <a:pt x="74526" y="1400"/>
                </a:lnTo>
                <a:close/>
              </a:path>
              <a:path fill="darkenLess" w="75926" h="21600">
                <a:moveTo>
                  <a:pt x="7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526" y="20200"/>
                </a:lnTo>
                <a:close/>
              </a:path>
              <a:path fill="lighten" w="7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926" h="21600">
                <a:moveTo>
                  <a:pt x="30956" y="10800"/>
                </a:moveTo>
                <a:lnTo>
                  <a:pt x="44969" y="3794"/>
                </a:lnTo>
                <a:lnTo>
                  <a:pt x="4496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3095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 rot="10800000">
            <a:off x="1258920" y="476280"/>
            <a:ext cx="792000" cy="216000"/>
          </a:xfrm>
          <a:custGeom>
            <a:avLst/>
            <a:gdLst>
              <a:gd name="textAreaLeft" fmla="*/ 13680 w 792000"/>
              <a:gd name="textAreaRight" fmla="*/ 778320 w 79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04" h="21600">
                <a:moveTo>
                  <a:pt x="0" y="0"/>
                </a:moveTo>
                <a:lnTo>
                  <a:pt x="79104" y="0"/>
                </a:lnTo>
                <a:lnTo>
                  <a:pt x="79104" y="21600"/>
                </a:lnTo>
                <a:lnTo>
                  <a:pt x="0" y="21600"/>
                </a:lnTo>
                <a:close/>
              </a:path>
              <a:path fill="lightenLess" w="79104" h="21600">
                <a:moveTo>
                  <a:pt x="0" y="0"/>
                </a:moveTo>
                <a:lnTo>
                  <a:pt x="79104" y="0"/>
                </a:lnTo>
                <a:lnTo>
                  <a:pt x="77704" y="1400"/>
                </a:lnTo>
                <a:lnTo>
                  <a:pt x="1400" y="1400"/>
                </a:lnTo>
                <a:close/>
              </a:path>
              <a:path fill="darken" w="79104" h="21600">
                <a:moveTo>
                  <a:pt x="79104" y="0"/>
                </a:moveTo>
                <a:lnTo>
                  <a:pt x="79104" y="21600"/>
                </a:lnTo>
                <a:lnTo>
                  <a:pt x="77704" y="20200"/>
                </a:lnTo>
                <a:lnTo>
                  <a:pt x="77704" y="1400"/>
                </a:lnTo>
                <a:close/>
              </a:path>
              <a:path fill="darkenLess" w="79104" h="21600">
                <a:moveTo>
                  <a:pt x="7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04" y="20200"/>
                </a:lnTo>
                <a:close/>
              </a:path>
              <a:path fill="lighten" w="7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04" h="21600">
                <a:moveTo>
                  <a:pt x="32546" y="3794"/>
                </a:moveTo>
                <a:lnTo>
                  <a:pt x="46559" y="10800"/>
                </a:lnTo>
                <a:lnTo>
                  <a:pt x="32546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351640" cy="5342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0360" y="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a d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 rot="10800000">
            <a:off x="1258920" y="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14123" y="3794"/>
                </a:moveTo>
                <a:lnTo>
                  <a:pt x="28136" y="10800"/>
                </a:lnTo>
                <a:lnTo>
                  <a:pt x="14123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76500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ntes de informar a data de publicação do Contrato, é necessário efetuar a geração da “Especificação do Processo” (VINCULAÇÃO ENTRE OS SISTEMAS SIAD – SIAFI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989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Esse procedimento é feito no modulo de comp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4036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596360" y="6093000"/>
            <a:ext cx="1081080" cy="433080"/>
          </a:xfrm>
          <a:custGeom>
            <a:avLst/>
            <a:gdLst>
              <a:gd name="textAreaLeft" fmla="*/ 28080 w 1081080"/>
              <a:gd name="textAreaRight" fmla="*/ 1053000 w 10810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53892" h="21600">
                <a:moveTo>
                  <a:pt x="0" y="0"/>
                </a:moveTo>
                <a:lnTo>
                  <a:pt x="53892" y="0"/>
                </a:lnTo>
                <a:lnTo>
                  <a:pt x="53892" y="21600"/>
                </a:lnTo>
                <a:lnTo>
                  <a:pt x="0" y="21600"/>
                </a:lnTo>
                <a:close/>
              </a:path>
              <a:path fill="lightenLess" w="53892" h="21600">
                <a:moveTo>
                  <a:pt x="0" y="0"/>
                </a:moveTo>
                <a:lnTo>
                  <a:pt x="53892" y="0"/>
                </a:lnTo>
                <a:lnTo>
                  <a:pt x="52492" y="1400"/>
                </a:lnTo>
                <a:lnTo>
                  <a:pt x="1400" y="1400"/>
                </a:lnTo>
                <a:close/>
              </a:path>
              <a:path fill="darken" w="53892" h="21600">
                <a:moveTo>
                  <a:pt x="53892" y="0"/>
                </a:moveTo>
                <a:lnTo>
                  <a:pt x="53892" y="21600"/>
                </a:lnTo>
                <a:lnTo>
                  <a:pt x="52492" y="20200"/>
                </a:lnTo>
                <a:lnTo>
                  <a:pt x="52492" y="1400"/>
                </a:lnTo>
                <a:close/>
              </a:path>
              <a:path fill="darkenLess" w="53892" h="21600">
                <a:moveTo>
                  <a:pt x="5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92" y="20200"/>
                </a:lnTo>
                <a:close/>
              </a:path>
              <a:path fill="lighten" w="5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92" h="21600">
                <a:moveTo>
                  <a:pt x="19940" y="3794"/>
                </a:moveTo>
                <a:lnTo>
                  <a:pt x="33953" y="10800"/>
                </a:lnTo>
                <a:lnTo>
                  <a:pt x="19940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PRÓ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 especificação/ informa pub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378936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74160" cy="5305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295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 especificação/ informa pub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60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0360" y="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ando con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3071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90792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Esse procedimento permite arquivar contratos ainda não public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43640" y="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a natur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3095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8094600" cy="466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11970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fazer a alteração da natureza do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42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372360" y="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Cons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2200" cy="216000"/>
          </a:xfrm>
          <a:custGeom>
            <a:avLst/>
            <a:gdLst>
              <a:gd name="textAreaLeft" fmla="*/ 13680 w 862200"/>
              <a:gd name="textAreaRight" fmla="*/ 848520 w 8622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112" h="21600">
                <a:moveTo>
                  <a:pt x="0" y="0"/>
                </a:moveTo>
                <a:lnTo>
                  <a:pt x="86112" y="0"/>
                </a:lnTo>
                <a:lnTo>
                  <a:pt x="86112" y="21600"/>
                </a:lnTo>
                <a:lnTo>
                  <a:pt x="0" y="21600"/>
                </a:lnTo>
                <a:close/>
              </a:path>
              <a:path fill="lightenLess" w="86112" h="21600">
                <a:moveTo>
                  <a:pt x="0" y="0"/>
                </a:moveTo>
                <a:lnTo>
                  <a:pt x="86112" y="0"/>
                </a:lnTo>
                <a:lnTo>
                  <a:pt x="84712" y="1400"/>
                </a:lnTo>
                <a:lnTo>
                  <a:pt x="1400" y="1400"/>
                </a:lnTo>
                <a:close/>
              </a:path>
              <a:path fill="darken" w="86112" h="21600">
                <a:moveTo>
                  <a:pt x="86112" y="0"/>
                </a:moveTo>
                <a:lnTo>
                  <a:pt x="86112" y="21600"/>
                </a:lnTo>
                <a:lnTo>
                  <a:pt x="84712" y="20200"/>
                </a:lnTo>
                <a:lnTo>
                  <a:pt x="84712" y="1400"/>
                </a:lnTo>
                <a:close/>
              </a:path>
              <a:path fill="darkenLess" w="86112" h="21600">
                <a:moveTo>
                  <a:pt x="86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12" y="20200"/>
                </a:lnTo>
                <a:close/>
              </a:path>
              <a:path fill="lighten" w="86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12" h="21600">
                <a:moveTo>
                  <a:pt x="36050" y="3794"/>
                </a:moveTo>
                <a:lnTo>
                  <a:pt x="50063" y="10800"/>
                </a:lnTo>
                <a:lnTo>
                  <a:pt x="36050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 rot="10800000">
            <a:off x="1186920" y="0"/>
            <a:ext cx="862200" cy="404640"/>
          </a:xfrm>
          <a:custGeom>
            <a:avLst/>
            <a:gdLst>
              <a:gd name="textAreaLeft" fmla="*/ 25920 w 862200"/>
              <a:gd name="textAreaRight" fmla="*/ 836280 w 8622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03" h="21600">
                <a:moveTo>
                  <a:pt x="0" y="0"/>
                </a:moveTo>
                <a:lnTo>
                  <a:pt x="46003" y="0"/>
                </a:lnTo>
                <a:lnTo>
                  <a:pt x="46003" y="21600"/>
                </a:lnTo>
                <a:lnTo>
                  <a:pt x="0" y="21600"/>
                </a:lnTo>
                <a:close/>
              </a:path>
              <a:path fill="lightenLess" w="46003" h="21600">
                <a:moveTo>
                  <a:pt x="0" y="0"/>
                </a:moveTo>
                <a:lnTo>
                  <a:pt x="46003" y="0"/>
                </a:lnTo>
                <a:lnTo>
                  <a:pt x="44603" y="1400"/>
                </a:lnTo>
                <a:lnTo>
                  <a:pt x="1400" y="1400"/>
                </a:lnTo>
                <a:close/>
              </a:path>
              <a:path fill="darken" w="46003" h="21600">
                <a:moveTo>
                  <a:pt x="46003" y="0"/>
                </a:moveTo>
                <a:lnTo>
                  <a:pt x="46003" y="21600"/>
                </a:lnTo>
                <a:lnTo>
                  <a:pt x="44603" y="20200"/>
                </a:lnTo>
                <a:lnTo>
                  <a:pt x="44603" y="1400"/>
                </a:lnTo>
                <a:close/>
              </a:path>
              <a:path fill="darkenLess" w="46003" h="21600">
                <a:moveTo>
                  <a:pt x="46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3" y="20200"/>
                </a:lnTo>
                <a:close/>
              </a:path>
              <a:path fill="lighten" w="46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3" h="21600">
                <a:moveTo>
                  <a:pt x="15995" y="3794"/>
                </a:moveTo>
                <a:lnTo>
                  <a:pt x="30008" y="10800"/>
                </a:lnTo>
                <a:lnTo>
                  <a:pt x="15995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4716360" y="328464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6877080" y="342900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6300720" y="364500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6443640" y="3860640"/>
            <a:ext cx="503280" cy="14472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74984" h="21600">
                <a:moveTo>
                  <a:pt x="0" y="0"/>
                </a:moveTo>
                <a:lnTo>
                  <a:pt x="74984" y="0"/>
                </a:lnTo>
                <a:lnTo>
                  <a:pt x="74984" y="21600"/>
                </a:lnTo>
                <a:lnTo>
                  <a:pt x="0" y="21600"/>
                </a:lnTo>
                <a:close/>
              </a:path>
              <a:path fill="lightenLess" w="74984" h="21600">
                <a:moveTo>
                  <a:pt x="0" y="0"/>
                </a:moveTo>
                <a:lnTo>
                  <a:pt x="74984" y="0"/>
                </a:lnTo>
                <a:lnTo>
                  <a:pt x="73584" y="1400"/>
                </a:lnTo>
                <a:lnTo>
                  <a:pt x="1400" y="1400"/>
                </a:lnTo>
                <a:close/>
              </a:path>
              <a:path fill="darken" w="74984" h="21600">
                <a:moveTo>
                  <a:pt x="74984" y="0"/>
                </a:moveTo>
                <a:lnTo>
                  <a:pt x="74984" y="21600"/>
                </a:lnTo>
                <a:lnTo>
                  <a:pt x="73584" y="20200"/>
                </a:lnTo>
                <a:lnTo>
                  <a:pt x="73584" y="1400"/>
                </a:lnTo>
                <a:close/>
              </a:path>
              <a:path fill="darkenLess" w="74984" h="21600">
                <a:moveTo>
                  <a:pt x="74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84" y="20200"/>
                </a:lnTo>
                <a:close/>
              </a:path>
              <a:path fill="lighten" w="74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984" h="21600">
                <a:moveTo>
                  <a:pt x="30485" y="3794"/>
                </a:moveTo>
                <a:lnTo>
                  <a:pt x="44498" y="10800"/>
                </a:lnTo>
                <a:lnTo>
                  <a:pt x="30485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8" action="ppaction://hlinksldjump"/>
          </p:cNvPr>
          <p:cNvSpPr/>
          <p:nvPr/>
        </p:nvSpPr>
        <p:spPr>
          <a:xfrm>
            <a:off x="5508720" y="4005360"/>
            <a:ext cx="503280" cy="14436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70" h="21600">
                <a:moveTo>
                  <a:pt x="0" y="0"/>
                </a:moveTo>
                <a:lnTo>
                  <a:pt x="75170" y="0"/>
                </a:lnTo>
                <a:lnTo>
                  <a:pt x="75170" y="21600"/>
                </a:lnTo>
                <a:lnTo>
                  <a:pt x="0" y="21600"/>
                </a:lnTo>
                <a:close/>
              </a:path>
              <a:path fill="lightenLess" w="75170" h="21600">
                <a:moveTo>
                  <a:pt x="0" y="0"/>
                </a:moveTo>
                <a:lnTo>
                  <a:pt x="75170" y="0"/>
                </a:lnTo>
                <a:lnTo>
                  <a:pt x="73770" y="1400"/>
                </a:lnTo>
                <a:lnTo>
                  <a:pt x="1400" y="1400"/>
                </a:lnTo>
                <a:close/>
              </a:path>
              <a:path fill="darken" w="75170" h="21600">
                <a:moveTo>
                  <a:pt x="75170" y="0"/>
                </a:moveTo>
                <a:lnTo>
                  <a:pt x="75170" y="21600"/>
                </a:lnTo>
                <a:lnTo>
                  <a:pt x="73770" y="20200"/>
                </a:lnTo>
                <a:lnTo>
                  <a:pt x="73770" y="1400"/>
                </a:lnTo>
                <a:close/>
              </a:path>
              <a:path fill="darkenLess" w="75170" h="21600">
                <a:moveTo>
                  <a:pt x="7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70" y="20200"/>
                </a:lnTo>
                <a:close/>
              </a:path>
              <a:path fill="lighten" w="7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70" h="21600">
                <a:moveTo>
                  <a:pt x="30579" y="3794"/>
                </a:moveTo>
                <a:lnTo>
                  <a:pt x="44592" y="10800"/>
                </a:lnTo>
                <a:lnTo>
                  <a:pt x="305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9" action="ppaction://hlinksldjump"/>
          </p:cNvPr>
          <p:cNvSpPr/>
          <p:nvPr/>
        </p:nvSpPr>
        <p:spPr>
          <a:xfrm>
            <a:off x="6877080" y="4221000"/>
            <a:ext cx="503280" cy="144720"/>
          </a:xfrm>
          <a:custGeom>
            <a:avLst/>
            <a:gdLst>
              <a:gd name="textAreaLeft" fmla="*/ 9360 w 503280"/>
              <a:gd name="textAreaRight" fmla="*/ 493920 w 503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74984" h="21600">
                <a:moveTo>
                  <a:pt x="0" y="0"/>
                </a:moveTo>
                <a:lnTo>
                  <a:pt x="74984" y="0"/>
                </a:lnTo>
                <a:lnTo>
                  <a:pt x="74984" y="21600"/>
                </a:lnTo>
                <a:lnTo>
                  <a:pt x="0" y="21600"/>
                </a:lnTo>
                <a:close/>
              </a:path>
              <a:path fill="lightenLess" w="74984" h="21600">
                <a:moveTo>
                  <a:pt x="0" y="0"/>
                </a:moveTo>
                <a:lnTo>
                  <a:pt x="74984" y="0"/>
                </a:lnTo>
                <a:lnTo>
                  <a:pt x="73584" y="1400"/>
                </a:lnTo>
                <a:lnTo>
                  <a:pt x="1400" y="1400"/>
                </a:lnTo>
                <a:close/>
              </a:path>
              <a:path fill="darken" w="74984" h="21600">
                <a:moveTo>
                  <a:pt x="74984" y="0"/>
                </a:moveTo>
                <a:lnTo>
                  <a:pt x="74984" y="21600"/>
                </a:lnTo>
                <a:lnTo>
                  <a:pt x="73584" y="20200"/>
                </a:lnTo>
                <a:lnTo>
                  <a:pt x="73584" y="1400"/>
                </a:lnTo>
                <a:close/>
              </a:path>
              <a:path fill="darkenLess" w="74984" h="21600">
                <a:moveTo>
                  <a:pt x="74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84" y="20200"/>
                </a:lnTo>
                <a:close/>
              </a:path>
              <a:path fill="lighten" w="74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984" h="21600">
                <a:moveTo>
                  <a:pt x="30485" y="3794"/>
                </a:moveTo>
                <a:lnTo>
                  <a:pt x="44498" y="10800"/>
                </a:lnTo>
                <a:lnTo>
                  <a:pt x="30485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443640" y="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 dados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2200" cy="404640"/>
          </a:xfrm>
          <a:custGeom>
            <a:avLst/>
            <a:gdLst>
              <a:gd name="textAreaLeft" fmla="*/ 25920 w 862200"/>
              <a:gd name="textAreaRight" fmla="*/ 836280 w 8622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03" h="21600">
                <a:moveTo>
                  <a:pt x="0" y="0"/>
                </a:moveTo>
                <a:lnTo>
                  <a:pt x="46003" y="0"/>
                </a:lnTo>
                <a:lnTo>
                  <a:pt x="46003" y="21600"/>
                </a:lnTo>
                <a:lnTo>
                  <a:pt x="0" y="21600"/>
                </a:lnTo>
                <a:close/>
              </a:path>
              <a:path fill="lightenLess" w="46003" h="21600">
                <a:moveTo>
                  <a:pt x="0" y="0"/>
                </a:moveTo>
                <a:lnTo>
                  <a:pt x="46003" y="0"/>
                </a:lnTo>
                <a:lnTo>
                  <a:pt x="44603" y="1400"/>
                </a:lnTo>
                <a:lnTo>
                  <a:pt x="1400" y="1400"/>
                </a:lnTo>
                <a:close/>
              </a:path>
              <a:path fill="darken" w="46003" h="21600">
                <a:moveTo>
                  <a:pt x="46003" y="0"/>
                </a:moveTo>
                <a:lnTo>
                  <a:pt x="46003" y="21600"/>
                </a:lnTo>
                <a:lnTo>
                  <a:pt x="44603" y="20200"/>
                </a:lnTo>
                <a:lnTo>
                  <a:pt x="44603" y="1400"/>
                </a:lnTo>
                <a:close/>
              </a:path>
              <a:path fill="darkenLess" w="46003" h="21600">
                <a:moveTo>
                  <a:pt x="46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3" y="20200"/>
                </a:lnTo>
                <a:close/>
              </a:path>
              <a:path fill="lighten" w="46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3" h="21600">
                <a:moveTo>
                  <a:pt x="15995" y="3794"/>
                </a:moveTo>
                <a:lnTo>
                  <a:pt x="30008" y="10800"/>
                </a:lnTo>
                <a:lnTo>
                  <a:pt x="15995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39640" y="1197000"/>
            <a:ext cx="8170920" cy="49179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867280" y="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 contratos a v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2200" cy="404640"/>
          </a:xfrm>
          <a:custGeom>
            <a:avLst/>
            <a:gdLst>
              <a:gd name="textAreaLeft" fmla="*/ 25920 w 862200"/>
              <a:gd name="textAreaRight" fmla="*/ 836280 w 8622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03" h="21600">
                <a:moveTo>
                  <a:pt x="0" y="0"/>
                </a:moveTo>
                <a:lnTo>
                  <a:pt x="46003" y="0"/>
                </a:lnTo>
                <a:lnTo>
                  <a:pt x="46003" y="21600"/>
                </a:lnTo>
                <a:lnTo>
                  <a:pt x="0" y="21600"/>
                </a:lnTo>
                <a:close/>
              </a:path>
              <a:path fill="lightenLess" w="46003" h="21600">
                <a:moveTo>
                  <a:pt x="0" y="0"/>
                </a:moveTo>
                <a:lnTo>
                  <a:pt x="46003" y="0"/>
                </a:lnTo>
                <a:lnTo>
                  <a:pt x="44603" y="1400"/>
                </a:lnTo>
                <a:lnTo>
                  <a:pt x="1400" y="1400"/>
                </a:lnTo>
                <a:close/>
              </a:path>
              <a:path fill="darken" w="46003" h="21600">
                <a:moveTo>
                  <a:pt x="46003" y="0"/>
                </a:moveTo>
                <a:lnTo>
                  <a:pt x="46003" y="21600"/>
                </a:lnTo>
                <a:lnTo>
                  <a:pt x="44603" y="20200"/>
                </a:lnTo>
                <a:lnTo>
                  <a:pt x="44603" y="1400"/>
                </a:lnTo>
                <a:close/>
              </a:path>
              <a:path fill="darkenLess" w="46003" h="21600">
                <a:moveTo>
                  <a:pt x="46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3" y="20200"/>
                </a:lnTo>
                <a:close/>
              </a:path>
              <a:path fill="lighten" w="46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3" h="21600">
                <a:moveTo>
                  <a:pt x="15995" y="3794"/>
                </a:moveTo>
                <a:lnTo>
                  <a:pt x="30008" y="10800"/>
                </a:lnTo>
                <a:lnTo>
                  <a:pt x="15995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2200" cy="216000"/>
          </a:xfrm>
          <a:custGeom>
            <a:avLst/>
            <a:gdLst>
              <a:gd name="textAreaLeft" fmla="*/ 13680 w 862200"/>
              <a:gd name="textAreaRight" fmla="*/ 848520 w 8622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112" h="21600">
                <a:moveTo>
                  <a:pt x="0" y="0"/>
                </a:moveTo>
                <a:lnTo>
                  <a:pt x="86112" y="0"/>
                </a:lnTo>
                <a:lnTo>
                  <a:pt x="86112" y="21600"/>
                </a:lnTo>
                <a:lnTo>
                  <a:pt x="0" y="21600"/>
                </a:lnTo>
                <a:close/>
              </a:path>
              <a:path fill="lightenLess" w="86112" h="21600">
                <a:moveTo>
                  <a:pt x="0" y="0"/>
                </a:moveTo>
                <a:lnTo>
                  <a:pt x="86112" y="0"/>
                </a:lnTo>
                <a:lnTo>
                  <a:pt x="84712" y="1400"/>
                </a:lnTo>
                <a:lnTo>
                  <a:pt x="1400" y="1400"/>
                </a:lnTo>
                <a:close/>
              </a:path>
              <a:path fill="darken" w="86112" h="21600">
                <a:moveTo>
                  <a:pt x="86112" y="0"/>
                </a:moveTo>
                <a:lnTo>
                  <a:pt x="86112" y="21600"/>
                </a:lnTo>
                <a:lnTo>
                  <a:pt x="84712" y="20200"/>
                </a:lnTo>
                <a:lnTo>
                  <a:pt x="84712" y="1400"/>
                </a:lnTo>
                <a:close/>
              </a:path>
              <a:path fill="darkenLess" w="86112" h="21600">
                <a:moveTo>
                  <a:pt x="86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12" y="20200"/>
                </a:lnTo>
                <a:close/>
              </a:path>
              <a:path fill="lighten" w="86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12" h="21600">
                <a:moveTo>
                  <a:pt x="36050" y="3794"/>
                </a:moveTo>
                <a:lnTo>
                  <a:pt x="50063" y="10800"/>
                </a:lnTo>
                <a:lnTo>
                  <a:pt x="36050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8242560" cy="445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1052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ara essa consulta é possível determinar o intervalo de tempo pelo numero de  d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a50021"/>
                </a:solidFill>
                <a:latin typeface="Arial"/>
              </a:rPr>
              <a:t>EXECUTANDO ALGUNS PROCEDIMENTOS AINDA NO MODULO DE COMPR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580000" y="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 Contrato P/ percentual de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170920" cy="4846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21964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 acompanhamento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70920" cy="5278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96000" y="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tísticas de contratos p/ exercí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70920" cy="5278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580000" y="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tística por situ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8207280" cy="4365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98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ara essa consulta é possível determinar o tipo (serviço, aluguel ou fornecimento) e a situação (ativo, encerrado ou rescindido) do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56360" y="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Impri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907920"/>
            <a:ext cx="2016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os dados de um Contr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1700280"/>
            <a:ext cx="1944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a relação dos contratos que irão vencer em um determinado período (estipulado  em dia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3860640"/>
            <a:ext cx="20876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a relação de contratos para um determinado percentual de exec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5832360" cy="5302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859280" y="3997440"/>
            <a:ext cx="1567080" cy="1436400"/>
          </a:xfrm>
          <a:custGeom>
            <a:avLst/>
            <a:gdLst/>
            <a:ahLst/>
            <a:rect l="l" t="t" r="r" b="b"/>
            <a:pathLst>
              <a:path w="987" h="905">
                <a:moveTo>
                  <a:pt x="0" y="5"/>
                </a:moveTo>
                <a:lnTo>
                  <a:pt x="420" y="0"/>
                </a:lnTo>
                <a:lnTo>
                  <a:pt x="987" y="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3573360"/>
            <a:ext cx="2036880" cy="1128960"/>
          </a:xfrm>
          <a:custGeom>
            <a:avLst/>
            <a:gdLst/>
            <a:ahLst/>
            <a:rect l="l" t="t" r="r" b="b"/>
            <a:pathLst>
              <a:path w="1283" h="711">
                <a:moveTo>
                  <a:pt x="0" y="0"/>
                </a:moveTo>
                <a:lnTo>
                  <a:pt x="757" y="4"/>
                </a:lnTo>
                <a:lnTo>
                  <a:pt x="1283" y="71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1841400"/>
            <a:ext cx="1697040" cy="1546200"/>
          </a:xfrm>
          <a:custGeom>
            <a:avLst/>
            <a:gdLst/>
            <a:ahLst/>
            <a:rect l="l" t="t" r="r" b="b"/>
            <a:pathLst>
              <a:path w="1069" h="974">
                <a:moveTo>
                  <a:pt x="0" y="974"/>
                </a:moveTo>
                <a:lnTo>
                  <a:pt x="567" y="963"/>
                </a:lnTo>
                <a:lnTo>
                  <a:pt x="10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236600"/>
            <a:ext cx="3197160" cy="1952640"/>
          </a:xfrm>
          <a:custGeom>
            <a:avLst/>
            <a:gdLst/>
            <a:ahLst/>
            <a:rect l="l" t="t" r="r" b="b"/>
            <a:pathLst>
              <a:path w="2014" h="1230">
                <a:moveTo>
                  <a:pt x="0" y="1230"/>
                </a:moveTo>
                <a:lnTo>
                  <a:pt x="1368" y="1229"/>
                </a:lnTo>
                <a:lnTo>
                  <a:pt x="20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4572000" y="364500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5445000"/>
            <a:ext cx="25909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a estatística dos contratos de acordo com o exercício, tipo e situ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1186920" y="5014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148360" y="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imi – relatórios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97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Essa função permite que seja gerado um relatório (em formato .txt) e enviado para um diretório da WEB – Portal do Compr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064720" cy="4309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Voltar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17080" y="162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Less" w="21600" h="21708">
                <a:moveTo>
                  <a:pt x="5273" y="4039"/>
                </a:moveTo>
                <a:lnTo>
                  <a:pt x="12271" y="4039"/>
                </a:lnTo>
                <a:lnTo>
                  <a:pt x="16327" y="7538"/>
                </a:lnTo>
                <a:lnTo>
                  <a:pt x="16327" y="17669"/>
                </a:lnTo>
                <a:lnTo>
                  <a:pt x="5273" y="17669"/>
                </a:lnTo>
                <a:close/>
              </a:path>
              <a:path fill="darken" w="21600" h="21708">
                <a:moveTo>
                  <a:pt x="12271" y="4039"/>
                </a:moveTo>
                <a:lnTo>
                  <a:pt x="16327" y="7538"/>
                </a:lnTo>
                <a:lnTo>
                  <a:pt x="12271" y="75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724360" y="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Locação imó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836640"/>
            <a:ext cx="1873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ltera uma planilha incluí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8360" y="1628640"/>
            <a:ext cx="1944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Exclui uma planilha incluí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3716280"/>
            <a:ext cx="2016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onta limites de tributos e taxas de locação (para processos que possuem contratadas não participantes do Contrat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249228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onsulta planilh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7080" y="299736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planil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1243080"/>
            <a:ext cx="5759280" cy="521028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4356000" y="2997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1125360"/>
            <a:ext cx="2468520" cy="2208240"/>
          </a:xfrm>
          <a:custGeom>
            <a:avLst/>
            <a:gdLst/>
            <a:ahLst/>
            <a:rect l="l" t="t" r="r" b="b"/>
            <a:pathLst>
              <a:path w="1555" h="1391">
                <a:moveTo>
                  <a:pt x="0" y="1391"/>
                </a:moveTo>
                <a:lnTo>
                  <a:pt x="971" y="1388"/>
                </a:lnTo>
                <a:lnTo>
                  <a:pt x="155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1773360"/>
            <a:ext cx="2554560" cy="1687320"/>
          </a:xfrm>
          <a:custGeom>
            <a:avLst/>
            <a:gdLst/>
            <a:ahLst/>
            <a:rect l="l" t="t" r="r" b="b"/>
            <a:pathLst>
              <a:path w="1609" h="1063">
                <a:moveTo>
                  <a:pt x="0" y="1063"/>
                </a:moveTo>
                <a:lnTo>
                  <a:pt x="1181" y="1062"/>
                </a:lnTo>
                <a:lnTo>
                  <a:pt x="16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835360"/>
            <a:ext cx="2168640" cy="809640"/>
          </a:xfrm>
          <a:custGeom>
            <a:avLst/>
            <a:gdLst/>
            <a:ahLst/>
            <a:rect l="l" t="t" r="r" b="b"/>
            <a:pathLst>
              <a:path w="1366" h="510">
                <a:moveTo>
                  <a:pt x="0" y="510"/>
                </a:moveTo>
                <a:lnTo>
                  <a:pt x="1160" y="502"/>
                </a:lnTo>
                <a:lnTo>
                  <a:pt x="13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3225960"/>
            <a:ext cx="2317680" cy="571320"/>
          </a:xfrm>
          <a:custGeom>
            <a:avLst/>
            <a:gdLst/>
            <a:ahLst/>
            <a:rect l="l" t="t" r="r" b="b"/>
            <a:pathLst>
              <a:path w="1460" h="360">
                <a:moveTo>
                  <a:pt x="0" y="360"/>
                </a:moveTo>
                <a:lnTo>
                  <a:pt x="1304" y="354"/>
                </a:lnTo>
                <a:lnTo>
                  <a:pt x="14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5435640" y="3860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42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443640" y="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i Planilha Lo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39640" y="1197000"/>
            <a:ext cx="8097840" cy="52322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56360" y="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r Contrato de lo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7343640" cy="4243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0920" y="907920"/>
            <a:ext cx="87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Neste momento, são informados os seguintes d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 Unidade de compra, modalidade de licitação, critério de julgamento e a dotação orçamentá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14972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8028000" y="5877000"/>
            <a:ext cx="720720" cy="6462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6200"/>
              <a:gd name="textAreaBottom" fmla="*/ 604440 h 646200"/>
            </a:gdLst>
            <a:ahLst/>
            <a:rect l="textAreaLeft" t="textAreaTop" r="textAreaRight" b="textAreaBottom"/>
            <a:pathLst>
              <a:path w="24090" h="21600">
                <a:moveTo>
                  <a:pt x="0" y="0"/>
                </a:moveTo>
                <a:lnTo>
                  <a:pt x="24090" y="0"/>
                </a:lnTo>
                <a:lnTo>
                  <a:pt x="24090" y="21600"/>
                </a:lnTo>
                <a:lnTo>
                  <a:pt x="0" y="21600"/>
                </a:lnTo>
                <a:close/>
              </a:path>
              <a:path fill="lightenLess" w="24090" h="21600">
                <a:moveTo>
                  <a:pt x="0" y="0"/>
                </a:moveTo>
                <a:lnTo>
                  <a:pt x="24090" y="0"/>
                </a:lnTo>
                <a:lnTo>
                  <a:pt x="22690" y="1400"/>
                </a:lnTo>
                <a:lnTo>
                  <a:pt x="1400" y="1400"/>
                </a:lnTo>
                <a:close/>
              </a:path>
              <a:path fill="darken" w="24090" h="21600">
                <a:moveTo>
                  <a:pt x="24090" y="0"/>
                </a:moveTo>
                <a:lnTo>
                  <a:pt x="24090" y="21600"/>
                </a:lnTo>
                <a:lnTo>
                  <a:pt x="22690" y="20200"/>
                </a:lnTo>
                <a:lnTo>
                  <a:pt x="22690" y="1400"/>
                </a:lnTo>
                <a:close/>
              </a:path>
              <a:path fill="darkenLess" w="24090" h="21600">
                <a:moveTo>
                  <a:pt x="24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90" y="20200"/>
                </a:lnTo>
                <a:close/>
              </a:path>
              <a:path fill="lighten" w="24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90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12000" y="551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Pró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29264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443700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581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522936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156360" y="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r Contrato de lo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7129440" cy="4392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907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pós a confirmação da geração do Contrato, o sistema informa ao usuário o numero do pedido, processo e o Contrato ge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56536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7640" cy="386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268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 geração é determinada pelo “Prazo de Entrega” selecionado pelo usuário no cadastramento d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056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DETERMINANDO A GERAÇÃO DE CONTRATO PARA O PROCESSO SI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221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940360" y="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Termo Ad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5976720" cy="526104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643280" y="310680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64160" y="1227240"/>
            <a:ext cx="2468520" cy="2208240"/>
          </a:xfrm>
          <a:custGeom>
            <a:avLst/>
            <a:gdLst/>
            <a:ahLst/>
            <a:rect l="l" t="t" r="r" b="b"/>
            <a:pathLst>
              <a:path w="1555" h="1391">
                <a:moveTo>
                  <a:pt x="0" y="1391"/>
                </a:moveTo>
                <a:lnTo>
                  <a:pt x="971" y="1388"/>
                </a:lnTo>
                <a:lnTo>
                  <a:pt x="155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836640"/>
            <a:ext cx="1657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ltera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1946160"/>
            <a:ext cx="2554560" cy="1687680"/>
          </a:xfrm>
          <a:custGeom>
            <a:avLst/>
            <a:gdLst/>
            <a:ahLst/>
            <a:rect l="l" t="t" r="r" b="b"/>
            <a:pathLst>
              <a:path w="1609" h="1063">
                <a:moveTo>
                  <a:pt x="0" y="1063"/>
                </a:moveTo>
                <a:lnTo>
                  <a:pt x="1181" y="1062"/>
                </a:lnTo>
                <a:lnTo>
                  <a:pt x="16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6000" y="1557360"/>
            <a:ext cx="165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Exclui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651040"/>
            <a:ext cx="1185840" cy="1162080"/>
          </a:xfrm>
          <a:custGeom>
            <a:avLst/>
            <a:gdLst/>
            <a:ahLst/>
            <a:rect l="l" t="t" r="r" b="b"/>
            <a:pathLst>
              <a:path w="747" h="732">
                <a:moveTo>
                  <a:pt x="0" y="732"/>
                </a:moveTo>
                <a:lnTo>
                  <a:pt x="411" y="731"/>
                </a:lnTo>
                <a:lnTo>
                  <a:pt x="74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36000" y="2276640"/>
            <a:ext cx="16570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nforma data de publicação para os temos incluí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3997440"/>
            <a:ext cx="2122560" cy="7920"/>
          </a:xfrm>
          <a:custGeom>
            <a:avLst/>
            <a:gdLst/>
            <a:ahLst/>
            <a:rect l="l" t="t" r="r" b="b"/>
            <a:pathLst>
              <a:path w="1337" h="5">
                <a:moveTo>
                  <a:pt x="0" y="5"/>
                </a:moveTo>
                <a:lnTo>
                  <a:pt x="609" y="4"/>
                </a:lnTo>
                <a:lnTo>
                  <a:pt x="133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48360" y="3573360"/>
            <a:ext cx="1944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utorizar os termos com vigência superior a 60 me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19640" y="4156200"/>
            <a:ext cx="1663920" cy="807840"/>
          </a:xfrm>
          <a:custGeom>
            <a:avLst/>
            <a:gdLst/>
            <a:ahLst/>
            <a:rect l="l" t="t" r="r" b="b"/>
            <a:pathLst>
              <a:path w="1048" h="509">
                <a:moveTo>
                  <a:pt x="0" y="1"/>
                </a:moveTo>
                <a:lnTo>
                  <a:pt x="609" y="0"/>
                </a:lnTo>
                <a:lnTo>
                  <a:pt x="1048" y="50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4869000"/>
            <a:ext cx="1871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rquiva termos não publ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365720"/>
            <a:ext cx="2095560" cy="1342800"/>
          </a:xfrm>
          <a:custGeom>
            <a:avLst/>
            <a:gdLst/>
            <a:ahLst/>
            <a:rect l="l" t="t" r="r" b="b"/>
            <a:pathLst>
              <a:path w="1320" h="846">
                <a:moveTo>
                  <a:pt x="0" y="1"/>
                </a:moveTo>
                <a:lnTo>
                  <a:pt x="609" y="0"/>
                </a:lnTo>
                <a:lnTo>
                  <a:pt x="1320" y="8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5589720"/>
            <a:ext cx="18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onsulta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6021360"/>
            <a:ext cx="18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4506840"/>
            <a:ext cx="2141640" cy="1658880"/>
          </a:xfrm>
          <a:custGeom>
            <a:avLst/>
            <a:gdLst/>
            <a:ahLst/>
            <a:rect l="l" t="t" r="r" b="b"/>
            <a:pathLst>
              <a:path w="1349" h="1045">
                <a:moveTo>
                  <a:pt x="0" y="2"/>
                </a:moveTo>
                <a:lnTo>
                  <a:pt x="469" y="0"/>
                </a:lnTo>
                <a:lnTo>
                  <a:pt x="1349" y="104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940360" y="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i termo ad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7993080" cy="424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95280" y="836640"/>
            <a:ext cx="835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Baskerville Old Face"/>
              </a:rPr>
              <a:t>Comunicado </a:t>
            </a:r>
            <a:r>
              <a:rPr b="1" lang="pt-BR" sz="2000" spc="-1" strike="noStrike">
                <a:solidFill>
                  <a:srgbClr val="ff3300"/>
                </a:solidFill>
                <a:latin typeface="Baskerville Old Face"/>
              </a:rPr>
              <a:t>SIAD 13/2006</a:t>
            </a:r>
            <a:r>
              <a:rPr b="0" lang="pt-BR" sz="2000" spc="-1" strike="noStrike">
                <a:solidFill>
                  <a:srgbClr val="000000"/>
                </a:solidFill>
                <a:latin typeface="Baskerville Old Face"/>
              </a:rPr>
              <a:t> – Este comunicado mostra de forma detalhada, desde a inclusão até a publicação de todos os tipos de ter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askerville Old Face"/>
              </a:rPr>
              <a:t>Determinados termos aditivos só podem ser incluídos para contratos classificados como Natureza Continuada ou Plano Plurian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7524720" y="4890960"/>
            <a:ext cx="432000" cy="14472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64371" h="21600">
                <a:moveTo>
                  <a:pt x="0" y="0"/>
                </a:moveTo>
                <a:lnTo>
                  <a:pt x="64371" y="0"/>
                </a:lnTo>
                <a:lnTo>
                  <a:pt x="64371" y="21600"/>
                </a:lnTo>
                <a:lnTo>
                  <a:pt x="0" y="21600"/>
                </a:lnTo>
                <a:close/>
              </a:path>
              <a:path fill="lightenLess" w="64371" h="21600">
                <a:moveTo>
                  <a:pt x="0" y="0"/>
                </a:moveTo>
                <a:lnTo>
                  <a:pt x="64371" y="0"/>
                </a:lnTo>
                <a:lnTo>
                  <a:pt x="62971" y="1400"/>
                </a:lnTo>
                <a:lnTo>
                  <a:pt x="1400" y="1400"/>
                </a:lnTo>
                <a:close/>
              </a:path>
              <a:path fill="darken" w="64371" h="21600">
                <a:moveTo>
                  <a:pt x="64371" y="0"/>
                </a:moveTo>
                <a:lnTo>
                  <a:pt x="64371" y="21600"/>
                </a:lnTo>
                <a:lnTo>
                  <a:pt x="62971" y="20200"/>
                </a:lnTo>
                <a:lnTo>
                  <a:pt x="62971" y="1400"/>
                </a:lnTo>
                <a:close/>
              </a:path>
              <a:path fill="darkenLess" w="64371" h="21600">
                <a:moveTo>
                  <a:pt x="64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971" y="20200"/>
                </a:lnTo>
                <a:close/>
              </a:path>
              <a:path fill="lighten" w="64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371" h="21600">
                <a:moveTo>
                  <a:pt x="25179" y="3794"/>
                </a:moveTo>
                <a:lnTo>
                  <a:pt x="39192" y="10800"/>
                </a:lnTo>
                <a:lnTo>
                  <a:pt x="251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5" action="ppaction://hlinksldjump"/>
          </p:cNvPr>
          <p:cNvSpPr/>
          <p:nvPr/>
        </p:nvSpPr>
        <p:spPr>
          <a:xfrm>
            <a:off x="5651640" y="4594320"/>
            <a:ext cx="431640" cy="14436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6659640" y="4737240"/>
            <a:ext cx="431640" cy="14436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4211640" y="5046840"/>
            <a:ext cx="431640" cy="14436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4211640" y="5216400"/>
            <a:ext cx="431640" cy="14472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64318" h="21600">
                <a:moveTo>
                  <a:pt x="0" y="0"/>
                </a:moveTo>
                <a:lnTo>
                  <a:pt x="64318" y="0"/>
                </a:lnTo>
                <a:lnTo>
                  <a:pt x="64318" y="21600"/>
                </a:lnTo>
                <a:lnTo>
                  <a:pt x="0" y="21600"/>
                </a:lnTo>
                <a:close/>
              </a:path>
              <a:path fill="lightenLess" w="64318" h="21600">
                <a:moveTo>
                  <a:pt x="0" y="0"/>
                </a:moveTo>
                <a:lnTo>
                  <a:pt x="64318" y="0"/>
                </a:lnTo>
                <a:lnTo>
                  <a:pt x="62918" y="1400"/>
                </a:lnTo>
                <a:lnTo>
                  <a:pt x="1400" y="1400"/>
                </a:lnTo>
                <a:close/>
              </a:path>
              <a:path fill="darken" w="64318" h="21600">
                <a:moveTo>
                  <a:pt x="64318" y="0"/>
                </a:moveTo>
                <a:lnTo>
                  <a:pt x="64318" y="21600"/>
                </a:lnTo>
                <a:lnTo>
                  <a:pt x="62918" y="20200"/>
                </a:lnTo>
                <a:lnTo>
                  <a:pt x="62918" y="1400"/>
                </a:lnTo>
                <a:close/>
              </a:path>
              <a:path fill="darkenLess" w="64318" h="21600">
                <a:moveTo>
                  <a:pt x="6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918" y="20200"/>
                </a:lnTo>
                <a:close/>
              </a:path>
              <a:path fill="lighten" w="6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318" h="21600">
                <a:moveTo>
                  <a:pt x="25152" y="3794"/>
                </a:moveTo>
                <a:lnTo>
                  <a:pt x="39165" y="10800"/>
                </a:lnTo>
                <a:lnTo>
                  <a:pt x="25152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9" action="ppaction://hlinksldjump"/>
          </p:cNvPr>
          <p:cNvSpPr/>
          <p:nvPr/>
        </p:nvSpPr>
        <p:spPr>
          <a:xfrm>
            <a:off x="6443640" y="532620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0" action="ppaction://hlinksldjump"/>
          </p:cNvPr>
          <p:cNvSpPr/>
          <p:nvPr/>
        </p:nvSpPr>
        <p:spPr>
          <a:xfrm>
            <a:off x="7164360" y="5491080"/>
            <a:ext cx="432000" cy="14472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64371" h="21600">
                <a:moveTo>
                  <a:pt x="0" y="0"/>
                </a:moveTo>
                <a:lnTo>
                  <a:pt x="64371" y="0"/>
                </a:lnTo>
                <a:lnTo>
                  <a:pt x="64371" y="21600"/>
                </a:lnTo>
                <a:lnTo>
                  <a:pt x="0" y="21600"/>
                </a:lnTo>
                <a:close/>
              </a:path>
              <a:path fill="lightenLess" w="64371" h="21600">
                <a:moveTo>
                  <a:pt x="0" y="0"/>
                </a:moveTo>
                <a:lnTo>
                  <a:pt x="64371" y="0"/>
                </a:lnTo>
                <a:lnTo>
                  <a:pt x="62971" y="1400"/>
                </a:lnTo>
                <a:lnTo>
                  <a:pt x="1400" y="1400"/>
                </a:lnTo>
                <a:close/>
              </a:path>
              <a:path fill="darken" w="64371" h="21600">
                <a:moveTo>
                  <a:pt x="64371" y="0"/>
                </a:moveTo>
                <a:lnTo>
                  <a:pt x="64371" y="21600"/>
                </a:lnTo>
                <a:lnTo>
                  <a:pt x="62971" y="20200"/>
                </a:lnTo>
                <a:lnTo>
                  <a:pt x="62971" y="1400"/>
                </a:lnTo>
                <a:close/>
              </a:path>
              <a:path fill="darkenLess" w="64371" h="21600">
                <a:moveTo>
                  <a:pt x="64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971" y="20200"/>
                </a:lnTo>
                <a:close/>
              </a:path>
              <a:path fill="lighten" w="64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371" h="21600">
                <a:moveTo>
                  <a:pt x="25179" y="3794"/>
                </a:moveTo>
                <a:lnTo>
                  <a:pt x="39192" y="10800"/>
                </a:lnTo>
                <a:lnTo>
                  <a:pt x="2517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11" action="ppaction://hlinksldjump"/>
          </p:cNvPr>
          <p:cNvSpPr/>
          <p:nvPr/>
        </p:nvSpPr>
        <p:spPr>
          <a:xfrm>
            <a:off x="5219640" y="443700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04000" y="119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300720" y="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nu Termo Aposti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 rot="10800000">
            <a:off x="1187280" y="0"/>
            <a:ext cx="865440" cy="404640"/>
          </a:xfrm>
          <a:custGeom>
            <a:avLst/>
            <a:gdLst>
              <a:gd name="textAreaLeft" fmla="*/ 25920 w 865440"/>
              <a:gd name="textAreaRight" fmla="*/ 839520 w 86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176" h="21600">
                <a:moveTo>
                  <a:pt x="0" y="0"/>
                </a:moveTo>
                <a:lnTo>
                  <a:pt x="46176" y="0"/>
                </a:lnTo>
                <a:lnTo>
                  <a:pt x="46176" y="21600"/>
                </a:lnTo>
                <a:lnTo>
                  <a:pt x="0" y="21600"/>
                </a:lnTo>
                <a:close/>
              </a:path>
              <a:path fill="lightenLess" w="46176" h="21600">
                <a:moveTo>
                  <a:pt x="0" y="0"/>
                </a:moveTo>
                <a:lnTo>
                  <a:pt x="46176" y="0"/>
                </a:lnTo>
                <a:lnTo>
                  <a:pt x="44776" y="1400"/>
                </a:lnTo>
                <a:lnTo>
                  <a:pt x="1400" y="1400"/>
                </a:lnTo>
                <a:close/>
              </a:path>
              <a:path fill="darken" w="46176" h="21600">
                <a:moveTo>
                  <a:pt x="46176" y="0"/>
                </a:moveTo>
                <a:lnTo>
                  <a:pt x="46176" y="21600"/>
                </a:lnTo>
                <a:lnTo>
                  <a:pt x="44776" y="20200"/>
                </a:lnTo>
                <a:lnTo>
                  <a:pt x="44776" y="1400"/>
                </a:lnTo>
                <a:close/>
              </a:path>
              <a:path fill="darkenLess" w="46176" h="21600">
                <a:moveTo>
                  <a:pt x="46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6" y="20200"/>
                </a:lnTo>
                <a:close/>
              </a:path>
              <a:path fill="lighten" w="46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76" h="21600">
                <a:moveTo>
                  <a:pt x="16082" y="3794"/>
                </a:moveTo>
                <a:lnTo>
                  <a:pt x="30094" y="10800"/>
                </a:lnTo>
                <a:lnTo>
                  <a:pt x="1608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643280" y="306864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907920"/>
            <a:ext cx="1657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ltera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1773360"/>
            <a:ext cx="165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Exclui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20000" y="2781360"/>
            <a:ext cx="1800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askerville Old Face"/>
              </a:rPr>
              <a:t>Informa data de apostilamento para os termos incluí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458136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rquiva termos não publ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551664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onsulta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21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6121440" cy="5400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572000" y="1317600"/>
            <a:ext cx="2433600" cy="1873440"/>
          </a:xfrm>
          <a:custGeom>
            <a:avLst/>
            <a:gdLst/>
            <a:ahLst/>
            <a:rect l="l" t="t" r="r" b="b"/>
            <a:pathLst>
              <a:path w="1533" h="1180">
                <a:moveTo>
                  <a:pt x="0" y="1180"/>
                </a:moveTo>
                <a:lnTo>
                  <a:pt x="971" y="1177"/>
                </a:lnTo>
                <a:lnTo>
                  <a:pt x="15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124000"/>
            <a:ext cx="2460600" cy="1263600"/>
          </a:xfrm>
          <a:custGeom>
            <a:avLst/>
            <a:gdLst/>
            <a:ahLst/>
            <a:rect l="l" t="t" r="r" b="b"/>
            <a:pathLst>
              <a:path w="1550" h="796">
                <a:moveTo>
                  <a:pt x="0" y="796"/>
                </a:moveTo>
                <a:lnTo>
                  <a:pt x="1181" y="795"/>
                </a:lnTo>
                <a:lnTo>
                  <a:pt x="15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 rot="21288600">
            <a:off x="6084360" y="3499560"/>
            <a:ext cx="863640" cy="73080"/>
          </a:xfrm>
          <a:custGeom>
            <a:avLst/>
            <a:gdLst/>
            <a:ahLst/>
            <a:rect l="l" t="t" r="r" b="b"/>
            <a:pathLst>
              <a:path w="817" h="2">
                <a:moveTo>
                  <a:pt x="0" y="2"/>
                </a:moveTo>
                <a:lnTo>
                  <a:pt x="411" y="1"/>
                </a:lnTo>
                <a:lnTo>
                  <a:pt x="8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3716280"/>
            <a:ext cx="1847880" cy="881280"/>
          </a:xfrm>
          <a:custGeom>
            <a:avLst/>
            <a:gdLst/>
            <a:ahLst/>
            <a:rect l="l" t="t" r="r" b="b"/>
            <a:pathLst>
              <a:path w="1164" h="555">
                <a:moveTo>
                  <a:pt x="0" y="1"/>
                </a:moveTo>
                <a:lnTo>
                  <a:pt x="609" y="0"/>
                </a:lnTo>
                <a:lnTo>
                  <a:pt x="1164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3933720"/>
            <a:ext cx="2220840" cy="1546200"/>
          </a:xfrm>
          <a:custGeom>
            <a:avLst/>
            <a:gdLst/>
            <a:ahLst/>
            <a:rect l="l" t="t" r="r" b="b"/>
            <a:pathLst>
              <a:path w="1399" h="974">
                <a:moveTo>
                  <a:pt x="0" y="1"/>
                </a:moveTo>
                <a:lnTo>
                  <a:pt x="609" y="0"/>
                </a:lnTo>
                <a:lnTo>
                  <a:pt x="1399" y="97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149720"/>
            <a:ext cx="2252520" cy="1866960"/>
          </a:xfrm>
          <a:custGeom>
            <a:avLst/>
            <a:gdLst/>
            <a:ahLst/>
            <a:rect l="l" t="t" r="r" b="b"/>
            <a:pathLst>
              <a:path w="1419" h="1176">
                <a:moveTo>
                  <a:pt x="0" y="2"/>
                </a:moveTo>
                <a:lnTo>
                  <a:pt x="469" y="0"/>
                </a:lnTo>
                <a:lnTo>
                  <a:pt x="1419" y="11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4572000" y="286560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372360" y="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lui termo de aposti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8209080" cy="44337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981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a inclusão de dotações orçamentárias em um processo de comp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300720" y="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Termo de Resci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284720" y="263700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1557360"/>
            <a:ext cx="1657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ltera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3068640"/>
            <a:ext cx="1657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Exclui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4076640"/>
            <a:ext cx="180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nforma data de efetivação do tem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5445000"/>
            <a:ext cx="187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onsulta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6021360"/>
            <a:ext cx="18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5545080" cy="52783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140360" y="1841400"/>
            <a:ext cx="3017520" cy="1474920"/>
          </a:xfrm>
          <a:custGeom>
            <a:avLst/>
            <a:gdLst/>
            <a:ahLst/>
            <a:rect l="l" t="t" r="r" b="b"/>
            <a:pathLst>
              <a:path w="1901" h="929">
                <a:moveTo>
                  <a:pt x="0" y="929"/>
                </a:moveTo>
                <a:lnTo>
                  <a:pt x="1181" y="928"/>
                </a:lnTo>
                <a:lnTo>
                  <a:pt x="190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4000" y="3645000"/>
            <a:ext cx="1651320" cy="1057320"/>
          </a:xfrm>
          <a:custGeom>
            <a:avLst/>
            <a:gdLst/>
            <a:ahLst/>
            <a:rect l="l" t="t" r="r" b="b"/>
            <a:pathLst>
              <a:path w="1040" h="666">
                <a:moveTo>
                  <a:pt x="0" y="1"/>
                </a:moveTo>
                <a:lnTo>
                  <a:pt x="447" y="0"/>
                </a:lnTo>
                <a:lnTo>
                  <a:pt x="1040" y="66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24320" y="3852720"/>
            <a:ext cx="2546280" cy="1764000"/>
          </a:xfrm>
          <a:custGeom>
            <a:avLst/>
            <a:gdLst/>
            <a:ahLst/>
            <a:rect l="l" t="t" r="r" b="b"/>
            <a:pathLst>
              <a:path w="1604" h="1111">
                <a:moveTo>
                  <a:pt x="0" y="0"/>
                </a:moveTo>
                <a:lnTo>
                  <a:pt x="720" y="5"/>
                </a:lnTo>
                <a:lnTo>
                  <a:pt x="1604" y="111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1640" y="4005360"/>
            <a:ext cx="2685960" cy="2133360"/>
          </a:xfrm>
          <a:custGeom>
            <a:avLst/>
            <a:gdLst/>
            <a:ahLst/>
            <a:rect l="l" t="t" r="r" b="b"/>
            <a:pathLst>
              <a:path w="1692" h="1344">
                <a:moveTo>
                  <a:pt x="0" y="0"/>
                </a:moveTo>
                <a:lnTo>
                  <a:pt x="638" y="1"/>
                </a:lnTo>
                <a:lnTo>
                  <a:pt x="1692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350028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4140360" y="2997360"/>
            <a:ext cx="502920" cy="21564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28" h="21600">
                <a:moveTo>
                  <a:pt x="0" y="0"/>
                </a:moveTo>
                <a:lnTo>
                  <a:pt x="50328" y="0"/>
                </a:lnTo>
                <a:lnTo>
                  <a:pt x="50328" y="21600"/>
                </a:lnTo>
                <a:lnTo>
                  <a:pt x="0" y="21600"/>
                </a:lnTo>
                <a:close/>
              </a:path>
              <a:path fill="lightenLess" w="50328" h="21600">
                <a:moveTo>
                  <a:pt x="0" y="0"/>
                </a:moveTo>
                <a:lnTo>
                  <a:pt x="50328" y="0"/>
                </a:lnTo>
                <a:lnTo>
                  <a:pt x="48928" y="1400"/>
                </a:lnTo>
                <a:lnTo>
                  <a:pt x="1400" y="1400"/>
                </a:lnTo>
                <a:close/>
              </a:path>
              <a:path fill="darken" w="50328" h="21600">
                <a:moveTo>
                  <a:pt x="50328" y="0"/>
                </a:moveTo>
                <a:lnTo>
                  <a:pt x="50328" y="21600"/>
                </a:lnTo>
                <a:lnTo>
                  <a:pt x="48928" y="20200"/>
                </a:lnTo>
                <a:lnTo>
                  <a:pt x="48928" y="1400"/>
                </a:lnTo>
                <a:close/>
              </a:path>
              <a:path fill="darkenLess" w="50328" h="21600">
                <a:moveTo>
                  <a:pt x="50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28" y="20200"/>
                </a:lnTo>
                <a:close/>
              </a:path>
              <a:path fill="lighten" w="50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28" h="21600">
                <a:moveTo>
                  <a:pt x="18158" y="3794"/>
                </a:moveTo>
                <a:lnTo>
                  <a:pt x="32170" y="10800"/>
                </a:lnTo>
                <a:lnTo>
                  <a:pt x="18158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372360" y="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i temo de resci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42200" cy="446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981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efetuar a rescisão de seu Contrato. O saldo será automaticamente excluído assim que o termo for public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372360" y="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Termo de Encerra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2205000"/>
            <a:ext cx="1657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ltera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48360" y="3213000"/>
            <a:ext cx="1657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Exclui um termo incluí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4076640"/>
            <a:ext cx="180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nforma data de efetivação do tem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515772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onsulta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73408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Imprime term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5327640" cy="5430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067280" y="2533680"/>
            <a:ext cx="3038400" cy="857160"/>
          </a:xfrm>
          <a:custGeom>
            <a:avLst/>
            <a:gdLst/>
            <a:ahLst/>
            <a:rect l="l" t="t" r="r" b="b"/>
            <a:pathLst>
              <a:path w="1914" h="540">
                <a:moveTo>
                  <a:pt x="0" y="540"/>
                </a:moveTo>
                <a:lnTo>
                  <a:pt x="1181" y="539"/>
                </a:lnTo>
                <a:lnTo>
                  <a:pt x="19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3573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3789360"/>
            <a:ext cx="1670040" cy="677880"/>
          </a:xfrm>
          <a:custGeom>
            <a:avLst/>
            <a:gdLst/>
            <a:ahLst/>
            <a:rect l="l" t="t" r="r" b="b"/>
            <a:pathLst>
              <a:path w="1052" h="427">
                <a:moveTo>
                  <a:pt x="0" y="1"/>
                </a:moveTo>
                <a:lnTo>
                  <a:pt x="390" y="0"/>
                </a:lnTo>
                <a:lnTo>
                  <a:pt x="1052" y="4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4005360"/>
            <a:ext cx="2568600" cy="1336680"/>
          </a:xfrm>
          <a:custGeom>
            <a:avLst/>
            <a:gdLst/>
            <a:ahLst/>
            <a:rect l="l" t="t" r="r" b="b"/>
            <a:pathLst>
              <a:path w="1618" h="842">
                <a:moveTo>
                  <a:pt x="0" y="0"/>
                </a:moveTo>
                <a:lnTo>
                  <a:pt x="720" y="5"/>
                </a:lnTo>
                <a:lnTo>
                  <a:pt x="1618" y="84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4221000"/>
            <a:ext cx="2573280" cy="1565280"/>
          </a:xfrm>
          <a:custGeom>
            <a:avLst/>
            <a:gdLst/>
            <a:ahLst/>
            <a:rect l="l" t="t" r="r" b="b"/>
            <a:pathLst>
              <a:path w="1621" h="986">
                <a:moveTo>
                  <a:pt x="0" y="0"/>
                </a:moveTo>
                <a:lnTo>
                  <a:pt x="604" y="1"/>
                </a:lnTo>
                <a:lnTo>
                  <a:pt x="1621" y="98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3" action="ppaction://hlinksldjump"/>
          </p:cNvPr>
          <p:cNvSpPr/>
          <p:nvPr/>
        </p:nvSpPr>
        <p:spPr>
          <a:xfrm>
            <a:off x="4067280" y="310680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18134" y="3794"/>
                </a:moveTo>
                <a:lnTo>
                  <a:pt x="32147" y="10800"/>
                </a:lnTo>
                <a:lnTo>
                  <a:pt x="18134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443640" y="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i termo de encer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07280" cy="4513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90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efetuar o encerramento do Contrato. Caso o contrato possua algum saldo financeiro, este será excluído após a publicação do ter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 da contra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2133720"/>
            <a:ext cx="7848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ermite alterar a razão social, Natureza Jurídica, Endereço, e os Representantes Legais da Contratada, lembrando que essas alterações não são refletidas no CAG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ão é possível alterar o CNPJ/CPF da contratada através desta op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6000" y="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rrogação Vig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765000"/>
            <a:ext cx="784872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ão é possível prorrogar a vigência de um contrato ainda vig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istema permite o cadastro de termos aditivos com vigência superior a 12 ou 60 meses, entretanto, alguns procedimentos são necess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-Para o 1º caso, o sistema irá solicitar o MASP do responsável pela autorização da inclusão, quanto ao 2º caso, será necessária a autorização, no sistema (opção 08 do modulo), pelo responsável, antes que o termo seja publ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633744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341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e acordo com o item de material ou serviço utilizado no processo, o sistema irá solicitar o preenchimento de um tipo de planilha de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CADASTRANDO A PLANILHA DE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0880" y="4637160"/>
            <a:ext cx="587160" cy="1440"/>
          </a:xfrm>
          <a:custGeom>
            <a:avLst/>
            <a:gdLst/>
            <a:ahLst/>
            <a:rect l="l" t="t" r="r" b="b"/>
            <a:pathLst>
              <a:path w="370" h="1">
                <a:moveTo>
                  <a:pt x="0" y="0"/>
                </a:moveTo>
                <a:lnTo>
                  <a:pt x="37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gência com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56536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ão é possível incluir um termo desse tipo para um contrato ainda vig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1640" y="0"/>
            <a:ext cx="28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juste decorrente de clausula contr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213372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efetuar reajustes financeiros decorrentes de clausulas contratuais (índi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aso o termo esteja sendo lançado antes do contrato completar 12 meses de vigência, o usuário deverá informar o motivo do reajuste (Prazo da proposta superior a 12 meses ou Prazo do orçamento superior a 12 mes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résc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1197000"/>
            <a:ext cx="7848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da Lei 8.666/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 65.  Os contratos regidos por esta Lei poderão ser alterados, com as devidas justificativas, nos seguintes cas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§ 1</a:t>
            </a:r>
            <a:r>
              <a:rPr b="1" lang="en-US" sz="1800" spc="-1" strike="noStrike" u="sng" baseline="30000">
                <a:solidFill>
                  <a:srgbClr val="0000ff"/>
                </a:solidFill>
                <a:uFillTx/>
                <a:latin typeface="Arial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  O contratado fica obrigado a aceitar, nas mesma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ndições contratuais, os acréscimos ou supressões que 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izerem nas obras, serviços ou compras, até 25% (vinte 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inco por cento) do valor inicial atualizado do contrato, e, n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so particular de reforma de edifício ou de equipamento, até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o limite de 50% (cinqüenta por cento) para os seus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crésc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4000" y="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270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aos usuários suprimir valores quantitativos e financeiros do contrat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íbrio econômico financ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105264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da Lei 8.666/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 65.  Os contratos regidos por esta Lei poderão ser alterados, com as devidas justificativas, nos seguintes cas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 - por acordo da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) para restabelecer a relação que as parte pactuaram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icialmente entre os encargos do contratado e a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tribuição da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ministração para a justa remuneração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a obra, serviço ou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rnecimento, objetivando a manutenção do equilíbrio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conômico-financeiro inicial do contrato, na hipótese de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sobreviverem fatos imprevisíveis, ou previsíveis porém de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nseqüências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calculáveis, retardadores ou impeditivos da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xecução do ajustado, ou ainda, em caso de força maior,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so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rtuito ou fato do príncipe, configurando álea econômica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xtraordinária e extracontratual. (Redação dada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ela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ei nº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8.883, de 1994).</a:t>
            </a:r>
            <a:r>
              <a:rPr b="0" lang="pt-BR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PRINCIPAL</a:t>
            </a:r>
            <a:br>
              <a:rPr sz="2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askerville Old Face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MENU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1186920" y="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1186920" y="4762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nejamento de sal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26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mite remanejar os saldos de itens de material ou serviço entre as unidades executoras participantes do contra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4278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TIPOS DE PLANILHA PARA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36040" cy="49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263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TELA DE INCLUSÃO DE UMA PLANILHA DE FORN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34544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52675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GERANDO O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378560" cy="469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50920" y="4102200"/>
            <a:ext cx="457200" cy="1440"/>
          </a:xfrm>
          <a:custGeom>
            <a:avLst/>
            <a:gdLst/>
            <a:ahLst/>
            <a:rect l="l" t="t" r="r" b="b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76908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INFORMANDO AO USUÁRIO O NUMERO DO CONTRATO G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234200" cy="467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227664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997360"/>
            <a:ext cx="8229600" cy="20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CONHECENDO O MODULO DE CONT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2:41:21Z</dcterms:created>
  <dc:creator>SIAD</dc:creator>
  <dc:description/>
  <dc:language>en-US</dc:language>
  <cp:lastModifiedBy>jane.catia</cp:lastModifiedBy>
  <dcterms:modified xsi:type="dcterms:W3CDTF">2007-10-01T19:27:04Z</dcterms:modified>
  <cp:revision>58</cp:revision>
  <dc:subject/>
  <dc:title>Slide 1</dc:title>
</cp:coreProperties>
</file>