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045-BA11-4028-9323-40B3F439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63B-6787-4BFC-A216-AFB2CFD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CFA-D52E-421A-8051-D31BB80F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D56-AE51-41A3-8FA5-34391E1E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E3C-E920-43AE-BA37-05209EF8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F19-AFE5-4D29-AEC3-6713B24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483-67A8-4C74-A8B6-ED01A88A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188-81EA-4F07-858C-8EBA2085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9B1-7386-4E57-801C-36FB113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C1B-B797-4506-B457-6A60127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588-8D44-47A6-857F-E9A16F0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952-F050-43D8-A66E-46D9DF9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18E-AEA1-4008-ABF0-E5651CA4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file:///Apresenta&#231;&#227;o%20SIAD%20-%20Modulo%20Contrato.ppt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79280" y="981000"/>
            <a:ext cx="8964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ÁUSULAS NECESSÁRIA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art. 55 da Lei 8.666/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2057400"/>
            <a:ext cx="8820000" cy="42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asos de resci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econhecimento dos direitos da Administração, em casos de rescisão administrativa (art. 77 da Lei 8.666/199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ções de importação, data, taxa de câmbio, quando for o ca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culação ao edital de licitação ou ao termo de dispensa ou inexigibi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ção aplicável e especialmente os casos omis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igação do contratado de manter durante a execução do contrato as condições de habilitação e qualificações exig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79280" y="981000"/>
            <a:ext cx="8964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RMO AD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8760" y="1773360"/>
            <a:ext cx="88200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o para efetuar prorrogações, acréscimos e supress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modificações admitidas em l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ensado para as modificações que puderem ser efetuadas por simples aposti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NOTA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elebração do Termo Aditivo ao instrumento contratual deverá ser consultado a situação do contratado junto ao CAGEF e ao CAFI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GEF – www.compras.mg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FIMP – www.auditoria.mg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67520" y="5398920"/>
            <a:ext cx="600120" cy="289080"/>
          </a:xfrm>
          <a:custGeom>
            <a:avLst/>
            <a:gdLst>
              <a:gd name="textAreaLeft" fmla="*/ 18720 w 600120"/>
              <a:gd name="textAreaRight" fmla="*/ 581400 w 6001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4812" h="21600">
                <a:moveTo>
                  <a:pt x="0" y="0"/>
                </a:moveTo>
                <a:lnTo>
                  <a:pt x="44812" y="0"/>
                </a:lnTo>
                <a:lnTo>
                  <a:pt x="44812" y="21600"/>
                </a:lnTo>
                <a:lnTo>
                  <a:pt x="0" y="21600"/>
                </a:lnTo>
                <a:close/>
              </a:path>
              <a:path fill="lightenLess" w="44812" h="21600">
                <a:moveTo>
                  <a:pt x="0" y="0"/>
                </a:moveTo>
                <a:lnTo>
                  <a:pt x="44812" y="0"/>
                </a:lnTo>
                <a:lnTo>
                  <a:pt x="43412" y="1400"/>
                </a:lnTo>
                <a:lnTo>
                  <a:pt x="1400" y="1400"/>
                </a:lnTo>
                <a:close/>
              </a:path>
              <a:path fill="darken" w="44812" h="21600">
                <a:moveTo>
                  <a:pt x="44812" y="0"/>
                </a:moveTo>
                <a:lnTo>
                  <a:pt x="44812" y="21600"/>
                </a:lnTo>
                <a:lnTo>
                  <a:pt x="43412" y="20200"/>
                </a:lnTo>
                <a:lnTo>
                  <a:pt x="43412" y="1400"/>
                </a:lnTo>
                <a:close/>
              </a:path>
              <a:path fill="darkenLess" w="44812" h="21600">
                <a:moveTo>
                  <a:pt x="44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12" y="20200"/>
                </a:lnTo>
                <a:close/>
              </a:path>
              <a:path fill="lighten" w="44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4812" h="21600">
                <a:moveTo>
                  <a:pt x="16879" y="3985"/>
                </a:moveTo>
                <a:lnTo>
                  <a:pt x="23877" y="3985"/>
                </a:lnTo>
                <a:lnTo>
                  <a:pt x="27933" y="7484"/>
                </a:lnTo>
                <a:lnTo>
                  <a:pt x="27933" y="17615"/>
                </a:lnTo>
                <a:lnTo>
                  <a:pt x="16879" y="17615"/>
                </a:lnTo>
                <a:close/>
              </a:path>
              <a:path fill="darken" w="44812" h="21600">
                <a:moveTo>
                  <a:pt x="23877" y="3985"/>
                </a:moveTo>
                <a:lnTo>
                  <a:pt x="27933" y="7484"/>
                </a:lnTo>
                <a:lnTo>
                  <a:pt x="23877" y="74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67520" y="5915160"/>
            <a:ext cx="600120" cy="288720"/>
          </a:xfrm>
          <a:custGeom>
            <a:avLst/>
            <a:gdLst>
              <a:gd name="textAreaLeft" fmla="*/ 18720 w 600120"/>
              <a:gd name="textAreaRight" fmla="*/ 581400 w 6001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4868" h="21600">
                <a:moveTo>
                  <a:pt x="0" y="0"/>
                </a:moveTo>
                <a:lnTo>
                  <a:pt x="44868" y="0"/>
                </a:lnTo>
                <a:lnTo>
                  <a:pt x="44868" y="21600"/>
                </a:lnTo>
                <a:lnTo>
                  <a:pt x="0" y="21600"/>
                </a:lnTo>
                <a:close/>
              </a:path>
              <a:path fill="lightenLess" w="44868" h="21600">
                <a:moveTo>
                  <a:pt x="0" y="0"/>
                </a:moveTo>
                <a:lnTo>
                  <a:pt x="44868" y="0"/>
                </a:lnTo>
                <a:lnTo>
                  <a:pt x="43468" y="1400"/>
                </a:lnTo>
                <a:lnTo>
                  <a:pt x="1400" y="1400"/>
                </a:lnTo>
                <a:close/>
              </a:path>
              <a:path fill="darken" w="44868" h="21600">
                <a:moveTo>
                  <a:pt x="44868" y="0"/>
                </a:moveTo>
                <a:lnTo>
                  <a:pt x="44868" y="21600"/>
                </a:lnTo>
                <a:lnTo>
                  <a:pt x="43468" y="20200"/>
                </a:lnTo>
                <a:lnTo>
                  <a:pt x="43468" y="1400"/>
                </a:lnTo>
                <a:close/>
              </a:path>
              <a:path fill="darkenLess" w="44868" h="21600">
                <a:moveTo>
                  <a:pt x="44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8" y="20200"/>
                </a:lnTo>
                <a:close/>
              </a:path>
              <a:path fill="lighten" w="44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4868" h="21600">
                <a:moveTo>
                  <a:pt x="16907" y="3985"/>
                </a:moveTo>
                <a:lnTo>
                  <a:pt x="23905" y="3985"/>
                </a:lnTo>
                <a:lnTo>
                  <a:pt x="27961" y="7484"/>
                </a:lnTo>
                <a:lnTo>
                  <a:pt x="27961" y="17615"/>
                </a:lnTo>
                <a:lnTo>
                  <a:pt x="16907" y="17615"/>
                </a:lnTo>
                <a:close/>
              </a:path>
              <a:path fill="darken" w="44868" h="21600">
                <a:moveTo>
                  <a:pt x="23905" y="3985"/>
                </a:moveTo>
                <a:lnTo>
                  <a:pt x="27961" y="7484"/>
                </a:lnTo>
                <a:lnTo>
                  <a:pt x="23905" y="74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79280" y="981000"/>
            <a:ext cx="8964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IG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8760" y="2057400"/>
            <a:ext cx="882000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rrogação de prazo de vigência do contrato ocorrerá qua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r sua previsão no cont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ver interesse da Administração e da empresa contrat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rovado que o contratado mantém as condições iniciais de habili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ver justificada e motivada por escrito, em processo correspond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ver previamente autorizada pela autoridade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79280" y="981000"/>
            <a:ext cx="8964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IG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8760" y="1773360"/>
            <a:ext cx="88200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rrogações dos contratos só podem ocorrer se não houver interrupção do prazo, ainda que esta tenha ocorrido p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m 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e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i veda a assinatura de contrato com prazo de vigênci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termin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79280" y="981000"/>
            <a:ext cx="8964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RÉSCIMO OU SUPRESSÃO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§1° do art. 65 da Lei 8.666/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760" y="2133720"/>
            <a:ext cx="88200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acordo com a Lei 8.666/1993, o contratado é obrigado a aceitar, nas mesmas condições do contrato original, os acréscimo ou supressões que se fizerem necessários, respeitados os limites admi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materiais, obras ou serviç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créscimos ou supressões de até 25% do valor atualizado do cont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reforma de edifício ou equip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créscimos de até 50% do valor atualizado do con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79280" y="981000"/>
            <a:ext cx="89647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POSTIL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TERMO DE APOSTIL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220968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do para empenho de dotações orçamentárias suplementares até o limite do valor do con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há necessidade da publicação no Diário Of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79280" y="981000"/>
            <a:ext cx="8964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LTERAÇÕES NO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8760" y="1773360"/>
            <a:ext cx="88200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trato firmado entre as partes pode ser alterado nos casos previstos no art. 65 da Lei Federal n° 8.666/1993, desde que haja interesse da Administração e para atender ao interesse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 alteração no contrato deve ser justificada e motivada por escrito, em processo correspondente, e previamente autorizada pela autoridade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79280" y="1066680"/>
            <a:ext cx="8964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QUILÍBRIO ECONÔMICO-FINANC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8760" y="205740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na manutenção das condições de pagamento estabelecidas no contrato, a fim de que se mantenha estável entre as obrigações do contratado e a retribuição da Administração, para a justa remuneração do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79280" y="981000"/>
            <a:ext cx="8964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UBLI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8760" y="1773360"/>
            <a:ext cx="882000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condição indispensável para eficácia legal do contrato a publicação resumida de seu termo e de aditamento na imprensa oficial (extr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extrato deve co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éc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o do objeto do cont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dito pela correrá a desp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do cont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zo de vigê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 Assinatu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 e cargo da autoridade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58760" y="177336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A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DULO 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11"/>
          </p:cNvPr>
          <p:cNvSpPr/>
          <p:nvPr/>
        </p:nvSpPr>
        <p:spPr>
          <a:xfrm>
            <a:off x="3708360" y="3933720"/>
            <a:ext cx="1655640" cy="863640"/>
          </a:xfrm>
          <a:custGeom>
            <a:avLst/>
            <a:gdLst>
              <a:gd name="textAreaLeft" fmla="*/ 55800 w 1655640"/>
              <a:gd name="textAreaRight" fmla="*/ 1599840 w 1655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1400" h="21600">
                <a:moveTo>
                  <a:pt x="0" y="0"/>
                </a:moveTo>
                <a:lnTo>
                  <a:pt x="41400" y="0"/>
                </a:lnTo>
                <a:lnTo>
                  <a:pt x="41400" y="21600"/>
                </a:lnTo>
                <a:lnTo>
                  <a:pt x="0" y="21600"/>
                </a:lnTo>
                <a:close/>
              </a:path>
              <a:path fill="lightenLess" w="41400" h="21600">
                <a:moveTo>
                  <a:pt x="0" y="0"/>
                </a:moveTo>
                <a:lnTo>
                  <a:pt x="41400" y="0"/>
                </a:lnTo>
                <a:lnTo>
                  <a:pt x="40000" y="1400"/>
                </a:lnTo>
                <a:lnTo>
                  <a:pt x="1400" y="1400"/>
                </a:lnTo>
                <a:close/>
              </a:path>
              <a:path fill="darken" w="41400" h="21600">
                <a:moveTo>
                  <a:pt x="41400" y="0"/>
                </a:moveTo>
                <a:lnTo>
                  <a:pt x="41400" y="21600"/>
                </a:lnTo>
                <a:lnTo>
                  <a:pt x="40000" y="20200"/>
                </a:lnTo>
                <a:lnTo>
                  <a:pt x="40000" y="1400"/>
                </a:lnTo>
                <a:close/>
              </a:path>
              <a:path fill="darkenLess" w="41400" h="21600">
                <a:moveTo>
                  <a:pt x="41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00" y="20200"/>
                </a:lnTo>
                <a:close/>
              </a:path>
              <a:path fill="lighten" w="41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00" h="21600">
                <a:moveTo>
                  <a:pt x="20700" y="3837"/>
                </a:moveTo>
                <a:lnTo>
                  <a:pt x="23276" y="6448"/>
                </a:lnTo>
                <a:lnTo>
                  <a:pt x="23276" y="4707"/>
                </a:lnTo>
                <a:lnTo>
                  <a:pt x="25052" y="4707"/>
                </a:lnTo>
                <a:lnTo>
                  <a:pt x="25052" y="8224"/>
                </a:lnTo>
                <a:lnTo>
                  <a:pt x="27663" y="10800"/>
                </a:lnTo>
                <a:lnTo>
                  <a:pt x="26009" y="10800"/>
                </a:lnTo>
                <a:lnTo>
                  <a:pt x="26009" y="17989"/>
                </a:lnTo>
                <a:lnTo>
                  <a:pt x="15391" y="17989"/>
                </a:lnTo>
                <a:lnTo>
                  <a:pt x="15391" y="10800"/>
                </a:lnTo>
                <a:lnTo>
                  <a:pt x="13737" y="10800"/>
                </a:lnTo>
                <a:close/>
              </a:path>
              <a:path fill="darkenLess" w="41400" h="21600">
                <a:moveTo>
                  <a:pt x="23276" y="6448"/>
                </a:moveTo>
                <a:lnTo>
                  <a:pt x="23276" y="4707"/>
                </a:lnTo>
                <a:lnTo>
                  <a:pt x="25052" y="4707"/>
                </a:lnTo>
                <a:lnTo>
                  <a:pt x="25052" y="8224"/>
                </a:lnTo>
                <a:close/>
              </a:path>
              <a:path fill="darkenLess" w="41400" h="21600">
                <a:moveTo>
                  <a:pt x="19777" y="14299"/>
                </a:moveTo>
                <a:lnTo>
                  <a:pt x="21623" y="14299"/>
                </a:lnTo>
                <a:lnTo>
                  <a:pt x="21623" y="17989"/>
                </a:lnTo>
                <a:lnTo>
                  <a:pt x="26009" y="17989"/>
                </a:lnTo>
                <a:lnTo>
                  <a:pt x="26009" y="10800"/>
                </a:lnTo>
                <a:lnTo>
                  <a:pt x="15391" y="10800"/>
                </a:lnTo>
                <a:lnTo>
                  <a:pt x="15391" y="17989"/>
                </a:lnTo>
                <a:lnTo>
                  <a:pt x="1977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7932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TRATOS ADMINISTRATIV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Palestrantes: 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Jane Cátia –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van Junior – Aux.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arco Aurélio – Aux.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16/10/2007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79280" y="981000"/>
            <a:ext cx="8659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OMPANHAMENTO DE 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8760" y="1773360"/>
            <a:ext cx="88200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na elaboração de planilhas para acompanhamento dos contratos, proporcionando o controle do prazo de vigência, do saldo contratual e do faturamento das despesas advindas com a prestação dos serviços / forn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mos a utilização de 03 (três) modelos de planilhas para o acompanhamento eficaz dos contratos, s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Analít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Sintét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e Fatu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4984920"/>
            <a:ext cx="863280" cy="215640"/>
          </a:xfrm>
          <a:custGeom>
            <a:avLst/>
            <a:gdLst>
              <a:gd name="textAreaLeft" fmla="*/ 13680 w 863280"/>
              <a:gd name="textAreaRight" fmla="*/ 849600 w 863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64" h="21600">
                <a:moveTo>
                  <a:pt x="36176" y="3794"/>
                </a:moveTo>
                <a:lnTo>
                  <a:pt x="50188" y="10800"/>
                </a:lnTo>
                <a:lnTo>
                  <a:pt x="3617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16560" y="541512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65880" y="586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9280" y="1295280"/>
            <a:ext cx="8964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radec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8760" y="2057400"/>
            <a:ext cx="882000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nto maior são as dificuldad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ncer, maior será a satisfação”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íce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79280" y="981000"/>
            <a:ext cx="8964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PERINTENDÊNCIA DE RECURSOS LOGÍSTICOS E MANUTE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2971800"/>
            <a:ext cx="882000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perintende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sé Alexandre Pinto Coelho – Tel: (31)3219-56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surl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ordenado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izabeth Dutra de Faria Ferreira – Tel: (31)3219-5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elizabeth.ferreir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p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ane Cátia – Tel: (31)3219-57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jane.catia@igam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van Junior – Tel: (31)3219-5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ivan.silvino@igam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o Aurélio – Tel: (31)3219-5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marco.vasconcelos@ief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2209680"/>
            <a:ext cx="896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oordenadoria de Contratos de Manutenção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55736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25200" y="153684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7880" y="2833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áusulas Contrat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395280" y="220500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14600" y="218592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ito e Características do Contrato Administ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395280" y="285264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395280" y="350028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96760" y="348156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os Ad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395280" y="414972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99280" y="41292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7"/>
          <a:stretch/>
        </p:blipFill>
        <p:spPr>
          <a:xfrm>
            <a:off x="395280" y="479736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72280" y="47973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AD - Modulo Cont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>
            <a:off x="395280" y="54450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97400" y="544500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mento de Cont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79280" y="1063800"/>
            <a:ext cx="85075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TIVOS DA 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760" y="20574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r informações sobre Contratos celebrados pela Administração Pública e procedimentos utilizados no SIAD - Modulo Contr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9280" y="1447920"/>
            <a:ext cx="8659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CONTRATO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ADMINIST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79280" y="981000"/>
            <a:ext cx="86598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CE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760" y="2209680"/>
            <a:ext cx="8820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xpressão 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to administr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é reservada para designar os ajustes que a Administração celebra com pessoas físicas ou jurídicas, públicas ou privadas, para a consecução de fins públicos, segundo regime jurídico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79280" y="981000"/>
            <a:ext cx="8964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8760" y="2057400"/>
            <a:ext cx="88200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ses e finalidades das partes são opostos e contraditó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ça da Administração Pública como Poder Públ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e públ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diência à forma prescrita em l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 leg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79280" y="981000"/>
            <a:ext cx="896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ÁUSULAS CONTRATUAI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§1º do art. 54 da Lei 8.666/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760" y="2286000"/>
            <a:ext cx="8820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ontratos devem estabelecer com clareza e precisão as condições para sua execução, expressas em cláusulas que definam os direitos, obrigações e responsabilidades das partes, em conformidade com os termos da licitação e da proposta a que se vinc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79280" y="981000"/>
            <a:ext cx="8964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ÁUSULAS NECESSÁRIA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art. 55 da Lei 8.666/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8760" y="2057400"/>
            <a:ext cx="882000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 e seus elementos característ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me de execução e forma de fornec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ço e condições de pagamento (critérios de reajusta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zo de início de etapas de execução, conclusão, entrega e recebimento definit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dito pelo qual correrá a despe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antias oferecidas para assegurar sua plena execução, quando exigi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itos e responsabilidades das partes, penalidades cabíveis e os valores da mul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ivan.silvino</cp:lastModifiedBy>
  <dcterms:modified xsi:type="dcterms:W3CDTF">2007-10-02T11:12:08Z</dcterms:modified>
  <cp:revision>24</cp:revision>
  <dc:subject/>
  <dc:title>Slide 1</dc:title>
</cp:coreProperties>
</file>