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432-7BDE-4A3C-8817-8FEED1C8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C88-B253-4539-AC1E-A0801701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F45-A523-43AE-9C79-3FA8C370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49C-B684-48C9-902B-7009E8AC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29E-E5F4-4121-A057-C928F252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E64-E64C-4DCF-A4D9-79CCE37E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E4E-2F0A-4416-936A-E9147EA8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EF6-6EAF-400D-B4C5-84CC211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55A-5E30-422F-A4B3-771B6E0B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968-EB47-42BE-967A-0B6CF26E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DC5-82FD-45F5-810C-387ED99B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E80-572C-4301-A801-4AEC9A2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D71-1B3E-4B56-9D9E-43D48E930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http://www.feam.br/images/stories/arquivos/SERVIDORES/anexo+i.doc" TargetMode="External"/><Relationship Id="rId12" Type="http://schemas.openxmlformats.org/officeDocument/2006/relationships/hyperlink" Target="http://www.feam.br/images/stories/arquivos/SERVIDORES/anexo+ii.doc" TargetMode="External"/><Relationship Id="rId13" Type="http://schemas.openxmlformats.org/officeDocument/2006/relationships/hyperlink" Target="http://www.feam.br/images/stories/arquivos/SERVIDORES/anexo+iii.doc" TargetMode="External"/><Relationship Id="rId1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79280" y="1413000"/>
            <a:ext cx="882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ocupante de cargo efetivo ou detentor de função pública, e no exercício de cargo em comissão, poderá optar por aquele sobre o qual será calculada sua diária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iárias, até o limite de dez, serão pagas antecipad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agem que ocorrer no sábado, domingo ou feriado será expressamente justificada e autorizada pelo dirigente máximo do órgão ou entidade, conforme Item 1 do formulário “Pedido de Autorização” (Anexo VII). Este formulário deverá ser preenchido em apenas uma 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iárias que excederem o limite a que referido no caput serão autorizadas mediante justificativa fundamentada, e poderão ser pagas parceladamente, a critério do dirigente máximo do órgão ou entidade, conforme Item 2 do formulário “Pedido de Autorização” (Anexo VI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casos de emergência, as diárias poderão ser pagas após o início da viagem do servidor, mediante justificativa fundamentada do dirigente máximo do órgão ou entidade, conforme Item 3 do formulário “Pedido de Autorização” (Anexo VI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79280" y="981000"/>
            <a:ext cx="8820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iagem em Veículo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será autorizada viagem de servidor em veículo particular, exc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em veículo locado do prestador de serviço ou cedido a órgão, fundação ou autarqui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em veiculo do próprio servidor, no interesse deste e do serviço, desde que previamente autorizadas pelos titulares do órgão, fundação e autarqu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1. Na hipótese do item “b” deste regulamento, a Secretaria de Estado de Planejamento e Gestão, estabelecerá normas dispondo sobre a forma de indenização das despesas realizadas pelo servidor que utilizar veículo de sua propriedade em viagens de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2. Até que sejam estabelecidas as normas a que se refere o item “11.1” o servidor que utilizar, em viagens, veículo de sua propriedade , fará jus , exclusivamente, à indenização das despesas com combustível, podendo receber adianta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79280" y="981000"/>
            <a:ext cx="882036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bel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agens Nacionais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IXA I                 FAIXA II          FAIX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is de estado exceto              140,00                       190,00                  270,00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 Horizonte, Municíp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ciais e Municípios de             100,00                     120,00                    200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os Estados que 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jam capita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is Municípi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8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10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140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0000" y="25653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50920" y="1052640"/>
            <a:ext cx="8642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quadr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: Servidor que exerça cargo efetivo ou em comissão que exija até o nível médio de escolaridade, bem como o servidor que exerça função pública que exija até esse nível de escolar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I: Servidor que exerça cargo efetivo ou em comissão que exija nível superior, bem como o servidor que exerça função pública que exija esse nível de escolaridade, além do Secretário-Coordenador da Secretaria de Estado da Educação e os membros de Conselhos Estadu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II: Secretário Particular do Governador, Assessor Especial do Governador, Assessor Especial para Assuntos Internacionais e de Cerimonial, Assessor Especial do Governador em Assuntos Institucionais, Assessor de Assuntos Internacionais II, Secretário de Estado, Secretário-Adjunto, Subsecretário, Chefe de Gabinete do Vice-Governador, Chefe de Gabinete de Secretaria de Estado e Dirigente Máximo de Órgão Autônomo, Fundação e Autarquia, Comandante de Aeronave, Comandante de Avião, Comandante de Avião a jato, Piloto de Helicóptero e Primeiro Oficial de Aerona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50920" y="1292400"/>
            <a:ext cx="8642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Relação de Municípios Espe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gamento de diárias de acordo com os critérios e valores do Decreto 44.448 de 26/01/2007 e com a seguinte relação de municípios especia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axá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rbace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elo Horizonte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xamb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agem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amanti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nópoli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overnador Valadar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atinga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uiz de For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ontes Claro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ro Pre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tos de Mina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ços de Cald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ófilo Otoni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bá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berlândia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a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argin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5280" y="1052640"/>
            <a:ext cx="799308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PERGUNTAS MAIS FREQU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 - Quando o servidor poderá efetuar despesas na viagem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servidor só poderá efetuar despesas em viagem a partir do momento que sair da sua sede.  Nota fiscal referente ao município sede não serão acei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 - Quando ocorrer atrasos nos vôos aéreos, como devo proce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caso deverá constar no campo "observações" o atraso ocorrido - justificativa pela qual os horários de embarque e desembarque não coincidirão com os constantes nos bilhetes aére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 - Qual tipo de comprovante deverei anexar quando em viagem aére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icket de embarque e o Eticket enviado por email pela empresa contratada para fornecimento das passag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 - Que documento deverei apresentar para comprovação de deslocamento, quando o veículo for loc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claração da empresa locadora em papel timbrado, contendo CNPJ e responsável pelas informações. O documento deverá constar ainda, dia e horário de saída e de chegada da viagem, localidade e  nome dos passagei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250920" y="1384200"/>
            <a:ext cx="8642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 - Quais municípios são considerados grande BH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ldim, Belo Horizonte, Betim, Brumadinho, Caeté, Capim Branco, Confins, Contage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meraldas, Florestal, Ibirité, Igarapé, Itaguara, Itatiaiuçu,  Jabuticatubas, Juatuba, Lag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nta, Mário Campos, Mateus Leme, Matozinhos, Nova Lima, Nova União, Pedro Leopol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aposos, Ribeirão das Neves, Rio Acima, Rio Manso, Sabará, Santa Luzia, São Joaquim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icas, São José da Lapa, Sarzedo, Taquaraçu de Minas e Vespasi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Apenas o caso de Contagem o mesmo continuará sendo considerado município espe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 - Quando o servidor não poderá realizar novas viage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o servidor tiver com dois adiantamentos em aberto de viagens anteriores ou apenas um adiantamento com prazo para prestação de contas vencido, ou seja, com mais de 5 dias após o retorno à se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7 - Quando o servidor não entregar a solicitação de viagem no prazo mínimo de 5 dias út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a viagem, como proce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servidor deverá entregar a solicitação até o dia da viagem para que seja emitid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penho prévio ( conforme lei 4.320/93). Após o retorno da viagem, ao apresentar o relató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mesmo receberá o valor "aprovado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50920" y="981000"/>
            <a:ext cx="864216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rdenadores de Despesa e a importância de seus atos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reto 37.924/96 – Dispõe  sobre a execução Orçamentária e Financei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1 - Ordenador de Despesa  é  o  dirigente  máximo  do órgão ou entidade investido do poder de  realizar despesas,   compreende o ato de empenhar, liquidar, ordenar pagamento  e  movimentar recursos que lhe forem atribuí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2 - É permitida a delegação  da  competência  de  que trata o artigo anterior, por meio de ato publicado no órgão oficial dos Poderes do Estado, observado o princípio de  segregação de fun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3 - O Ordenador de Despesa só será exonerado  da  sua responsabilidade se as suas contas forem julgadas regulares pelo Tribunal de Contas do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nador de despesas é toda e qualquer autoridade legalmente estabelecida de cujos atos resultarem emissão de empenho, autorização de pagamento, suprimento ou dispêndio de recursos públicos pelos quais esta respon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Ordenador de Despesa responderá, por si só ou solidariamente com os demais agentes responsáveis, por eventuais prejuízos causados à Fazenda em decorrência do recebimento, guarda e aplicação de dinheiros, valores e outros bens postos à sua disposição ou pelos quais seja responsáv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Ordenador de Despesa, salvo conivência, não deverá ser responsabilizado por prejuízos causados à Fazenda decorrentes de atos praticados pelos demais agentes que exorbitarem de ordens recebid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50920" y="981000"/>
            <a:ext cx="8642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mu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exo I: Solicitação de adiantament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nexo II: Relatório de viage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exo III: Autorização para saída de veícul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IV: Solicitação de atividade de desenvolvimento de pesso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: Requisição de serviç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: Solicitação de passagem aére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I: Pedido de autorizaçã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II: Programação de viage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981000"/>
            <a:ext cx="8642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entos SI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iantamento para diária de vi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colocar diária como adiantamento, Colocar diária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venci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ntecipa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emissão da Ordem de Pag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1042920" y="2492280"/>
            <a:ext cx="72010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413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rocedimentos referentes à Contabilidade e Finanças 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43280" y="3068280"/>
            <a:ext cx="5400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Palestrante: Andrea Quinaud Laco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       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Carlyle dos Passos L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Data: 18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468360" y="1073160"/>
            <a:ext cx="806436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ária a colaborador Even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ária concedia a consultores deverá ser efetuada na natureza de despesa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339036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1187280" y="2205000"/>
            <a:ext cx="6697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72320" y="1052640"/>
            <a:ext cx="821016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ist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histórico deverá conter principalmente,  o período da viagem, localidade e objetivo 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1187280" y="2276640"/>
            <a:ext cx="6985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7040" y="1268280"/>
            <a:ext cx="8437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pen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houver concessão de adiantamento o qual for acionado o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OMPENSA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ever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 efetuada a baixa no SIMG, tão logo seja aprovado o relatório de viag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1"/>
          <a:stretch/>
        </p:blipFill>
        <p:spPr>
          <a:xfrm>
            <a:off x="1403280" y="2492280"/>
            <a:ext cx="6553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-430200" y="1268280"/>
            <a:ext cx="99968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ento para baixa no compens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ção 08 – Movimentação Contá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ção 05 – Nota de Lançamento Contá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ção 06 – Compensad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Ação 01 – Regist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 Baixa de bens e direitos do estado s/ Responsabilidade de terc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  Prestação de contas de Adian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iantamentos diversos – combustível e lubrificante / pronto pag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  transporte urbano / passagen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 Prestação de contas de Diária de Vi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ária de vi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Lembrando que, quando for utilizado o evento 339036-04 ( diária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aborador eventual ) o compensado não é acionado, portanto não necess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a baix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1052640"/>
            <a:ext cx="8569080" cy="16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ulação de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anulação de despesa a ser efetuada no SIMG, deverá ter a data da efetiva quitaçã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, ao efetuar a anulação de despesa ocorrer de aparecer a mensagem -  Saldo insuficiente –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unca lançar data divergente da efetiva quitação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1"/>
          <a:stretch/>
        </p:blipFill>
        <p:spPr>
          <a:xfrm>
            <a:off x="1187280" y="2492280"/>
            <a:ext cx="64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1720" y="1268280"/>
            <a:ext cx="8859960" cy="51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 – Padronização de procedimentos referente à despesa públ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 Não contratação de fornecedor que esteja com CND vencida junto ao SIAD (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do de Administração Financeira), conf. Lei 8.666/93 art. 2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 Na Habilit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29 – A documentação relativa à regularidade fiscal, conf. o caso, consistirá 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- prova de inscrição no cadastro de pessoas Físicas (CPF) ou no Cadastro Nac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essoas Jurídicas (CNP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- prova de inscrição no Cadastro de Contribuintes estadual ou municipal, se houv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o ao domicílio ou sede do licitante, pertinente ao seu ramo de atividade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tível com o objeto contratu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- prova de regularidade para com a Fazenda Federal, Estadual e Municip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domicílio ou sede do licitante, ou outra equivalente, na forma da le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- prova de regularidade relativa à Seguridade Social e ao Fund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antia por Tempo de Serviço (FGTS), demonstrando situação reg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umprimento dos encargos sociais instituídos por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1268280"/>
            <a:ext cx="87138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V - Encerramento de Exercí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-se observar, principalmente, o período de COMPETÊNCIA  da despesa, ou seja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o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sca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ferentes o exercício corrente, deverão ser pagas com orçamento do exercício de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Unidades contábeis deverão deixar saldo de empenho suficientes para cobertura destas despe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Em hipótese nenhuma deverão ser pagas despesas do exercício de 2007 com orçamento  de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aldos Contábeis referentes à conta “RESPONSÁVEIS POR DIÁRIA DE VIAGEM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IANTAMENTOS” (conforme já visto – contas: 199.01.01.08.00 e 199.01.01.09.00) dever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r devidamente certifi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o no final do exercício não há adiantamento de diária, esses saldos, NORMALMENTE,  deverão apresentar saldo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1268280"/>
            <a:ext cx="871380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 – Processos de Pagamento – Pessoa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o pagamento efetuado a Pessoa Física deverá ser enviado a esta Coordenadoria, até o segundo dia útil subsequente ao mês de pagamento, as seguintes informações, para fins de preenchimento d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EFIP – Programa da Previdência Social / IN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 do contrat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or Bruto: R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lhimento 11% - R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lhimento patronal - 20% - R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do recolhimento - R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número do P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amen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º Ordem de Pagam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 de servi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ar para andrea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213372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etência profissional não é somente uma condição de prestígio, é també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a questão de honestidad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ter-se em paz é um exercício diário, porque muitos obstáculos estar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sentes no seu dia a dia,a começar pelo seu trabalho, onde sob o mesmo t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únem-se pessoas que não compartilham as mesmas idéias que você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iba respeita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-34920" y="-100080"/>
          <a:ext cx="9144000" cy="7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4920" y="-100080"/>
                    <a:ext cx="9144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5280" y="194940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61560" y="1908000"/>
            <a:ext cx="40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dice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09520" y="2708280"/>
            <a:ext cx="651060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- Procedimentos e recomendações quanto a adiant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 viagem a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.   Ordenadores de Despesa e a importância de seus ato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I – Padronização de procedimentos referente à despesa púb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V - Encerramento de Exercí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 – Processos de Pagamento – Pessoa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- Procedimentos e recomendações quanto a adiantamento para viagem a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8760" y="1773360"/>
            <a:ext cx="8820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, que se deslocar de sua sede, eventualmente e por motivo de serviço, reunião técnica ou de trabalho, ou participação em eventos de formação profissional, faz jus à percepção de diária de viagem para fazer face às despesas com alimentação e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conveniência administrativa ou operacional, a alimentação e pousada poderão ser fornecidas mediante pacote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também fará jus à percepção de diária de vi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, em exercício, for convocado para responder a processo administrativo disciplinar, na condição de membro, indiciado, testemunha ou depo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estiver em exercício em posto fiscal, ou operação especial fora de sua sede, que não ofereça alimentação e pousada oficiais gratuitas, em virtude da inexistência de instalações para tal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8760" y="1125360"/>
            <a:ext cx="88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posições Leg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to 44.448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mento de viagem a serviço disponibilizado no site do IEF, IGAM, SEMAD e F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rdo de Resultado – versão completa disponibilizado no site 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planejamento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creto 37.924/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" y="1773360"/>
            <a:ext cx="88200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 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5º - Não será concedido adiantamento a servidor em alcance ou em atraso na prestação de contas de adiantamento anterior, nem a quem já for responsável por dois adiantamen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6º - Caso o responsável pela aplicação do adiantamento não cumpra os prazos estabelecidos nos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§§ 1º e 3º deste arti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 Superintendência de Finanças ou unidade administrativa equivalente comunicará imediatamente o fato ao Ordenador de Despesa, que determinará a tomada de con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** Prazos estabelecidos pelo Decreto 44.448/07  - Art. 17 - Em todos os casos de deslocamento para viagem previstos neste Decreto, o servidor é obrigado a apresentar relatório de viagem, no prazo de cinco dias úteis subseqüentes ao retorno à sede devendo, para isso, utilizar o formulário constante no Anexo V, ou sistema eletrônico quando disponível pela SEPLAG, e restituir os valores relativos às diárias recebidas em exces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8760" y="1773360"/>
            <a:ext cx="8820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7º - Se o responsável pela aplicação do adiantamento não atender às solicitações do Tomador de Contas, no prazo por ele estabelecido, o adiantamento será considerado alcance, anulando-se a apropriação da despesa, registrando-se a responsabilidade do servidor na conta Diversos Responsáveis, instaurando-se processo administrativo e comunicando o fato ao Tribunal de Contas do Estado, no prazo máximo de 2 (dois) dias úte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ritérios para pagamento de diá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ária de viagem será calculada com base no período de afastamento do servidor, conforme os valores previstos nas tabelas constantes dos Anexos I e II do Decreto nº44.448 de 26 de janeiro de 2007, ou em Acordo de Resultados Celebrado pelo Governo do Estado de Minas Ger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79280" y="1125360"/>
            <a:ext cx="8820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 devida uma diária integral, por período de 24 (vinte e quatro) horas de afastamento, tomando-se como termo inicial e final para contagem dos dias, respectivamente, a hora da partida e a da chegada na sede, sendo dispensado, neste caso, o comprovante de despesa com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ária relativa à viagem ao exterior será computada a cada 24 (vinte e quatro) horas de afastamento, tomando-se como termo inicial e final, respectivamente, o desembarque e o embar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aso de afastamento por período igual ou superior a 12 (doze) horas e inferior a 24 (vinte e quatro) horas, havendo documento comprobatório das despesas realizadas com pagamento de pousada (pernoite) será devida diária integ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aso de afastamento por período igual ou superior a 6 (seis) horas e inferior a 24 (vinte e quatro) horas, será devida ao servidor a parcela da diária de viagem correspondente à alimentação, exceto para a região metropolitana de Belo Horizonte, quando o valor será de R$ 25,00 (vinte e cinco rea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 servidor que dispuser de alimentação ou de pousada oficial gratuita ou custeada pelo SISEMA será devida à parcela da diária de viagem correspondente à alimentação ou à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79280" y="1484280"/>
            <a:ext cx="88203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que, por convocação expressa, afastar-se de sua sede acompanhando, na condição de assessor do Governador do Estado, Vice-Governador, Secretário de Estado e dirigente máximo de órgão autônomo, fundação e autarquia, fará jus ao mesmo tratamento dispensado a essas autoridades no que se refere às despesas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dois ou mais servidores, que recebam diárias com valores diferenciados, viajarem juntos para participar de uma mesma atividade técnica, será concedida a todos diária equivalente à do servidor que estiver enquadrado na faixa superior, desde que autorizado pelo dirigente máximo do órgão ou entidade, admitida a delegação de compet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a-se atividade técnica a participação conjunta de servidor em fiscalizações, congressos, seminários, reuniões, treinamentos e outros ev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aso de servidor ocupante ou detentor de mais de um cargo ou de função pública, o cálculo da diária terá como base o cargo ou a função cujo desempenho das atividades motivou a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silviac</cp:lastModifiedBy>
  <dcterms:modified xsi:type="dcterms:W3CDTF">2007-10-05T19:52:22Z</dcterms:modified>
  <cp:revision>21</cp:revision>
  <dc:subject/>
  <dc:title>Slide 1</dc:title>
</cp:coreProperties>
</file>