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F378-6E48-4DAE-9674-9A0D87B4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53F-DC93-4731-9F6E-49D12F8F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83E4-1A26-44DC-91E8-7514ECC2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BB5D-4E49-4AF8-9B2D-86897C41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78FA-339E-4F5B-B48E-8C9F9769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5D9-B9F4-4CDA-993E-7AA210BB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9CAC-5160-48C7-A6A6-775B9AA8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B0D-F1A9-4BF5-B0AD-5114A614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D901-236A-40D8-B7A0-CAD27377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211-0D8C-4C28-B2BF-0A90AF92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5329-EFE1-491B-A75B-5580985D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A13-08F7-4BF4-97C1-C1485EBF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2B90-0E5F-4393-B8CC-88A7E67F7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hyperlink" Target="http://www.fazenda.mg.gov.br/" TargetMode="External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" Target="slide11.xml"/><Relationship Id="rId6" Type="http://schemas.openxmlformats.org/officeDocument/2006/relationships/image" Target="../media/image7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6.wmf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7.png"/><Relationship Id="rId13" Type="http://schemas.openxmlformats.org/officeDocument/2006/relationships/slide" Target="slide3.xml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03640" y="3716280"/>
            <a:ext cx="59403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516720" y="6237360"/>
            <a:ext cx="863640" cy="473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1368360"/>
            <a:ext cx="520560" cy="520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95280" y="3268800"/>
            <a:ext cx="520560" cy="520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30400" y="1341360"/>
            <a:ext cx="65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Atribui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1200" y="3227400"/>
            <a:ext cx="52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imentos Arrecadató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07880" y="5140440"/>
            <a:ext cx="520920" cy="520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890280" y="5114880"/>
            <a:ext cx="65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Criatividade na Geração de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rcRect l="0" t="-4185" r="-3407" b="0"/>
          <a:stretch/>
        </p:blipFill>
        <p:spPr>
          <a:xfrm>
            <a:off x="5148360" y="517680"/>
            <a:ext cx="720720" cy="296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6084720" y="56988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7164360" y="49680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8101080" y="31896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0" y="-49320"/>
          <a:ext cx="9144000" cy="776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-49320"/>
                    <a:ext cx="91440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0" y="5999040"/>
          <a:ext cx="9144000" cy="858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599904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140360" y="453960"/>
          <a:ext cx="672840" cy="389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40360" y="453960"/>
                    <a:ext cx="6728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66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084720" y="619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164360" y="546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8101080" y="368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0" y="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0" y="6048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48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140360" y="503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503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209240"/>
            <a:ext cx="822960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0640" y="2023920"/>
            <a:ext cx="8001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706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605"/>
                </a:solidFill>
                <a:latin typeface="Arial"/>
              </a:rPr>
              <a:t>Os valores arrecadados deverão ser recolhidos através do Documento de Arrecadação Estadual - DAE, </a:t>
            </a:r>
            <a:r>
              <a:rPr b="1" lang="en-US" sz="2000" spc="-1" strike="noStrike">
                <a:solidFill>
                  <a:srgbClr val="070605"/>
                </a:solidFill>
                <a:latin typeface="Arial"/>
              </a:rPr>
              <a:t>emitido somente via internet</a:t>
            </a:r>
            <a:r>
              <a:rPr b="0" lang="en-US" sz="2000" spc="-1" strike="noStrike">
                <a:solidFill>
                  <a:srgbClr val="070605"/>
                </a:solidFill>
                <a:latin typeface="Arial"/>
              </a:rPr>
              <a:t>, por todas as unidades arrecadadoras, conforme </a:t>
            </a:r>
            <a:r>
              <a:rPr b="0" lang="en-US" sz="2000" spc="-1" strike="noStrike" u="sng">
                <a:solidFill>
                  <a:srgbClr val="070605"/>
                </a:solidFill>
                <a:uFillTx/>
                <a:latin typeface="Arial"/>
              </a:rPr>
              <a:t>Decreto Estadual nº 44.180 de 22/12/2005</a:t>
            </a:r>
            <a:r>
              <a:rPr b="0" lang="en-US" sz="2000" spc="-1" strike="noStrike">
                <a:solidFill>
                  <a:srgbClr val="070605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706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706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605"/>
                </a:solidFill>
                <a:latin typeface="Arial"/>
              </a:rPr>
              <a:t>Relativamente aos recursos arrecadados ficam proibidos os seguintes procedimentos, podendo o infrator estar sujeito às penalidades lega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605"/>
                </a:solidFill>
                <a:latin typeface="Arial"/>
              </a:rPr>
              <a:t>a) efetuar depósito com cheque de servidor,</a:t>
            </a:r>
            <a:r>
              <a:rPr b="1" lang="en-US" sz="2000" spc="-1" strike="noStrike">
                <a:solidFill>
                  <a:srgbClr val="070605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70605"/>
                </a:solidFill>
                <a:latin typeface="Arial"/>
              </a:rPr>
              <a:t>quando este não for o beneficiário da prestação de serviço da institui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605"/>
                </a:solidFill>
                <a:latin typeface="Arial"/>
              </a:rPr>
              <a:t>b) receber cheq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605"/>
                </a:solidFill>
                <a:latin typeface="Arial"/>
              </a:rPr>
              <a:t>c) efetuar depósito em conta particular ou de tercei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605"/>
                </a:solidFill>
                <a:latin typeface="Arial"/>
              </a:rPr>
              <a:t>d) trocar cheque de servidor ou de terceiro, efetuar vales ou empréstimos</a:t>
            </a:r>
            <a:r>
              <a:rPr b="1" lang="en-US" sz="2000" spc="-1" strike="noStrike">
                <a:solidFill>
                  <a:srgbClr val="070605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70605"/>
                </a:solidFill>
                <a:latin typeface="Arial"/>
              </a:rPr>
              <a:t>no caix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66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084720" y="619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7164360" y="546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8101080" y="368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0" y="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0" y="6048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48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140360" y="503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503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66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084720" y="619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164360" y="546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8101080" y="368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0" y="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0" y="6048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48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140360" y="503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503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752400" y="2438280"/>
            <a:ext cx="7674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706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605"/>
                </a:solidFill>
                <a:latin typeface="Arial"/>
              </a:rPr>
              <a:t>DA ATUALIZAÇÃO DA TAXA DE COBRAN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605"/>
                </a:solidFill>
                <a:latin typeface="Arial"/>
              </a:rPr>
              <a:t>Os preços públicos cobrados pelo SISEMA deverão ser corrigidos tomando como indexador a variação da UFEM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605"/>
                </a:solidFill>
                <a:latin typeface="Arial"/>
              </a:rPr>
              <a:t>O valor da UFEMG para cada exercício poderá ser consultado através do site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www.fazenda.mg.gov.br</a:t>
            </a:r>
            <a:r>
              <a:rPr b="0" lang="en-US" sz="2000" spc="-1" strike="noStrike" u="sng">
                <a:solidFill>
                  <a:srgbClr val="070605"/>
                </a:solidFill>
                <a:uFillTx/>
                <a:latin typeface="Arial"/>
              </a:rPr>
              <a:t> e da Coordenadoria de Arrecadação, Controle de Receitas e Recuperação de Crédito - CORA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209240"/>
            <a:ext cx="822960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66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084720" y="619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164360" y="546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8101080" y="368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0" y="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0" y="6048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48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140360" y="503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503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62120" y="2133720"/>
            <a:ext cx="761976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0605"/>
                </a:solidFill>
                <a:latin typeface="Arial"/>
              </a:rPr>
              <a:t>Deverão ser encaminhadas todas as vias dos documentos de receita cancelados, exceto as vias fixas dos blocos, contendo no seu corpo a palavra “cancelado”, o motivo do seu cancelamento, a data, carimbo e assinatura do responsável pelo cancelamento e, no caso de auto de infração, o documento que o substitui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verão ser encaminhados através de memorand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à Coordenadoria de Arrecadação cópia de todos os contratos geradores de receitas, elaborados pela Procuradoria Jurídica do IEF, IGAM, FEAM, SEMAD, pelo jurídico dos regionais do IEF e IGAM ou jurídico das SUPRAM´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0605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209240"/>
            <a:ext cx="822960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66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084720" y="619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7164360" y="546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8101080" y="368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0" y="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0" y="6048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48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4140360" y="503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503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762120" y="1739880"/>
            <a:ext cx="7848360" cy="47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706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0605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70605"/>
                </a:solidFill>
                <a:latin typeface="Arial"/>
              </a:rPr>
              <a:t>Cobrança pela emissão da Certidão Negativa de Débito - C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706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706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70605"/>
                </a:solidFill>
                <a:latin typeface="Arial"/>
              </a:rPr>
              <a:t>R$ 10,00 Conforme Portaria Conjunta IEF/FEAM/IGAM, Nº 02 de 31/05/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706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70605"/>
                </a:solidFill>
                <a:latin typeface="Arial"/>
              </a:rPr>
              <a:t>Acompanhamento Sistemático da Renovação Anual dos registros vig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706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70605"/>
                </a:solidFill>
                <a:latin typeface="Arial"/>
              </a:rPr>
              <a:t>1º - Rastrear individualmente renovações pend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706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70605"/>
                </a:solidFill>
                <a:latin typeface="Arial"/>
              </a:rPr>
              <a:t>2º - Emitir Notificações e aguardar pag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706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70605"/>
                </a:solidFill>
                <a:latin typeface="Arial"/>
              </a:rPr>
              <a:t>3º - Baixar e Arquivar os quit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706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70605"/>
                </a:solidFill>
                <a:latin typeface="Arial"/>
              </a:rPr>
              <a:t>4º - Inscrever em Divida Ativa os inadimplentes para posterior execu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706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706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70605"/>
                </a:solidFill>
                <a:latin typeface="Arial"/>
              </a:rPr>
              <a:t>Compensação de Formularios </a:t>
            </a:r>
            <a:r>
              <a:rPr b="1" lang="pt-BR" sz="2400" spc="-1" strike="noStrike">
                <a:solidFill>
                  <a:srgbClr val="070605"/>
                </a:solidFill>
                <a:latin typeface="Times New Roman"/>
              </a:rPr>
              <a:t>FOBI’s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70605"/>
                </a:solidFill>
                <a:latin typeface="Arial"/>
              </a:rPr>
              <a:t>vencidos já qui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1133640"/>
            <a:ext cx="82296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66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084720" y="619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164360" y="546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8101080" y="368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0" y="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0" y="6048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48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140360" y="503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503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1066320"/>
            <a:ext cx="8229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tos em Exec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609560"/>
            <a:ext cx="76964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706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0605"/>
                </a:solidFill>
                <a:latin typeface="Arial"/>
              </a:rPr>
              <a:t>Inserção e integração sistematizadas dos Autos de Infração emitidos pelo Instituto Estadual de Florestas – IEF nos últimos 10 (dez) anos perfazendo o montante de 23.429 (vinte e três mil quatrocentos e vinte e nove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706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706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0605"/>
                </a:solidFill>
                <a:latin typeface="Arial"/>
              </a:rPr>
              <a:t>Integração dos arquivos do Sistema CORAD/IEF na sed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706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706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0605"/>
                </a:solidFill>
                <a:latin typeface="Arial"/>
              </a:rPr>
              <a:t>Desenvolvimento de um novo sistema de cadastro único do SISEM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706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706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0605"/>
                </a:solidFill>
                <a:latin typeface="Arial"/>
              </a:rPr>
              <a:t>Resolução Conjunta para parcelamento de Autos de Infraçã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706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706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0605"/>
                </a:solidFill>
                <a:latin typeface="Arial"/>
              </a:rPr>
              <a:t>Instrução Normativa da Arrecadação Procediment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706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706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0605"/>
                </a:solidFill>
                <a:latin typeface="Arial"/>
              </a:rPr>
              <a:t>Instrução Normativa da Arrecadação Procedimentos inerentes aos Autos de Infraçã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95280" y="1368360"/>
            <a:ext cx="520560" cy="520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95280" y="3268800"/>
            <a:ext cx="520560" cy="520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130400" y="1341360"/>
            <a:ext cx="65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Atribui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71200" y="3227400"/>
            <a:ext cx="52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Procedimentos Arrecadató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07880" y="5140440"/>
            <a:ext cx="520920" cy="520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90280" y="5114880"/>
            <a:ext cx="65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atividade na Geração de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rcRect l="0" t="-4185" r="-3407" b="0"/>
          <a:stretch/>
        </p:blipFill>
        <p:spPr>
          <a:xfrm>
            <a:off x="5148360" y="517680"/>
            <a:ext cx="720720" cy="296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6084720" y="56988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7164360" y="49680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8101080" y="31896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0" y="-49320"/>
          <a:ext cx="9144000" cy="776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-49320"/>
                    <a:ext cx="91440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0" y="5999040"/>
          <a:ext cx="9144000" cy="858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599904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140360" y="453960"/>
          <a:ext cx="672840" cy="389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40360" y="453960"/>
                    <a:ext cx="6728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66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084720" y="619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7164360" y="546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8101080" y="368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0" name=""/>
          <p:cNvGraphicFramePr/>
          <p:nvPr/>
        </p:nvGraphicFramePr>
        <p:xfrm>
          <a:off x="0" y="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0" y="6048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48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4140360" y="503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503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0680" y="12949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tividade na Geração de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2960" y="2347920"/>
            <a:ext cx="7924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0605"/>
                </a:solidFill>
                <a:latin typeface="Arial"/>
              </a:rPr>
              <a:t>EMPREENDEDOR – do francês entrepreneur “aquele que assume os riscos e descobre oportunidades, criando algo novo.” ou “aquele que destrói a ordem econômica existente pela introdução de novos produtos e serviços, pela criação de novas formas de organização ou pela exploração de novos recursos e materiais”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0605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70605"/>
                </a:solidFill>
                <a:latin typeface="Arial"/>
              </a:rPr>
              <a:t>(JOSEPH SCHUMPE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0605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70605"/>
                </a:solidFill>
                <a:latin typeface="Arial"/>
              </a:rPr>
              <a:t>O EMPREENDEDOR É UM ADMINISTRADOR QUE POSSUI ATRIBUTOS EXTRAS, POIS SÃO MAIS VISIONÁRIOS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66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084720" y="619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7164360" y="546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8101080" y="368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"/>
          <p:cNvGraphicFramePr/>
          <p:nvPr/>
        </p:nvGraphicFramePr>
        <p:xfrm>
          <a:off x="0" y="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0" y="6048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48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140360" y="503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503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tividade na Geração de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1618560"/>
            <a:ext cx="815328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70605"/>
                </a:solidFill>
                <a:latin typeface="Arial"/>
              </a:rPr>
              <a:t>Gerente        </a:t>
            </a:r>
            <a:r>
              <a:rPr b="0" lang="pt-BR" sz="1900" spc="-1" strike="noStrike">
                <a:solidFill>
                  <a:srgbClr val="070605"/>
                </a:solidFill>
                <a:latin typeface="Arial"/>
              </a:rPr>
              <a:t>                                       </a:t>
            </a:r>
            <a:r>
              <a:rPr b="1" lang="pt-BR" sz="1900" spc="-1" strike="noStrike">
                <a:solidFill>
                  <a:srgbClr val="070605"/>
                </a:solidFill>
                <a:latin typeface="Arial"/>
              </a:rPr>
              <a:t>Empreende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70605"/>
                </a:solidFill>
                <a:latin typeface="Arial"/>
              </a:rPr>
              <a:t>Tenta otimizar os recursos               Estabelece uma visão e objetiv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70605"/>
                </a:solidFill>
                <a:latin typeface="Arial"/>
              </a:rPr>
              <a:t>para atingir metas                              e depois localiza os recurs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70605"/>
                </a:solidFill>
                <a:latin typeface="Arial"/>
              </a:rPr>
              <a:t>A chave é adaptar às mudanças       A chave é iniciar a mudanç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70605"/>
                </a:solidFill>
                <a:latin typeface="Arial"/>
              </a:rPr>
              <a:t>Opera dentro de uma estrutura         Define tarefa e papéis que cria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70605"/>
                </a:solidFill>
                <a:latin typeface="Arial"/>
              </a:rPr>
              <a:t>existente                                              uma estrutura de organiz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70605"/>
                </a:solidFill>
                <a:latin typeface="Arial"/>
              </a:rPr>
              <a:t>Ênfase no hemisfério esquerdo        Ênfase no dois hemisféri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70605"/>
                </a:solidFill>
                <a:latin typeface="Arial"/>
              </a:rPr>
              <a:t>Busca aquisição de conheci-          Apoia-se na auto-imagem gerado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70605"/>
                </a:solidFill>
                <a:latin typeface="Arial"/>
              </a:rPr>
              <a:t>mentos gerenciais e técnicos.         de visão, inovação. Aquisição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70605"/>
                </a:solidFill>
                <a:latin typeface="Arial"/>
              </a:rPr>
              <a:t>                                                        </a:t>
            </a:r>
            <a:r>
              <a:rPr b="0" lang="pt-BR" sz="1900" spc="-1" strike="noStrike">
                <a:solidFill>
                  <a:srgbClr val="070605"/>
                </a:solidFill>
                <a:latin typeface="Arial"/>
              </a:rPr>
              <a:t>know how(como) e know who(quem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70605"/>
                </a:solidFill>
                <a:latin typeface="Arial"/>
              </a:rPr>
              <a:t>O que fazer ? Como fazer ?         Quem é você ? O que você faz 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4479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entury Gothic"/>
              </a:rPr>
              <a:t>TREINAMENTO DE INTEGRAÇÃO DA ÁREA MEIO – SIAD e SIA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2600" y="2381400"/>
            <a:ext cx="9117000" cy="1168200"/>
          </a:xfrm>
          <a:custGeom>
            <a:avLst/>
            <a:gdLst/>
            <a:ahLst/>
            <a:rect l="l" t="t" r="r" b="b"/>
            <a:pathLst>
              <a:path w="703" h="90">
                <a:moveTo>
                  <a:pt x="703" y="22"/>
                </a:moveTo>
                <a:lnTo>
                  <a:pt x="703" y="49"/>
                </a:lnTo>
                <a:cubicBezTo>
                  <a:pt x="672" y="34"/>
                  <a:pt x="150" y="0"/>
                  <a:pt x="0" y="90"/>
                </a:cubicBezTo>
                <a:lnTo>
                  <a:pt x="0" y="22"/>
                </a:lnTo>
                <a:lnTo>
                  <a:pt x="703" y="22"/>
                </a:lnTo>
                <a:close/>
              </a:path>
            </a:pathLst>
          </a:custGeom>
          <a:solidFill>
            <a:srgbClr val="125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3068640"/>
            <a:ext cx="6248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Realização: Subsecretaria de Inovação e Logíst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Período: 15 a 19 de Outubro d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66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084720" y="619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7164360" y="546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8101080" y="368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0" y="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0" y="6048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48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4140360" y="503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503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ns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52560" y="2817000"/>
            <a:ext cx="750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0605"/>
                </a:solidFill>
                <a:latin typeface="Arial"/>
              </a:rPr>
              <a:t>O futuro das organizações - e nações - dependerá cada vez mais de sua capacidade de aprender coletivam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0605"/>
                </a:solidFill>
                <a:latin typeface="Arial"/>
              </a:rPr>
              <a:t>(Peter Senge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0605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70605"/>
                </a:solidFill>
                <a:latin typeface="Arial"/>
              </a:rPr>
              <a:t>Obrigado pela aten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66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6084720" y="619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7164360" y="546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8101080" y="368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"/>
          <p:cNvGraphicFramePr/>
          <p:nvPr/>
        </p:nvGraphicFramePr>
        <p:xfrm>
          <a:off x="0" y="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0" y="6048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48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4140360" y="503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503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1198440"/>
            <a:ext cx="830556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RDENADORIA DE ARRECADAÇÃO, CONTROLE DAS RECEITAS E RECUPERAÇÃO DE CRED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49240" y="2798640"/>
            <a:ext cx="7761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0605"/>
                </a:solidFill>
                <a:latin typeface="Arial"/>
              </a:rPr>
              <a:t>Superintendente: Carlyle dos Passos La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0605"/>
                </a:solidFill>
                <a:latin typeface="Arial"/>
              </a:rPr>
              <a:t>Coordenador: Rodrigo Márcio de Azeve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0605"/>
                </a:solidFill>
                <a:latin typeface="Arial"/>
              </a:rPr>
              <a:t>Equipe da CORAC: Daniela Linhares, Kamilla da Silva Gonçalves, Fabiola Assis Miranda, Rafael Pedro Ribeiro, Renata Giselli Vieira, Mª Amélia Magalhã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ail: arrecadacao@semad.mg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0605"/>
                </a:solidFill>
                <a:latin typeface="Arial"/>
              </a:rPr>
              <a:t>Telefones: (31) 3219-5426 / 54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14156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d4d4d"/>
                </a:solidFill>
                <a:latin typeface="Century Gothic"/>
              </a:rPr>
              <a:t>Procedimento Arrecadatór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2600" y="2381400"/>
            <a:ext cx="9117000" cy="1168200"/>
          </a:xfrm>
          <a:custGeom>
            <a:avLst/>
            <a:gdLst/>
            <a:ahLst/>
            <a:rect l="l" t="t" r="r" b="b"/>
            <a:pathLst>
              <a:path w="703" h="90">
                <a:moveTo>
                  <a:pt x="703" y="22"/>
                </a:moveTo>
                <a:lnTo>
                  <a:pt x="703" y="49"/>
                </a:lnTo>
                <a:cubicBezTo>
                  <a:pt x="672" y="34"/>
                  <a:pt x="150" y="0"/>
                  <a:pt x="0" y="90"/>
                </a:cubicBezTo>
                <a:lnTo>
                  <a:pt x="0" y="22"/>
                </a:lnTo>
                <a:lnTo>
                  <a:pt x="703" y="22"/>
                </a:lnTo>
                <a:close/>
              </a:path>
            </a:pathLst>
          </a:custGeom>
          <a:solidFill>
            <a:srgbClr val="125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82920" y="3068640"/>
            <a:ext cx="57610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Rodrigo Azeve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Arrecadação – Sup. Contabilidade e Finanç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18 de outubro d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1368360"/>
            <a:ext cx="520560" cy="520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3268800"/>
            <a:ext cx="520560" cy="520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30400" y="1341360"/>
            <a:ext cx="65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ribui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71200" y="3227400"/>
            <a:ext cx="52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imentos Arrecadató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7880" y="5140440"/>
            <a:ext cx="520920" cy="520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90280" y="5114880"/>
            <a:ext cx="65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atividade na Geração de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7"/>
          <a:srcRect l="0" t="-4185" r="-3407" b="0"/>
          <a:stretch/>
        </p:blipFill>
        <p:spPr>
          <a:xfrm>
            <a:off x="5148360" y="517680"/>
            <a:ext cx="720720" cy="296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6084720" y="56988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9"/>
          <a:stretch/>
        </p:blipFill>
        <p:spPr>
          <a:xfrm>
            <a:off x="7164360" y="49680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0"/>
          <a:stretch/>
        </p:blipFill>
        <p:spPr>
          <a:xfrm>
            <a:off x="8101080" y="31896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0" y="-49320"/>
          <a:ext cx="9144000" cy="7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-49320"/>
                    <a:ext cx="91440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0" y="5999040"/>
          <a:ext cx="9144000" cy="85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599904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140360" y="453960"/>
          <a:ext cx="672840" cy="38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40360" y="453960"/>
                    <a:ext cx="6728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66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84720" y="619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164360" y="546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8101080" y="368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0" y="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0" y="6048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48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140360" y="503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503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95280" y="1368360"/>
            <a:ext cx="520560" cy="520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130400" y="1341360"/>
            <a:ext cx="65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ribui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71200" y="3227400"/>
            <a:ext cx="52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Procedimentos Arrecadató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9720" y="5114880"/>
            <a:ext cx="63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Projeto “Incremento de Arrecadaçã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34800" y="3276720"/>
            <a:ext cx="520920" cy="520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5"/>
          <a:stretch/>
        </p:blipFill>
        <p:spPr>
          <a:xfrm>
            <a:off x="334800" y="5105520"/>
            <a:ext cx="52092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66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84720" y="619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164360" y="546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8101080" y="368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0" y="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0" y="6048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48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140360" y="503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503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274760"/>
            <a:ext cx="63468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ribui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38280"/>
            <a:ext cx="7272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enar e controlar a execução dos processos de projeção e monitoramento de receita do SISEMA, segundo as diretrizes da SEPLAG, e de acordo com a legislação vig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66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084720" y="619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164360" y="546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8101080" y="368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0" y="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0" y="6048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48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140360" y="503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503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6040" y="128592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ribui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6560" y="2471760"/>
            <a:ext cx="822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 e implementar métodos de alavancagem de arrecadação do SIS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dronizar e otimizar procedimentos de cobrança de divida ativa e recuperação de crédito do SISE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66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84720" y="619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164360" y="546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101080" y="368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0" y="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0" y="6048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48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140360" y="503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503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1219320"/>
            <a:ext cx="5554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2360" y="258768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ir para o desenvolvimento do SISEMA e para a construção da   cidadania,  promovendo o controle das receitas arrecadadas, procurando  ativamente melhorias nos processos e ferramentas utiliz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66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084720" y="619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164360" y="546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101080" y="368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0" y="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0" y="6048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48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140360" y="503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503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1371600"/>
            <a:ext cx="6048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6520" y="270792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, entre as áreas do SISEMA, uma das melhores referências em nível de sistema de controle, administrativo, gerencial, com uma configuração organizacional ágil, prática e produti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4:26:24Z</dcterms:created>
  <dc:creator>filipe.vitor</dc:creator>
  <dc:description/>
  <dc:language>en-US</dc:language>
  <cp:lastModifiedBy>rodrigo.azevedo</cp:lastModifiedBy>
  <dcterms:modified xsi:type="dcterms:W3CDTF">2007-10-04T15:05:28Z</dcterms:modified>
  <cp:revision>12</cp:revision>
  <dc:subject/>
  <dc:title>Apresentação do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02336575</vt:r8>
  </property>
  <property fmtid="{D5CDD505-2E9C-101B-9397-08002B2CF9AE}" pid="3" name="_AuthorEmail">
    <vt:lpwstr>silvia.nunes@semad.mg.gov.br</vt:lpwstr>
  </property>
  <property fmtid="{D5CDD505-2E9C-101B-9397-08002B2CF9AE}" pid="4" name="_AuthorEmailDisplayName">
    <vt:lpwstr>silvia.nunes</vt:lpwstr>
  </property>
  <property fmtid="{D5CDD505-2E9C-101B-9397-08002B2CF9AE}" pid="5" name="_EmailSubject">
    <vt:lpwstr>ALTERAÇÃO DE APRESENTAÇÕES</vt:lpwstr>
  </property>
  <property fmtid="{D5CDD505-2E9C-101B-9397-08002B2CF9AE}" pid="6" name="_ReviewingToolsShownOnce">
    <vt:lpwstr/>
  </property>
</Properties>
</file>