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27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7.wmf" ContentType="image/x-wmf"/>
  <Override PartName="/ppt/media/image13.png" ContentType="image/png"/>
  <Override PartName="/ppt/media/image4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4F4-7EB3-4623-8318-3D49DE52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AA2-FC01-4EA0-86E6-585E636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78C-1E1F-476D-A136-0F61046E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51B-4A75-4D4D-B80B-4538CEB7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7F4-37FB-4587-87C0-10F43FC0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17A-F26A-46E1-85DD-5D49C2D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C0C-F984-494E-B1BA-34093D4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886-1811-4978-846B-48C11FF8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C93-CF46-4813-A31B-B380E3F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1C5-2F33-4AFC-AE4E-515B014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331-7FEA-4F86-BEAC-946DD8B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13D-D7E2-407A-9591-AE972A8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8280-5AE8-4619-85B4-FCE224F101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" Target="slide3.xml"/><Relationship Id="rId14" Type="http://schemas.openxmlformats.org/officeDocument/2006/relationships/image" Target="../media/image8.png"/><Relationship Id="rId15" Type="http://schemas.openxmlformats.org/officeDocument/2006/relationships/slide" Target="slide3.xm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carlyle.laia@semad.mg.gov.br" TargetMode="External"/><Relationship Id="rId1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" Target="slide3.xml"/><Relationship Id="rId14" Type="http://schemas.openxmlformats.org/officeDocument/2006/relationships/image" Target="../media/image8.png"/><Relationship Id="rId15" Type="http://schemas.openxmlformats.org/officeDocument/2006/relationships/slide" Target="slide3.xm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68360" y="1600200"/>
            <a:ext cx="835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395280" y="1600200"/>
            <a:ext cx="835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539640" y="1652760"/>
            <a:ext cx="813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395280" y="1628640"/>
            <a:ext cx="83534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539640" y="1628640"/>
            <a:ext cx="8352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395280" y="1557360"/>
            <a:ext cx="83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V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468360" y="1666800"/>
            <a:ext cx="820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V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468360" y="1557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V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468360" y="1733400"/>
            <a:ext cx="82072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INTEGRAÇÃO DA ÁREA MEIO – SIAD e S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5 a 19 de Outubro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V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468360" y="1724040"/>
            <a:ext cx="82072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4760" y="1268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ulta Saldo Contas Contábeis -SIAFI</a:t>
            </a:r>
            <a:r>
              <a:rPr b="1" lang="en-US" sz="63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63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menda-se que no último dia útil do mês seja efetuada consulta das contas contábeis abaixo para conciliação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9.01.01.08.00 – Diárias de viag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9.01.01.09.00 –Adiantamentos</a:t>
            </a:r>
            <a:br>
              <a:rPr sz="63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" descr=""/>
          <p:cNvPicPr/>
          <p:nvPr/>
        </p:nvPicPr>
        <p:blipFill>
          <a:blip r:embed="rId11"/>
          <a:stretch/>
        </p:blipFill>
        <p:spPr>
          <a:xfrm>
            <a:off x="395280" y="98100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" descr=""/>
          <p:cNvPicPr/>
          <p:nvPr/>
        </p:nvPicPr>
        <p:blipFill>
          <a:blip r:embed="rId11"/>
          <a:stretch/>
        </p:blipFill>
        <p:spPr>
          <a:xfrm>
            <a:off x="395280" y="105264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11"/>
          <a:stretch/>
        </p:blipFill>
        <p:spPr>
          <a:xfrm>
            <a:off x="468360" y="1125360"/>
            <a:ext cx="82072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" descr=""/>
          <p:cNvPicPr/>
          <p:nvPr/>
        </p:nvPicPr>
        <p:blipFill>
          <a:blip r:embed="rId11"/>
          <a:stretch/>
        </p:blipFill>
        <p:spPr>
          <a:xfrm>
            <a:off x="468360" y="1052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2924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Tahoma"/>
              </a:rPr>
              <a:t>Relatórios - SIAD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IENT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formações devem ser solicitadas no SIAD e estarão disponíveis no dia posterior ao requerimento no Portal Compras: www.compras.mg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541440" y="119700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468360" y="141300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Century Gothic"/>
              </a:rPr>
              <a:t>Instrução Normativa nº 07/2003 – Tribunal de Con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19280" y="3068640"/>
            <a:ext cx="730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Alanna Mesqu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Marco Aurélio B. Vasconc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Coordenação de Convênios e Prestação de C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4d4d4d"/>
                </a:solidFill>
                <a:latin typeface="Century Gothic"/>
              </a:rPr>
              <a:t>16/1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" descr=""/>
          <p:cNvPicPr/>
          <p:nvPr/>
        </p:nvPicPr>
        <p:blipFill>
          <a:blip r:embed="rId11"/>
          <a:stretch/>
        </p:blipFill>
        <p:spPr>
          <a:xfrm>
            <a:off x="541440" y="1486080"/>
            <a:ext cx="8207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395280" y="148428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39640" y="1268280"/>
            <a:ext cx="770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539640" y="1197000"/>
            <a:ext cx="79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" descr=""/>
          <p:cNvPicPr/>
          <p:nvPr/>
        </p:nvPicPr>
        <p:blipFill>
          <a:blip r:embed="rId11"/>
          <a:stretch/>
        </p:blipFill>
        <p:spPr>
          <a:xfrm>
            <a:off x="468360" y="1123920"/>
            <a:ext cx="8136000" cy="5041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H="1">
            <a:off x="3634920" y="3284640"/>
            <a:ext cx="10796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708000" y="3500280"/>
            <a:ext cx="10796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3" name="" descr=""/>
          <p:cNvPicPr/>
          <p:nvPr/>
        </p:nvPicPr>
        <p:blipFill>
          <a:blip r:embed="rId11"/>
          <a:stretch/>
        </p:blipFill>
        <p:spPr>
          <a:xfrm>
            <a:off x="519120" y="14130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flipH="1">
            <a:off x="4633560" y="3529080"/>
            <a:ext cx="10796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633560" y="3746520"/>
            <a:ext cx="10796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6" name="" descr=""/>
          <p:cNvPicPr/>
          <p:nvPr/>
        </p:nvPicPr>
        <p:blipFill>
          <a:blip r:embed="rId11"/>
          <a:stretch/>
        </p:blipFill>
        <p:spPr>
          <a:xfrm>
            <a:off x="539640" y="1197000"/>
            <a:ext cx="82296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7" name="" descr=""/>
          <p:cNvPicPr/>
          <p:nvPr/>
        </p:nvPicPr>
        <p:blipFill>
          <a:blip r:embed="rId11"/>
          <a:stretch/>
        </p:blipFill>
        <p:spPr>
          <a:xfrm>
            <a:off x="468360" y="1052640"/>
            <a:ext cx="82296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519120" y="14130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 flipH="1">
            <a:off x="4346640" y="3529080"/>
            <a:ext cx="10792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346640" y="3746520"/>
            <a:ext cx="10792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346640" y="3962520"/>
            <a:ext cx="10792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346640" y="4178160"/>
            <a:ext cx="10792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cução Recursos Convên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unidades que estão executando Recursos de Convênios ou de Contra-Partida devem identificar, separar e enviar os processos à Coordenadoria de Convênios e Prestação de Contas após finalizada a desp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: ITTO, MMA, Aracruz, Cenibra, CA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92600" y="185904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Objetivos d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63680" y="3149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08160" y="309348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" y="42163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01680" y="416016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Modelos de An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vio dos Processos finalizados à S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processos com as despesas finalizadas pela Unidade Executora devem ser encaminhados à Sede, devidamente numerados e assi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unidades que possuem processos referente ao exercício de 2006 devem encaminha-lós primeiro e aguardar a solicitação dos d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2254320"/>
            <a:ext cx="815328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Superintendente: Carlyle dos Passos La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e-mail: </a:t>
            </a:r>
            <a:r>
              <a:rPr b="0" lang="pt-BR" sz="22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carlyle.lai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Telefone: (031) 321954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Coordenadoria de Convênios e Prestação de Co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e-mail:</a:t>
            </a: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alanna.mesquit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Coordenadora: Alanna Mesquita Gonç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Telefone: (031) 321954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1143000"/>
            <a:ext cx="8077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4d4d4d"/>
                </a:solidFill>
                <a:latin typeface="Tahoma"/>
              </a:rPr>
              <a:t>Superintedência de Contabilidade, Finanças e Cu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1919160"/>
            <a:ext cx="87138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rigada pela aten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boa tarde a to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Sylfae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Sylfaen"/>
              </a:rPr>
              <a:t>“</a:t>
            </a:r>
            <a:r>
              <a:rPr b="1" lang="en-US" sz="2400" spc="-1" strike="noStrike">
                <a:solidFill>
                  <a:srgbClr val="339933"/>
                </a:solidFill>
                <a:latin typeface="Sylfaen"/>
              </a:rPr>
              <a:t>Em todos os caminh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lfaen"/>
              </a:rPr>
              <a:t>a diferença não é a ped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lfaen"/>
              </a:rPr>
              <a:t>mas sim as </a:t>
            </a:r>
            <a:r>
              <a:rPr b="1" i="1" lang="en-US" sz="2400" spc="-1" strike="noStrike">
                <a:solidFill>
                  <a:srgbClr val="339933"/>
                </a:solidFill>
                <a:latin typeface="Sylfaen"/>
              </a:rPr>
              <a:t>PESSOAS</a:t>
            </a:r>
            <a:r>
              <a:rPr b="1" lang="en-US" sz="2400" spc="-1" strike="noStrike">
                <a:solidFill>
                  <a:srgbClr val="339933"/>
                </a:solidFill>
                <a:latin typeface="Sylfae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Sylfaen"/>
              </a:rPr>
              <a:t>Autor desconhecido.</a:t>
            </a:r>
            <a:r>
              <a:rPr b="1" lang="en-US" sz="1800" spc="-1" strike="noStrike">
                <a:solidFill>
                  <a:srgbClr val="339933"/>
                </a:solidFill>
                <a:latin typeface="Sylfa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4160" y="488412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Envio de Processos finalizados à S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6200" y="21765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14520" y="49291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54160" y="210276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Relatórios - SI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2760" y="343620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Execução – Recursos – Convê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73120" y="34815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2600" y="2060640"/>
            <a:ext cx="8134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ender ao Tribunal de Contas do Estado de Minas Gerais através da Instrução normativa nº 07/03 que estabelece normas de fiscalização contábil, financeira, orçamentária, operacional e patrimonial nas administrações Direta e Indireta do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Objetivos d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520" y="2014560"/>
            <a:ext cx="81342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informações devem ser apresentadas em seis anexos, sendo encaminhados à Coordenadoria de Convênios e Prestação de Contas até o dia vinte do mês subseqüente ao de sua re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descumprimento do disposto na IN-03/07, implicará em multa ao representante legal do Órgão ou ao Ordenador de Despesas ou pelo detentor de delegação de compet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Proced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060640"/>
            <a:ext cx="821844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s anexos referente a Contratos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strumento Congêneres dev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r preenchidos apenas qu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ão possuir registro no SI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Modelos de Ane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EX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755640" y="1484280"/>
            <a:ext cx="7920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ilviac</cp:lastModifiedBy>
  <dcterms:modified xsi:type="dcterms:W3CDTF">2007-10-05T19:24:20Z</dcterms:modified>
  <cp:revision>43</cp:revision>
  <dc:subject/>
  <dc:title>Slide 1</dc:title>
</cp:coreProperties>
</file>