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B88-CC14-4C67-BC9A-ED6FBAA7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BB9-E9C4-477D-9E08-5CB3E053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6E4-9AE1-4258-AD7F-E7C4C908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8A9-D749-4214-951B-F5453F4B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BB3-340E-48DC-82CD-FE63533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B20-EC88-48E4-9031-C73C2E15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D2F-DC6C-4FF2-8724-817F33DB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620-4A37-4145-8ED8-79B8D25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E57-91DC-4C82-A3AB-752F21FD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0B1-71E5-45E4-B1B2-0333CC8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E03-7A3D-489A-94B4-A48A27E3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963-59FB-4ADC-85CD-C422E5D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853-7AE6-477A-935A-2E8950417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tania.tuocchio@ief.mg.gov.br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" Target="slide6.xml"/><Relationship Id="rId14" Type="http://schemas.openxmlformats.org/officeDocument/2006/relationships/image" Target="../media/image8.png"/><Relationship Id="rId15" Type="http://schemas.openxmlformats.org/officeDocument/2006/relationships/slide" Target="slide6.xml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234936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tender os objetivos propostos precis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er 3 pergun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º-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 que se g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º-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Quem g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º-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Como se g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istema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20500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 QUE SE GAS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istema deverá identificar quais são os itens de custo, e quais são os recursos consumidos pelos órgãos no desempenho de suas atividades habitu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istema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060640"/>
            <a:ext cx="849600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ontabilidade pública está estruturada  para atender às informações referentes ao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“Gasto”,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fornecendo todas as informações ref. ao controle do fluxo financeiro, orçamentário  e patrimon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não informa sobre o momento em que o Governo, de fato, consome os recursos disponíve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1773360"/>
            <a:ext cx="882000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O QUE SE GASTA”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são os elementos itens de despesas utilizados na contabilidade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º   2º    3º    4º     5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tegoria econô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upo de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dalidade de 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Elemento de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Item de Desp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141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386064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314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3640" y="4292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653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501336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3068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08360" y="5373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205000"/>
            <a:ext cx="8640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1" lang="en-US" sz="2600" spc="-1" strike="noStrike">
                <a:solidFill>
                  <a:srgbClr val="ff3300"/>
                </a:solidFill>
                <a:latin typeface="Tahoma"/>
              </a:rPr>
              <a:t>QUEM  GAST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esse momento precisamos identificar qual a  UNIDADE que consumiu ou utilizou os recurs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corre que a Unidade Gestora ou Orçamentária nem sempre  é a Unidade de Cus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2421000"/>
            <a:ext cx="8207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Unidades Orçamentárias abrigam diversas Unidades de Custo, sendo assim teremos que efetuar o procedimento conhecido como departamentalização ou centro de custos para mensurar os custos de diversas áre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79280" y="62064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341360"/>
            <a:ext cx="842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ssa informação é importante para sabermos quanto custam os  serviços executados pelos órgãos do Sis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 custo será utilizado para a  precificação  dos serviços executad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Tahoma"/>
              </a:rPr>
              <a:t>Exemplo: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1-  Qual é o custo de um processo de outorg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2- Qual é custo de um processo de licenciamento           ambiental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3- Qual é o custo de  monitoramento e Geo-     processam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79280" y="836640"/>
            <a:ext cx="54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773360"/>
            <a:ext cx="864216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COMO SE G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sse momento estamos identificando as  atividades desenvolvidas por cada órgão, e assim poderemos mensurar o valor agregado por essa ativ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ços consomem atividades e Atividades consomem re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50920" y="620640"/>
            <a:ext cx="5472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1844640"/>
            <a:ext cx="864252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1413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Quem 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O que se 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Como se 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205000"/>
            <a:ext cx="172728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3573360"/>
            <a:ext cx="158436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Reg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up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Núcl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flo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2565360"/>
            <a:ext cx="2376720" cy="38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ss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e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ços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ust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nutençã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2492280"/>
            <a:ext cx="1944720" cy="38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nito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cenc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minist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17080" y="2492280"/>
            <a:ext cx="431640" cy="38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7280" y="4508640"/>
            <a:ext cx="503280" cy="360360"/>
          </a:xfrm>
          <a:custGeom>
            <a:avLst/>
            <a:gdLst>
              <a:gd name="textAreaLeft" fmla="*/ 6264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7280" y="1844640"/>
            <a:ext cx="288720" cy="647640"/>
          </a:xfrm>
          <a:prstGeom prst="downArrow">
            <a:avLst>
              <a:gd name="adj1" fmla="val 50000"/>
              <a:gd name="adj2" fmla="val 56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184464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08720" y="4437000"/>
            <a:ext cx="504720" cy="360360"/>
          </a:xfrm>
          <a:custGeom>
            <a:avLst/>
            <a:gdLst>
              <a:gd name="textAreaLeft" fmla="*/ 96120 w 504720"/>
              <a:gd name="textAreaRight" fmla="*/ 408600 w 504720"/>
              <a:gd name="textAreaTop" fmla="*/ 90360 h 360360"/>
              <a:gd name="textAreaBottom" fmla="*/ 270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24"/>
                </a:moveTo>
                <a:lnTo>
                  <a:pt x="13313" y="5424"/>
                </a:lnTo>
                <a:lnTo>
                  <a:pt x="13313" y="0"/>
                </a:lnTo>
                <a:lnTo>
                  <a:pt x="21600" y="10800"/>
                </a:lnTo>
                <a:lnTo>
                  <a:pt x="13313" y="21600"/>
                </a:lnTo>
                <a:lnTo>
                  <a:pt x="13313" y="16176"/>
                </a:lnTo>
                <a:lnTo>
                  <a:pt x="0" y="16176"/>
                </a:lnTo>
                <a:lnTo>
                  <a:pt x="4125" y="10800"/>
                </a:lnTo>
                <a:lnTo>
                  <a:pt x="0" y="54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56720" y="4437000"/>
            <a:ext cx="361800" cy="287280"/>
          </a:xfrm>
          <a:prstGeom prst="leftArrow">
            <a:avLst>
              <a:gd name="adj1" fmla="val 50000"/>
              <a:gd name="adj2" fmla="val 31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2360" y="1844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92360" y="314172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d90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179280" y="836640"/>
            <a:ext cx="54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puraç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773360"/>
            <a:ext cx="86421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484280"/>
            <a:ext cx="4319640" cy="496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ções proposta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- Informar a data de competência na liquidação do Empenh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2 - Otimização dos gastos com Energia elétrica, telefonia fixa e Móvel, Água, combustível, correios, Manutenção e reparos;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 – Enviar relatório de Gastos realizados nas Regionais  e      Sup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4 – Implantação de centro de custo  no SISEMA;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1484280"/>
            <a:ext cx="396108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- Começo imed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2 - Acordo de resultado, reduç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0% nas despesas correntes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 – Enviar apartir de novemb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2007  para a Coord.de Co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 Cu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4 -  Para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484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6453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1484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148428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0526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Century Gothic"/>
              </a:rPr>
              <a:t>Gestão de Cust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Palestrante: Tânia B. Ribeiro Truocch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/10/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250920" y="1773360"/>
            <a:ext cx="86421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1197000"/>
            <a:ext cx="821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NFCAEG16                    Estado de Minas Gerais                    PRODEM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VFCAEG1B                        S I A F I - MG                      18/09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X0079332            Consulta Liquidacao do Empenho da Despesa            14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no Exercicio: 2007  Nr.Empenho: 0000010  Dt.Reg.: 30/01/2007  Evento: 0503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Sq.Registro: 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Unid. Executora: 2090001 - FEAM -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Unid. Orcamentaria: 2091 - FUNDACAO ESTADUAL DO MEIO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UO    Programa de Trabalho   Nat. Despesa  Item  Fonte Proc. 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2091   18 542 142 4622 0001    339030              26       52     1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PF Credor:   993923136-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ome: CARLOS ALBERTO DOS SA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Valor Bruto:               155,24   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Valor Retenca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Valor Multa: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Valor Liquido:                   155,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Ano/Mes Referencia:  </a:t>
            </a:r>
            <a:r>
              <a:rPr b="1" i="1" lang="pt-BR" sz="2000" spc="-1" strike="noStrike" u="sng">
                <a:solidFill>
                  <a:srgbClr val="ff3300"/>
                </a:solidFill>
                <a:uFillTx/>
                <a:latin typeface="Tahoma"/>
              </a:rPr>
              <a:t>2007 /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dor Reg.: M1147945               Dt. Previsao Pagto.: 30/01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250920" y="1773360"/>
            <a:ext cx="86421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68360" y="1484280"/>
          <a:ext cx="8424360" cy="4913280"/>
        </p:xfrm>
        <a:graphic>
          <a:graphicData uri="http://schemas.openxmlformats.org/drawingml/2006/table">
            <a:tbl>
              <a:tblPr/>
              <a:tblGrid>
                <a:gridCol w="1910880"/>
                <a:gridCol w="2691360"/>
                <a:gridCol w="1633320"/>
                <a:gridCol w="218880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ens de Desp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pecif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h, M3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p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m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 K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lemar- con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lemar- contr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aro de Veícu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necimento de Aliment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pesso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ustí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latório de Despesas Corrent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179280" y="1341360"/>
            <a:ext cx="87138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ito Obrigado pela atenção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a boa tarde a to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ênio é Deus quem dá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o talento é por nossa conta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aub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ânia Truocchio – Financeiro/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ania.tuocchio@ief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31 3219-54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61560" y="190800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dice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3" action="ppaction://hlinksldjump"/>
          </p:cNvPr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401760" y="326880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65160" y="324324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Sistema de Apuração de 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5" action="ppaction://hlinksldjump"/>
          </p:cNvPr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395280" y="442116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56160" y="43959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Metodologia e apl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estão de Cu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064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antação de um sistema de custos, tendo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idade proporcionar aos gestore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ções relevantes sobre os custos envolv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 prestação dos serviç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bjetivos Especí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060640"/>
            <a:ext cx="8208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- Identificar e apurar os custos dos serviços por atividades desenvolvidas, acompanhando as variações ocorridas entre as metas estabelecidas e o gasto realizad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- Implantar relatórios específicos com informações que possam subsidiar as tomadas de decisões gerenc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bjetivos Especí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98900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– Implantar indicadores de desempenho visando a racionalização e a otimização dos ga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-  Implantar a metodologia de centros de custos nos órgãos de responsabilidade do SIS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mbasamento 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91628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primento de um dispositivo legal, Lei 101/00 (Lei de Responsabilidade Fisc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. 4º - A lei de diretrizes orçamentárias atenderá ao disposto no § 2º do art. 165 da Constituição 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Alínea “e” - Normas relativas ao controle de custo e à avaliação dos resultados dos programas com recursos dos orçamentos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mbasamento Leg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1773360"/>
            <a:ext cx="88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. 50 – Além de obedecer ás demais normas de contabilidade pública, a escrituração das contas públicas observa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§ 3º - A administração pública manterá sistema de custos que permita a avaliação e o acompanhamento da gestão orçamentária, financeira e patrimonia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mbasamento Leg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276640"/>
            <a:ext cx="842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 resumo, a Lei de Responsabilidade Fiscal objetiva disciplinar a gestão dos recursos públicos,  imputando maior responsabilidade aos seus gestores e maior transparência da gestão fis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ilviac</cp:lastModifiedBy>
  <dcterms:modified xsi:type="dcterms:W3CDTF">2007-10-05T19:10:38Z</dcterms:modified>
  <cp:revision>19</cp:revision>
  <dc:subject/>
  <dc:title>Slide 1</dc:title>
</cp:coreProperties>
</file>