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0.gif" ContentType="image/gi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647-8154-4F49-AAAF-B7E45621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739-F82D-4731-9C2E-B9EEBF2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EF8-5E64-445C-8EB5-D011633B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D2C-E152-41CA-BD58-B9AAE427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36A-A620-4DF6-A408-60DCA61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E30-1FBB-4630-9504-5855F79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3C0-6DF7-41A8-B592-0E97FAE7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BD6-1640-431A-A4F2-30BE36D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C4B-FCA0-4214-9EA1-58535551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1EB-53A9-46CD-9EF4-F35040F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73E-EC4B-411D-B252-B8E1C04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D65-0E3E-4C0B-A735-162153D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0EEF-A7B4-4C49-9129-CD26054B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.wmf"/><Relationship Id="rId12" Type="http://schemas.openxmlformats.org/officeDocument/2006/relationships/hyperlink" Target="mailto:sil@semad.mg.gov.br" TargetMode="External"/><Relationship Id="rId13" Type="http://schemas.openxmlformats.org/officeDocument/2006/relationships/hyperlink" Target="mailto:juridico@semad.mg.gov.br" TargetMode="External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LOS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e 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EDIDO DE ABERTURA DE PROCESSO DE DESPES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MO N.º: 47/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hefe da Seção Administrativa/Superintendência de 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R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Superintendên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02/03/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eza autorizar a abertura do processo de despesa, tendo como objeto contratação de empresa para prestação de serviços de manutenção de máquinas/equipamentos da marca Caterpillar, Case, Michigan, Komatso e Valmet por um período de 12 (doze) meses, conforme Resolução SEMAD 619 de 20/04/2007 e Resolução Conjunta 10 de 14/05/2007 SEMAD-IEF/IGAM/FEAM, de 19/10/2004.Esclareço que o valor estimado para os fornecimentos é de R$60.577,95(sessenta mil, quinhentos e setenta e sete reais e noventa e cinco centavos), a preços referenciados de Março de 2007, na dotação orçamentária: 2301.26.782.123.4134.0001.33.90.39.2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ano de 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fe da Seção Administrativa/Superintendente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rizo na forma da Lei, aos ____/____/____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ano de tal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ridade competente (nos casos de bens permanentes, a autoridade sempre será o Subsecretário de Inovação e Logístic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ago A. Costa Greg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sitos Necess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2852640"/>
            <a:ext cx="1656000" cy="115272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2565360"/>
            <a:ext cx="331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LARECER A AUTORIDADE COMPET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S</a:t>
            </a:r>
            <a:br>
              <a:rPr sz="44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se 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58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VA DE CONTRA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LOS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e 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4971960" cy="6877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4859280" y="17640"/>
            <a:ext cx="450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sitos Necess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ões de ordem técnica e administrativa que levam a necessidade de contra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pensa/inexigibilid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var enquadramento em hipótese de contratação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30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LOS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e 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ERMO DE REFER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N.º: 0015018-2300/2007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GÃO PRESENCIALN.º: 001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JETO: contratação de empresa para a manutenção dos equipamentos da marca Caterpillar, Case, Michingan, Komatso e Valmet, por um período de 12 (doze) me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TAÇÃO ORÇAMENTÁRIA: 2301.26.782.123.4134.0001.33.90.39.21, fontes 60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JUSTIFICATIVA: Atender a necessidade da Superintendência no referente a manutenção de máquinas/ equipa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VALIAÇÃO TOTAL DO CUSTO: R$ 60.577,95 ( sessenta mil, quinhentos e setenta e sete reais e noventa e cinco centav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VALIAÇÃO DO CUSTO:Lote 1 : Manutenção de equipamentos da marca Caterpillar – R$ 18.472,20 (dezoito mil, quatrocentos e setenta e dois reais e vinte cenavos) – referente à ____ horas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2 : Manutenção de equipamentos da marca Case – R$ 9.779,40 (nove mil, setecentos e setenta e nove reais e quarenta centavos)- referente à ____ horas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3 : Manutenção de equipamentos da marca Michingan – R$9.779,40 (nove mil, setecentos e setenta e nove reais e quarenta centavos) referente à  horas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4 : Manutenção de equipamentos da marca Komatso – R$ 18.472,20 (dezoito mil, quatrocentos e setenta e dois reais e vinte centavos) referente à ____ horas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5 : Manutenção de equipamentos da marca Valmet – R$ 4.074,75 (quatro mil, setenta e quatro reais e cinco centavos) referente à ____ horas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OTAL: R$ 60.577,95 (sessenta mil, quinhentos e setenta reais e noventa e cinco centav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RITÉRIO PARA JULGAMENTO: Menor valor unitário para mão de obra hora/ho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AZO PARA A EXECUÇÃO . DO CONTRATO: 12 (doze) m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ulano de 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perintendente 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sitos Necess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. d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92360" y="2852640"/>
            <a:ext cx="1656000" cy="115272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2565360"/>
            <a:ext cx="331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UMO NORTEADOR DO PROC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50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SETOR SOLICITANTE: 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ONTRATADO: 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JETO: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PROCESSO Nº _________________________ DATA: ____/____/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VALOR (R$):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ASE INTERNA – Procedimentos =&gt; verifica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 - Abertura de processo, devidamente numerado, com capa, cont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Nome do contratado;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scrição, quantidade e modo de fornecimento do objeto a ser contratado, sem que a especificação limite a competiçã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Numeração e rubrica em todas as folhas do process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 – Solicitação do setor interessado cont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scrição clara, precisa e suficiente do objeto a ser contratado, sem constar indicação de marca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Justificativa fundamentada da necessidade de contratação e descrição detalhada do objet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Verificar se o bem a ser contratado pode ser considerado comum, nos termos da lei (ver art.3º, §3º, do Decreto 42.408/2002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- Manifestação da Coordenadoria de Gestão de Suprimentos, c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Pesquisa de mercado feita pelo setor de compras com, no mínimo, 3 ( três) cotações de merc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Tabela com valor de referência, tendo por base o preço médio das 3 (três) cotaçõ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Pedido de Abertura de Processo de Despesa e Autorização da Abertura pela autoridade compet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4- Termo de Referência contend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scrição detalhada do objeto a ser licitado (quantidade/código/descrição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Orçamento estimativo do custo, contendo a sua composição e, quando for o caso, as variáveis 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ompõem o custo tais como acondicionamento, embalagem e fre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Orçamento baseado, no mínimo, em 3 (três) orçamentos prév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finição dos métodos de fornecimento/contratação (mensal, anual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prazo e local para a execução do contrato, quando houve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estratégia de suprimento (onde e como receber/ prazo de entrega), quando for o cas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scrição detalhada do preço cobrado (valor unitário/valor glob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iscriminação do valor quanto ao desembolso, se for parcela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5- ( ) Pedido de Abertura do Processo de Lici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6- ( )Autorização de Abertura pela autoridade compe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50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ÃO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7- (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)Certidão e/ou declaração do ordenador de despesas com a informação de que existe disponibilidade orçamentária e financeira para a execução do objeto contratado e indicação da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tação orçamentá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8- ( ) Minuta do Edital e Minuta do Contrato elaborados pela C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9- ( ) Aprovação dessas Minutas pela Assessoria/Procuradoria Juríd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0- ( ) Designação do pregoeiro por autoridade competente – cópia do ato publicado do DO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Pregoeiro pertencente ao órgão ou entidade promotora da licitaç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Designação da equipe de apoio por autoridade competente,composta, em sua maioria, por servidores ocupantes de cargo ou emprego público, preferencialmente na entidade promotora da licit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SE EXTERNA – PROCEDIMENTOS – PREGÃO =&gt; verifi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1- Publicação do edital, que deverá con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scrição do objeto clara e preci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local, data e hora da realização do pregão, respeitando-se o prazo mínimo para a abertura da sessão: oito dias úteis, a contar da publicação do edi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exigências da habilitaç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critérios de aceitação das propostas (julgamento por menor preço, observados prazos máximo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rnecimento, especificações técnicas e parâmetros mínimos desempenho e qualidade definidos no edit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condições de fornecimento (mensal, anual etc) e entrega (data /local/hor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forma de paga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preço unitário/preço glob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Prazo de execução do contrato, quando aplicáve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cronograma físico de entrega, se for o c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cronograma físico financeiro de desembolso, se for o c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respectivos anexos do edi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sanções para o inadimple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endereço eletrônico na internet, onde ocorrerá a sessão pública, quando o c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2- ( ) Cópia da Publicação do Extrato do Edital do Pregão no DOE, com data de no mínimo oito dias úteis anteriores à data da realização da Sess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3- Em caso de haver pedidos de esclarecimentos, providências ou impugnação ao ato convocatório, o prazo é de até 2 (dois) dias úteis antes do recebimento das propostas. Se afirmativ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decisão do pregoeiro no prazo de 24 ho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( ) abertura de novo prazo para o certame, no caso de alteração do ed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4 - ( ) Abertura da Sessão Pública, no dia, hora e local designados pelo ed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5 – ( ) Credenciamento dos licitantes para formulação de propostas (lances), conforme o ed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50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ÃO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6 – Apresentação das propostas comerci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Prazo para execução do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Descrição detalhada d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Preço a ser cobrado, constando também desconto do ICMS para licitantes domiciliados em Minas Gerais, desde que não optante pelo SIMPLES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Discriminação do valor total mensal e an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Prazo de validade de 60 dias contados da abertura do processo, salvo se houver outro prazo no ed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7 - Ata Circunstanciada da Sessão do Preg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registro dos licitantes creden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propostas escritas apresen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propostas verbais apresen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 ) Assinatura do Pregoeiro, da equipe de apoio e dos licitant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8 - Preço adjudicado inferior ao Valor constante do termo de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Palestrante: Paula Sabat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Data: 19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628640"/>
            <a:ext cx="75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Century Gothic"/>
              </a:rPr>
              <a:t>PADRONIZAÇÃO DOS PROCEDIMENTOS ADMINISTRATIVOS DO SI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50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ÃO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- Habilitação do licitante vencedor nos termos do edital (vide procedimento especial para pregão eletrônico), com a documentação jurídica conten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- Pessoa Natur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édula de identidade do fornecedo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édula do CPF do fornecedo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mprovante de residênc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ssoa Jurídic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ntrato social e suas alterações posteriores ou documento equivalent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ata de eleição da atual diretoria, quando for o caso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inscrição no CNPJ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prova de inscrição estadual de contribuintes, do respectivo estado no qual está instalada a pessoa juríd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Regularidade Fiscal ju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( ) IN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( ) FG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Fazenda Federal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( ) Fazenda Estad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Fazenda Municip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balanço patrimonial do último exercício ou declaração de imposto de renda da pessoa jurídica do último exercício, na forma da le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demonstração de resultado do último exercício, conforme o caso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ertidão negativa de pedido de falência ou recuperação judicial de empresa expedida pelo distribuidor da sede da empr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declaração conforme modelo disponibilizado no sítio “www,compras.mg.gov.Br” e no Anexo I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Decreto 44.515/200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( ) outros documentos que, no caso específico, sejam necessários para comprovar a regularidade jurídica do fornec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mprovação, via consulta ao CAFIMP/SIAD, e/ou declaração do contrato, de que não possui impedimento para licitar ou contratar com a Administração Públ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mprovação de que atende às exigências do edital quanto à habilitação juríd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mprovação de que atende às exigências do edital quanto à qualificação téc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Comprovação de que atende às exigências do edital quanto à qualificação econômico – financei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( )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presentação do Certificado de Registro Cadastral – CRC, em substituição da documentação exigida no edital. Nota: se houver documentação com prazo vencido ou exigência de documentação no edital que não consta do CRC, deverá ser apresentada documentação atualizada à par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50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ÃO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0 – Se a empresa for consorciada, verific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Existência de termo de compromisso público ou particular de constituição de consór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Apresentação de documentação de habilitação de cada empresa consorciada, exigida no ato convocató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1 – Se a empresa for estrangei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Existência de documentação de habilitação equivalente, autenticada por consulado e traduzi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radutor juramen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2 - ( ) Convocação do segundo colocado para a adjudicação do objeto, e assim , sucessivamente, entre os classificados, caso não atendidas as exigências de habilit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3 - ( ) Declarado o vencedor, abertura de prazo de três dias úteis para interposição de recurso, ou declaração de que os licitantes participantes desistiram do prazo recur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4- ( ) Em caso de recurso, decisão pela autoridade competente em 5 dias út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5- ( )Nota Jurídica sobre a fase externa do pregão para fins de homologação, revogação ou anulação do procedimento. No caso de parecer favorável à homologação, deve ser analisada a devida adequação do preenchimento do contrato com os dados do licitante venced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6- ( ) Existência de comprovação e justificativa, no caso de revogação por fato superv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7- ( ) Existência de ato fundamentado na anulação do processo, no caso de ileg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8- ( ) Homologação pela autoridade competente,se for o ca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- ( ) Publicação do resultado do pregão no DO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30 - ( ) existência de dotação orçamentária e financeira que garanta as despesas previstas para o exercício corren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31 - ( ) comprovação da regularidade do vencedor do certame no ato da assinatura do contra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32- ( ) existência de contrato assinado (ou documento equivalente), de acordo com os termos da proposta, do edital e de seus anex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3 – ( ) cópia da publicação do extrato do contrato, até 20 (vinte) dias da data de sua assinatu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NEXIGIBILIDADE /DISPEN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TOR SOLICIT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RATA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CESSO Nº ______________________________ DATA: _____/_____/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VALOR R$):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 Abertura de Processo, devidamente numerado, com capa , contendo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Nome do contrat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Descrição do objeto do contra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Numeração e rubrica em todas as folhas do proces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 Solicitação do setor interessado conten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Descrição clara, precisa e detalhada do objeto a ser contrat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Justificativa/motivação da necessidade da contrat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Indicação do inciso do art. 25 da Lei 8.666/93 que justifica a inexigibilidade do proce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icitató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3 ( ) Pedido de abertura de Processo de Despesa e sua autorização pela autoridade compe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 ( ) Termo de referê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5 ( ) Pesquisa de mercado com, no mínimo, 3 (três) cotações de preços feita pelo setor de comp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Tabela com preço de referência, tendo por base o preço médio das três cot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6 Certidão e/ou declaração do ordenador de despesas conten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Informação sobre a existência de disponibilidade orçamentária e financeira para a execução do objeto contrat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7 Proposta do fornecedor/prestador a ser contratado conten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Prazo para a execução do contra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Descrição detalhada do obje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Descrição detalhada preço cobr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 ) Discriminação do valor total mensal e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EXIGIBILIDADE /DISPENS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8 ( ) Minuta do contrato, na hipótese de sua obrigatoriedade, devidamente preenchido nos termos da Lei Federal nº 8.666/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9 ( ) Nota jurídica da Assessoria/Procuradoria Jurídica, dispondo sobre a viabilidade jurídica da inexigilidade de licitação e para aprovação da Minuta do contr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0 Apresentação de Documentação jurídica 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pelo fornecedor a ser contratado que, conforme o caso, consistirá em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CRC – Certificado de Registro Cadastral, emitido pela SEPLAG ou por órgão da Administração devidamente autorizada por Resolução da SEPLG, com prazo de validade vigente, ou, na hipótese de o contratado ainda não ser cadastrado, cópia dos seguintes documento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- Pessoa Natu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édula de identidade do fornecedo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édula do CPF fornecedo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omprovante de resid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-Pessoa Jurídic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ontrato social e suas alterações posteriores ou documento equivalen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Ata da eleição da diretoria, conforme o cas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Inscrição do CNP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Prova de inscrição no cadastro estadual de contribuintes, do respectivo Estado no qual está instalada a pessoa jurídica.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ertidão de regularidade junto à Fazenda Estadual do respectivo Estado no qual está instalada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pessoa jurídic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ertidão de regularidade junto à Fazenda Federa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ertidão de regularidade junto à Fazenda Municipa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Prova de regularidade junto ao FGT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Prova de regularidade junto ao INS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Balanço patrimonial do último exercício ou declaração de imposto renda da pessoa jurídica do ultimo exercício, na forma da le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Certidão negativa de pedido de falência ou recuperação judicial de empresa expedida pelo Distribuidor da sede da empres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Outro documentos que , no caso específico, sejam necessários para comprovar a regularidade jurídica de fornecedo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Outros documentos relativos a qualificação técnica, conforme o cas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( ) Outros documentos relativos a qualificação econômico-financeira, conforme o cas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LIS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EXIGIBILIDADE /DISPENS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 ( ) Documento demonstrando a razão da escolha do fornecedor ou executante (justificativa da inviabilidade de competiçã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2 ( ) Na hipótese de contratação com base no inciso I do art. 25 (fornecedor exclusivo), o atestad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clusividade fornecido pelo Órgão de representação do comercio do local em que se realizaria a licitação ou a obra 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serviço, pelo Sindicato, Federação ou Confederação Patronal, ou ainda, peã entidade equival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3 ( ) Na hipótese de contratação com base no inciso II do art. 25 ( serviços técnico profissio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pecializado) , os documentos hábeis a comprovar a notória especialização do profissional ou d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trat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4 ( ) Termo de garantia do cumprimento, nos casos de contratação dos serviços técnicos profissio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pecializados, na hipótese do art. 13, § 3º da Lei Federal nº 8.666/93 quando aplicá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5 ( ) Parecer da Assessoria Jurídica/Procuradoria dispondo sobre viabilidade jurídica da contratação e conformidade da documentação apresentada com as exigências leg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 ( ) Certificado ou parecer da Auditoria Setorial quanto à conformidade do proc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7 ( ) Reconhecimento do Ato pelo Subsecretário de Inovação e Log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8 ( ) Ratificação do Ato pelo Secretário de Estado de Meio Ambiente e Desenvolvimento Sustent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9 ( ) Extrato da publicação do ato de ratificaçã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5184720" cy="45496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64000" y="1484280"/>
            <a:ext cx="378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Arial"/>
              </a:rPr>
              <a:t>OBRIGADA PELA ATENÇÃO!!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908000" y="55144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il@semad.mg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juridico@semad.mg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Rounded MT Bold"/>
              </a:rPr>
              <a:t>LEGISLAÇÃO PERTIN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Lei 8.666/93 ( lei de Licitaçõ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Lei 10520/2002 ( Preg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Lei 14.167//2002 ( Preg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Decreto 42.408/2002 </a:t>
            </a:r>
            <a:r>
              <a:rPr b="0" lang="pt-BR" sz="2700" spc="-1" strike="noStrike">
                <a:solidFill>
                  <a:srgbClr val="003300"/>
                </a:solidFill>
                <a:latin typeface="Arial Rounded MT Bold"/>
              </a:rPr>
              <a:t>(pregão- nível estadu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Resolução SEMAD 618/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Resolução SEMAD  619/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Arial Rounded MT Bold"/>
              </a:rPr>
              <a:t>Resolução Conjunta 10/2002</a:t>
            </a:r>
            <a:r>
              <a:rPr b="0" lang="en-US" sz="3200" spc="-1" strike="noStrike">
                <a:solidFill>
                  <a:srgbClr val="8e8c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7308720" y="4292640"/>
            <a:ext cx="14400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Rounded MT Bold"/>
              </a:rPr>
              <a:t>JUSTIFIC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31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idade de padronização dos procedimentos: (1) onde ele se inicia; (2) desenvolvimento; (3) conclusão (4) unificação da exigência de documentação (requisitada com base na legislação pertinen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5148360" y="4724280"/>
            <a:ext cx="2881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4572000" y="6237360"/>
            <a:ext cx="720720" cy="29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623736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516720" y="623736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627280" y="6093000"/>
            <a:ext cx="90000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708360" y="6165720"/>
          <a:ext cx="67320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616572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ção necessária para formalização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) Pedido de compra cadastr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ização da hipótese de dispensa ou inexigibilidade de licitação, se for o ca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azão da escolha do fornecedor ou executa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 do preço cobr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ição do ob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azo e valor estimado do contra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tação orçamentá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4572000" y="6237360"/>
            <a:ext cx="720720" cy="29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35640" y="623736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516720" y="623736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627280" y="6093000"/>
            <a:ext cx="90000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708360" y="6165720"/>
          <a:ext cx="67320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616572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ção necessária para formalização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)Comprovação de que não emprega em trabalho noturno, perigoso ou insalubre, menor de 18 anos ou, em qualquer trabalho, menor de 16 anos, salvo na condição de aprendiz, a partir de 14 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)Comprovação de que não possui impedimento para licitar ou contratar com a Adm Pú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)Documentação relativa à regularidade jurídica  e fi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EXIGÊNCIAS BASEADAS NO CHECK- LIST DA AUDITORIA-GERAL DO TRIBUNAL DE CONT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8172360" y="98100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164360" y="836640"/>
          <a:ext cx="67320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4360" y="836640"/>
                    <a:ext cx="6732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Objeto 1" descr=""/>
          <p:cNvPicPr/>
          <p:nvPr/>
        </p:nvPicPr>
        <p:blipFill>
          <a:blip r:embed="rId9"/>
          <a:srcRect l="-2397" t="-8979" r="-1203" b="-2379"/>
          <a:stretch/>
        </p:blipFill>
        <p:spPr>
          <a:xfrm>
            <a:off x="611280" y="333360"/>
            <a:ext cx="5292720" cy="955800"/>
          </a:xfrm>
          <a:prstGeom prst="rect">
            <a:avLst/>
          </a:prstGeom>
          <a:ln w="0">
            <a:noFill/>
          </a:ln>
        </p:spPr>
      </p:pic>
      <p:pic>
        <p:nvPicPr>
          <p:cNvPr id="123" name="Objeto 2" descr=""/>
          <p:cNvPicPr/>
          <p:nvPr/>
        </p:nvPicPr>
        <p:blipFill>
          <a:blip r:embed="rId10"/>
          <a:srcRect l="0" t="-1645" r="-1160" b="-284"/>
          <a:stretch/>
        </p:blipFill>
        <p:spPr>
          <a:xfrm>
            <a:off x="324000" y="1341360"/>
            <a:ext cx="864216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Objeto 3" descr=""/>
          <p:cNvPicPr/>
          <p:nvPr/>
        </p:nvPicPr>
        <p:blipFill>
          <a:blip r:embed="rId11"/>
          <a:srcRect l="-1461" t="0" r="-2549" b="-767"/>
          <a:stretch/>
        </p:blipFill>
        <p:spPr>
          <a:xfrm>
            <a:off x="395280" y="1236600"/>
            <a:ext cx="8424720" cy="78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Objeto 4" descr=""/>
          <p:cNvPicPr/>
          <p:nvPr/>
        </p:nvPicPr>
        <p:blipFill>
          <a:blip r:embed="rId11"/>
          <a:srcRect l="0" t="0" r="0" b="-216"/>
          <a:stretch/>
        </p:blipFill>
        <p:spPr>
          <a:xfrm>
            <a:off x="611280" y="907920"/>
            <a:ext cx="7848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Jamir Calili Ribeiro</cp:lastModifiedBy>
  <dcterms:modified xsi:type="dcterms:W3CDTF">2007-10-19T02:33:01Z</dcterms:modified>
  <cp:revision>20</cp:revision>
  <dc:subject/>
  <dc:title>Slide 1</dc:title>
</cp:coreProperties>
</file>