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camera.wav" ContentType="audio/x-wav"/>
  <Override PartName="/ppt/media/image7.jpeg" ContentType="image/jpeg"/>
  <Override PartName="/ppt/media/image6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9A3-60B9-4B82-B5A7-D0C57C73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B3A-61C2-4908-ABA8-7066D354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B58-EA05-4F78-9716-C31C884D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59D-BD74-4403-BA1A-A85F54A3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0DA-C0F4-472E-BB49-10B73E66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A2D-F52C-4DA8-AC25-7D8F9A2E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01A-D971-4A01-8CA2-EF395175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197-0B63-4296-9E01-43C3ADEF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9F1-BA57-4EAB-81D3-85C20C78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EF1-C46F-46B6-A033-FE50F02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43B-A816-4C51-9B6B-7BACE887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EDC-48EE-4BDB-88B9-F85E8CBD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AE98-5512-40FC-8CF4-7C3DF8B2EE1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D16A-BD2A-490D-9DFB-9FDF9DCDE4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D065-2F85-42F8-B2A7-3CF92E711368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0B88-5005-441D-B15D-C79136DD8BFE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925040" cy="2590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Times New Roman"/>
              </a:rPr>
              <a:t>CONTABILIDADE</a:t>
            </a:r>
            <a:br>
              <a:rPr sz="5400"/>
            </a:br>
            <a:r>
              <a:rPr b="1" lang="pt-BR" sz="5400" spc="-1" strike="noStrike">
                <a:solidFill>
                  <a:srgbClr val="ffffff"/>
                </a:solidFill>
                <a:latin typeface="Times New Roman"/>
              </a:rPr>
              <a:t>PÚBLICA</a:t>
            </a:r>
            <a:br>
              <a:rPr sz="4800"/>
            </a:b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Nilson Eustaquio de Sou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96C-585A-4EA1-A4CE-447CEF4055B6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99F-C268-4291-9337-8C27E67643F2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 QUEM SE APLICA A CONTABILIDADE GOVERNAMENT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620120" cy="46479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ESSOAS JURÍDICAS DE DIREITO PÚBLIC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UNI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ES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ISTRITO FED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MUNICÍP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28B4-F4E4-4129-B989-414514E34F5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307D-6EB3-4336-957C-6F9B9E263086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 QUEM SE APLICA A CONTABILIDADE GOVERNAMENT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620120" cy="40384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EST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ECRE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ÓRGÃOS AUTONÔ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UTARQU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FUND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FUNDOS ESTADU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993366"/>
                </a:solidFill>
                <a:latin typeface="Times New Roman"/>
              </a:rPr>
              <a:t>INFORMAÇÕES FORNECEDIDAS PELA CONTABILIDADE PÚBL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GANIZAÇÃO E EXECUÇÃO DOS ORÇAMEN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ADAS DE RECE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LICAÇÃO DOS RECURSOS PÚBLICOS (DESPE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ISTRO, CONTROLE E TRANSPARÊNCIA DO PATRIMÔNIO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3B6-D3D0-4208-9E84-41C2FC42A9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80DC8-6559-44B1-826F-1D4BFAA89C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ff"/>
                </a:solidFill>
                <a:latin typeface="Times New Roman"/>
              </a:rPr>
              <a:t>RESPONSABILIDADE  NA ADMINISTRAÇÃO PÚBL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MPRE QUE ALGUÉM DELEGA PARTE DO SEU PODER OU DIREITOS A OUTREM, ESTE ASSUME A RESPONSABILIDADE DE EM NOME DAQUELE AGIR DE FORMA ÉTICA E CORRETA E PERIODICAMENTE PRESTAR CONTAS DE SEUS RESULTADOS E DESEMPEN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2D8-5A2C-4DB4-AD90-B31B72F40C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3246B-4F66-4641-B191-3A6395DFDA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RESTAR CONTAS             DE QU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25040" cy="4114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A ORIGEM E APLICAÇÃO DOS RECURSOS PÚBLICO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OS RESULTADOS OBTIDOS PELA GESTÃO GOVERNA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A EVOLUÇÃO DO PATRIMÔNI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FFB-176A-4A1D-878F-15A3970174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A0D60-16D3-4A60-8F53-7C2984756B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1905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ESTAR CONTAS A QUEM? QUAN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10480" cy="3504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AOS “ACIONISTAS” DA ADMINISTRAÇÃO PÚBLICA (SOCIEDA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MENSAL, BIMESTRAL, QUADRIMESTRAL, AN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A13-2F09-44E3-BE3B-D2C29EED78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695BC-7EE3-4390-AC42-79EC9E2237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BILIDADE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029200" cy="3810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ORÇAMENT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FINANC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ATRIMO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MPENS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(interdependentes entre 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48360" y="2154960"/>
            <a:ext cx="1839600" cy="2779200"/>
            <a:chOff x="6048360" y="2154960"/>
            <a:chExt cx="1839600" cy="2779200"/>
          </a:xfrm>
        </p:grpSpPr>
        <p:sp>
          <p:nvSpPr>
            <p:cNvPr id="84" name="_s22534"/>
            <p:cNvSpPr/>
            <p:nvPr/>
          </p:nvSpPr>
          <p:spPr>
            <a:xfrm>
              <a:off x="6555600" y="2517480"/>
              <a:ext cx="825840" cy="103680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22535"/>
            <p:cNvSpPr/>
            <p:nvPr/>
          </p:nvSpPr>
          <p:spPr>
            <a:xfrm>
              <a:off x="6859080" y="2154960"/>
              <a:ext cx="2192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_s22536"/>
            <p:cNvSpPr/>
            <p:nvPr/>
          </p:nvSpPr>
          <p:spPr>
            <a:xfrm>
              <a:off x="6827040" y="3107160"/>
              <a:ext cx="826200" cy="103680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22537"/>
            <p:cNvSpPr/>
            <p:nvPr/>
          </p:nvSpPr>
          <p:spPr>
            <a:xfrm>
              <a:off x="7668720" y="3936600"/>
              <a:ext cx="2192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_s22538"/>
            <p:cNvSpPr/>
            <p:nvPr/>
          </p:nvSpPr>
          <p:spPr>
            <a:xfrm>
              <a:off x="6284160" y="3108240"/>
              <a:ext cx="825840" cy="103716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2539"/>
            <p:cNvSpPr/>
            <p:nvPr/>
          </p:nvSpPr>
          <p:spPr>
            <a:xfrm>
              <a:off x="6048360" y="3936600"/>
              <a:ext cx="2192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1032"/>
            <p:cNvSpPr/>
            <p:nvPr/>
          </p:nvSpPr>
          <p:spPr>
            <a:xfrm>
              <a:off x="6614640" y="4046400"/>
              <a:ext cx="840600" cy="8877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44D-20C8-4369-8E8A-E5F8FB356E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5B4DB-BA4E-4823-99D0-3C815D95B8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2590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a correta evidenciação do Patrimôn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tilizamos de Contas Contábeis – que é a representação dos elementos Patrimoniais – apresentadas de forma ordenada 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NO DE CO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BILIDADE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879-0A99-45F5-ABA7-2AEF182047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9F941-13CA-4823-864E-74B1C8DCE7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 determinação da LRF, o Órgão Central de Contabilidade deverá consolidar as Contas nacionais, razão pela qual se torna necessário a padronização da codificação das Classificações de Receita e Despesa e do  Plano de Co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ualmente a classificação  de Receita e Despesa está padronizada e a partir de 2006 teremos a adoção do Plano de Contas Único da Administração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BILIDADE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A80-29B0-40C8-8FE8-925E2C0F3A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3D68C-C50F-4541-98C5-E2886D04CF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160" y="2590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partir do PLANO DE CONTAS podemos definir e codificar todos os atos e fatos que venham a afetar o Patrimônio em lançamentos pré definidos e codificados em 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BELA DE EV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BILIDADE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6C4-CD31-46F4-A613-D9A06E39EA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78667-DB5A-4A69-AFB6-244647B756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Times New Roman"/>
              </a:rPr>
              <a:t>CONTABILID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00"/>
                </a:solidFill>
                <a:latin typeface="Times New Roman"/>
              </a:rPr>
              <a:t>CIÊNCIA CONCEBIDA PARA CAPTAR, REGISTRAR, ACUMULAR, RESUMIR E INTERPRETAR OS FENÔMENOS QUE AFETAM AS SITUAÇÕES PATRIMONIAIS DE QUALQUER ENTE, SEJA PESSOA FÍSICA OU JURÍDIC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DB0-773E-40A1-811F-BA5DDE0808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F8ACC-52F6-465A-84DD-26E08E77C3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160" y="2590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padronização dos lançamentos possibilita a uniformização das informações contábeis permitindo a comparabilidade dos dados produzidos pelas diversas unidades execut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BILIDADE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D18-B66F-4D52-8EE3-328A00396BB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88B8C-7A7F-49AE-95C2-821CC52391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2590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ra vantagem na padronização é o ganho de qualidade nas informações visto que os profissionais contábeis passam a dispor de maior tempo para analise e certificação dos regis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CONTABILIDADE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4C8-54C0-45A0-B4A9-685748949B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26078-39B3-4EE4-8EE7-414F54FD37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AS CONSTANTES MUDANÇAS NA ADMINISTRAÇÃO PÚBLICA, ATUALMENTE, VEM EXIGIR DOS PROFISSIONAIS DA CONTABILIDADE UMA ATUAÇÃO MAIS GERENCIAL AUXILIANDO A ALTA ADMINISTRAÇÃO</a:t>
            </a: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NA TOMADA DE DECISÕES, COM BASE NOS DADOS DA CONTABILIDADE</a:t>
            </a: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E para isso temos que t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D33-4928-42B8-BC31-04D131417A7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86C66-98A4-4AA0-9CB0-AECA925DFBF5}" type="datetime1">
              <a:rPr lang="en-US"/>
              <a:t>07/29/26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01000" cy="55623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 u="sng">
                <a:solidFill>
                  <a:srgbClr val="000000"/>
                </a:solidFill>
                <a:uFillTx/>
                <a:latin typeface="Times New Roman"/>
              </a:rPr>
              <a:t>ÉTICA,</a:t>
            </a: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 PROFISSIONALISMO, CONHECIMENTO, DINAMISMO, </a:t>
            </a: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 INTEGRIDADE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APERFEIÇOAMENTO CONSTAN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898-39E5-4A2A-AA7B-5BEF950728D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41F9D-52B4-47ED-96B3-2C12EC86F7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8451720" y="1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572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O que é preciso na área pública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FORMAR CONTABILISTAS EFICIENTES QUE CONTRIBUAM DE FORMA POSITIVA PARA A SOCIEDADE A QUAL PERTENCE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22A-9705-4591-9B67-4D9E7A909F28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059FF-AE1F-4BEA-9FA3-DE1F5B360199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8451720" y="1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572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ara isso torna-se necessário investir não só na formação acadêmica como também procurar o aperfeiçoamento em cursos de capacitação técnica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F7D-D6ED-42DC-A3C0-84A3B869421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CA8C2-E6EB-4DD1-AF70-F6F67018F31B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8451720" y="1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05740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Capacitar o profissional não é </a:t>
            </a:r>
            <a:r>
              <a:rPr b="1" lang="pt-BR" sz="4000" spc="-1" strike="noStrike">
                <a:solidFill>
                  <a:srgbClr val="ff0000"/>
                </a:solidFill>
                <a:latin typeface="Times New Roman"/>
              </a:rPr>
              <a:t>DESPESA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imes New Roman"/>
              </a:rPr>
              <a:t>É INVESTIMENTO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..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631-728C-4C1F-B9EA-ABBEB65B46FE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F2875-4245-4451-AE07-3316B0F27088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a área pública observamos: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Falta de carreira específica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 baixa remuneração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 ausência de treinament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-segregação de fun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9A2-6A38-4698-B934-9A38D9DC9061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26ABF-BDFC-462A-A31A-1905343BA7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GREGAÇÃO DE FUNÇÃ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uitas vezes temos um único profissional responsável por todos os processos na Unidade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executa=&gt; registra=&gt; controla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00C-21FE-4FE3-A469-EF7E2B09B4B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5F3E2-7A9D-415E-9D78-47FD214CA8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m muitas Unidades não temos o profissional da Contabilidade.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1" lang="pt-BR" sz="4400" spc="-1" strike="noStrike">
                <a:solidFill>
                  <a:srgbClr val="ff0000"/>
                </a:solidFill>
                <a:latin typeface="Times New Roman"/>
              </a:rPr>
              <a:t>“problemas”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encontrados na contabilidade decorre da falta de conhecimento da Execução Orçamentária e Financ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3F0-3636-4FFD-9558-3CCDED09E1D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3739D-A8E0-45D0-AD20-407F42C20D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uma Ciência, tem em seus Princípios a essência de suas doutrinas e teorias, consoante o entendimento predominante nos universos científico e profission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ncípios fundamentais da Contabilid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idade – Continuidade – Oportunidade – Registro pelo valor original – Competência – Prud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Times New Roman"/>
              </a:rPr>
              <a:t>CONTABILID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88C-1DCD-4D5C-B79F-F2EA431A90F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E37C2-4B62-4B96-9314-8B42C2ABDC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 “Contabilidade”  muitas vezes é  considerada como a causadora dos entraves à execução orçamentária.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(a contabilidade não deixa registrar...)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Na verdade ela reflete os erros do dia a 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2A5-0604-4CBC-998F-89C4223BBD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44581-662C-4F29-AF97-88B50B0BC7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Contador na maior parte do tempo de seu trabalho está envolvido em solucionar ou apresentar solução para todos os problemas do dia a dia da Unid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FDF-5802-4803-994E-0A96E94CE2CF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AE301-EFDE-4816-9CE2-B0697C1C90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Raramente é apresentado um problema estritamente de ordem contábi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369-1B02-43BE-AD05-1789405A1313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7A905-B0A4-47C0-90E1-B36B0E840E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Por essa razão o Contador não dedica seu tempo na qualificação da informação contábi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01F-A871-4473-BD56-03BE1C30BF05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764D4-FB7D-462A-8FE6-E7D0F865F9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A certificação contábil fica prejudicada. </a:t>
            </a:r>
            <a:br>
              <a:rPr sz="6000"/>
            </a:b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Mas o que é essa certificaçã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8FA-B2C9-4127-AC89-24BF436E20D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FCC03-17A9-40AA-BA4D-4E0C15135B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6858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ERTIFICAÇÃO CONTABIL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828800"/>
            <a:ext cx="80773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Necessária para que as demonstrações Contábeis possam refletir com exatidão a situação Patrimonial da Entidade  gerando confiança e transparência na gestã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D9D-A731-4291-B0A9-6DBEBF6753C1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97A71-31BF-44FE-BA5E-6D712DEFD6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6858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ERTIFICAÇÃO CONTABIL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828800"/>
            <a:ext cx="807732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Uma informação ou demonstrativo contábil não certificado pode levar a uma decisão errada ou intepestiv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</a:rPr>
              <a:t>.......e isso gera responsabilida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F1C-ADD9-4987-A5A8-345B2FC2F343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F3D98-4357-4494-8DCA-217611EEEB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6858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imes New Roman"/>
              </a:rPr>
              <a:t>IMPORTANTE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28800"/>
            <a:ext cx="80773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uma organização TODAS AS UNIDADES devem trabalhar em CONJUNTO, cada uma se RESPONSABILIZANDO POR SUA ÁREA DE ATUA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um ciclo....cada etapa do processo tem reflexo em outra área ...culminando com  o REGISTRO CONTÁB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EED-AA81-44AF-A181-3D0E6487DB54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AB8CE-F5A9-43A0-881D-DF56509B27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6858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imes New Roman"/>
              </a:rPr>
              <a:t>IMPORTANTE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096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Exemplo.....quando no Balancete Mensal apuramos o saldo da Dívida Flutuante (dívida a curto prazo) temos que ter certeza de sua exatidão ....lastreada pelos documentos que a originaram .....sob a guarda do setor Financei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364-7EB8-4C45-A586-4D5716B39C8C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D7602-651A-4FE3-9A8B-98B6970A51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6858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imes New Roman"/>
              </a:rPr>
              <a:t>IMPORTANTE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09680"/>
            <a:ext cx="84582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o mesmo modo que o saldo da conta contábil Estoque em Geral deve guardar consonância com o saldo físico em estoque no Almoxarifa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.......e é assim com todos os elementos patrimonais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C44-3C5A-4424-9E5B-11914252405E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16E9C-A205-4CCD-A1D9-CAE2E2795A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IDADE: Toda e qualquer pessoa física ou jurídica que possua um Patrimô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INUIDADE: Determina o período de vida da Entidade, para se poder definir com exatidão o valor econômico de seu patrimô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PORTUNIDADE: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gistro tempestivo e oportuno de todas as mutações do patrimônio, mesmo que não se tenha certeza absoluta da ocorrência do 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Times New Roman"/>
              </a:rPr>
              <a:t>PRINCÍP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F82-2FA7-4559-8098-D508912F9D6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95A01-A93A-4F1D-9137-FA2C1FEDCC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096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omo podemos aferir, as informações contábeis não são de inteira responsabilidade do Contador....são compartilhadas e certificadas por todos os seto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Times New Roman"/>
              </a:rPr>
              <a:t>COMPARTILHAR RESPONS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901-8AD1-47FE-BF02-349D949FCC26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C4334-205A-4B21-81EB-86F283A2B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6858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imes New Roman"/>
              </a:rPr>
              <a:t>CONTABILID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09680"/>
            <a:ext cx="8458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GUARDIÃ DO PATRIMÔ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B80-4694-48D1-B622-A14C07EC8CE8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923E1-C924-45D3-B7E8-F154A1331F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486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4400" spc="-1" strike="noStrike">
                <a:solidFill>
                  <a:srgbClr val="ffffff"/>
                </a:solidFill>
                <a:latin typeface="Times New Roman"/>
              </a:rPr>
              <a:t>ACHO QUE A CONTABILIDADE NO BRASIL TEM UM GRANDE SERVIÇO A PRESTAR AO PAÍS</a:t>
            </a:r>
            <a:r>
              <a:rPr b="1" lang="pt-BR" sz="4400" spc="-1" strike="noStrike">
                <a:solidFill>
                  <a:srgbClr val="ffffcc"/>
                </a:solidFill>
                <a:latin typeface="Times New Roman"/>
              </a:rPr>
              <a:t>”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José de Alencar</a:t>
            </a:r>
            <a:br>
              <a:rPr sz="4400"/>
            </a:b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Vice-presidente da Re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A67-D163-4460-ADC7-91CD45D910E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3C1CA-E824-43B9-AD0D-C624A97599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0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Nilson Eustaquio de Sou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Nilson.souza@fazenda.mg.gov.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imes New Roman"/>
              </a:rPr>
              <a:t>Tel.: 3217-6208 – 9756.91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EEC-CED7-43A2-8764-7D90C33AB6AD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2045B-A383-4B34-9FF0-F1B1140251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GISTRO PELO VALOR ORIGINAL: Elementos Patrimoniais registrados sempre por seus valores originais e em moeda corrente do paí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ETÊNCIA: Receitas e Despesas reconhecidas nos exercícios de sua ocorrência, independente de recebimento ou pag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UDÊNCIA: Menor valor para Ativos e maior valor para Passivos. Menor Patrimônio Líquido entre as alternativas apresent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Times New Roman"/>
              </a:rPr>
              <a:t>PRINCÍP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9A8-7DE8-4DED-B024-C910356545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92AA3-75EC-4075-9A0F-15FF07158D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imes New Roman"/>
              </a:rPr>
              <a:t>Conjunto de Bens, Direitos e Obrigações avaliáveis em moeda corr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 definição temos a seguinte equ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724280"/>
            <a:ext cx="6629400" cy="95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imes New Roman"/>
              </a:rPr>
              <a:t>BENS + DIREIT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OBRIGAÇÕ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TRIMÔNIO LÍ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Times New Roman"/>
              </a:rPr>
              <a:t>PATRIMÔN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ADC-9479-4A90-A686-E9107036F18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CC12C-5079-4BC4-8E87-1F0B8E0CD9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14400" y="1644480"/>
          <a:ext cx="7620120" cy="42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44480"/>
                    <a:ext cx="762012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62120" y="228600"/>
            <a:ext cx="7772400" cy="68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cc"/>
                </a:solidFill>
                <a:latin typeface="Times New Roman"/>
              </a:rPr>
              <a:t>PATRIMÔN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588-2105-4940-A994-FF7E3D1126D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45835-F267-4E35-9B8D-4222B87A19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3000" spc="-1" strike="noStrike">
                <a:solidFill>
                  <a:srgbClr val="3333cc"/>
                </a:solidFill>
                <a:latin typeface="Times New Roman"/>
              </a:rPr>
              <a:t>RAMO DA CONTABILIDADE DEDICADO AO ESTUDO, REGISTRO, CONTROLE, ANÁLISE E EVIDENCIAÇÃO DOS ATOS E FATOS  QUE OCORREM NA ADMINISTRAÇÃO PÚBLICA E QUE AFETAM O PATRIMÔNIO DE SUAS ENTIDADES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CONTABILIDADE GOVERNAM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BAE-E6C9-458E-A5FE-2FF0024A316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D49C8-9962-4E05-A5E3-64BF1F3629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3352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- LEI FEDERAL 4.320/6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- LEI COMPLEMENTAR 101/2000 (LRF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(ÊNFASE NA GESTÃO RESPONSÁVEL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- LEGISLAÇÕES COMPLEMENTARES DA ST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- LEGISLAÇÕES ESTADUA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CONTABILIDADE GOVERNAM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E3C-20F4-403B-8849-3A7FC4131A7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BF89F-F293-4160-A020-CF07269D40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f</cp:lastModifiedBy>
  <dcterms:modified xsi:type="dcterms:W3CDTF">2007-10-04T12:42:56Z</dcterms:modified>
  <cp:revision>80</cp:revision>
  <dc:subject/>
  <dc:title>PowerPoint Presentation</dc:title>
</cp:coreProperties>
</file>